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B538A47-947B-43A0-99AC-C8F6B4223692}"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85F3D349-292E-4086-A466-FD8D5D5B0B2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D1F4265-F1D7-4DCB-A220-2AD4C0B24ED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6" name="PlaceHolder 1"/>
          <p:cNvSpPr>
            <a:spLocks noGrp="1"/>
          </p:cNvSpPr>
          <p:nvPr>
            <p:ph type="sldImg"/>
          </p:nvPr>
        </p:nvSpPr>
        <p:spPr>
          <a:xfrm>
            <a:off x="1257480" y="719280"/>
            <a:ext cx="4800600" cy="3600360"/>
          </a:xfrm>
          <a:prstGeom prst="rect">
            <a:avLst/>
          </a:prstGeom>
          <a:ln w="0">
            <a:noFill/>
          </a:ln>
        </p:spPr>
      </p:sp>
      <p:sp>
        <p:nvSpPr>
          <p:cNvPr id="28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C140869-4D8E-408C-8F98-553E3967252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A201899-C219-4E3E-95E4-4023F538674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4" name="PlaceHolder 1"/>
          <p:cNvSpPr>
            <a:spLocks noGrp="1"/>
          </p:cNvSpPr>
          <p:nvPr>
            <p:ph type="sldImg"/>
          </p:nvPr>
        </p:nvSpPr>
        <p:spPr>
          <a:xfrm>
            <a:off x="1257480" y="719280"/>
            <a:ext cx="4800600" cy="3600360"/>
          </a:xfrm>
          <a:prstGeom prst="rect">
            <a:avLst/>
          </a:prstGeom>
          <a:ln w="0">
            <a:noFill/>
          </a:ln>
        </p:spPr>
      </p:sp>
      <p:sp>
        <p:nvSpPr>
          <p:cNvPr id="29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7D1A4BF-04AB-4E12-9C21-E24FF003D27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8" name="PlaceHolder 1"/>
          <p:cNvSpPr>
            <a:spLocks noGrp="1"/>
          </p:cNvSpPr>
          <p:nvPr>
            <p:ph type="sldImg"/>
          </p:nvPr>
        </p:nvSpPr>
        <p:spPr>
          <a:xfrm>
            <a:off x="1257480" y="719280"/>
            <a:ext cx="4800600" cy="3600360"/>
          </a:xfrm>
          <a:prstGeom prst="rect">
            <a:avLst/>
          </a:prstGeom>
          <a:ln w="0">
            <a:noFill/>
          </a:ln>
        </p:spPr>
      </p:sp>
      <p:sp>
        <p:nvSpPr>
          <p:cNvPr id="29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3869D3-329A-47F7-ADED-A7773ED68B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1E5ACE-1271-49B3-A988-DD56A881EC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2E2435-1DC5-4834-9298-97D8F50033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224213-AF4C-4526-880C-7C0A6F0822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B35364-221B-44CA-AB3A-6F5F7DE430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264604-2D4D-4BD3-A990-D90F337ADF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212A59-051B-41B3-AE54-90508D5208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C47388-86B2-4AFA-9221-88B87712F3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B058F1-D625-4BC7-84DA-FA7D7197EF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CC1681-52AE-498C-B2F9-A622890AE9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43079F-1DEA-425B-82A0-F596745288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8D3036-E844-4E00-AE20-3D398038DC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738F0BE-2428-47EE-98AD-A2A56A9C0C6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822D100-47DB-4F85-9764-B25A1DF4F57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6B91D85-E635-4D7F-B668-1F0656887B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A02A213-19FA-468F-A351-772A2DE28AB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91B4664-3173-4E3F-AF46-F83DE1EE1F3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61087E7-10E5-425E-B46F-FCF1915215D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6D63519-5B81-467A-AFA3-A5BC442CA4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4"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A33784A-3B26-43A0-887F-D1D64F4695E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abréviations « s. » et « ca » </a:t>
            </a:r>
            <a:r>
              <a:rPr b="0" lang="en-US"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 » devient « </a:t>
            </a:r>
            <a:r>
              <a:rPr b="0" lang="en-US" sz="2400" spc="-1" strike="noStrike">
                <a:solidFill>
                  <a:srgbClr val="008093"/>
                </a:solidFill>
                <a:latin typeface="Arial"/>
              </a:rPr>
              <a:t>siècle</a:t>
            </a:r>
            <a:r>
              <a:rPr b="0" lang="en-US"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93"/>
                </a:solidFill>
                <a:latin typeface="Arial"/>
              </a:rPr>
              <a:t>environ</a:t>
            </a:r>
            <a:r>
              <a:rPr b="0" lang="en-US"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Mais</a:t>
            </a:r>
            <a:r>
              <a:rPr b="0" lang="en-US"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ériode d’activité de la personne : « </a:t>
            </a:r>
            <a:r>
              <a:rPr b="0" lang="en-US" sz="2400" spc="-1" strike="noStrike">
                <a:solidFill>
                  <a:srgbClr val="008093"/>
                </a:solidFill>
                <a:latin typeface="Arial"/>
              </a:rPr>
              <a:t>activité</a:t>
            </a:r>
            <a:r>
              <a:rPr b="0" lang="en-US"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10DE68B-886E-4F46-BE55-D4919F02919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4A33244-2FB6-405E-B5D7-3DFBC492801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7"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partie du nom qui n’est pas incluse dans la forme choisie comme nom privilégié (</a:t>
            </a:r>
            <a:r>
              <a:rPr b="0" lang="en-US" sz="2400" spc="-1" strike="noStrike">
                <a:solidFill>
                  <a:srgbClr val="008093"/>
                </a:solidFill>
                <a:latin typeface="Arial"/>
              </a:rPr>
              <a:t>changement de RCAA2</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olitique LC</a:t>
            </a:r>
            <a:r>
              <a:rPr b="0" lang="en-US"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en-US" sz="2400" spc="-1" strike="noStrike">
                <a:solidFill>
                  <a:srgbClr val="008093"/>
                </a:solidFill>
                <a:latin typeface="Arial"/>
              </a:rPr>
              <a:t>LC-PCC PS 9.19.1.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8"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BC0930A-165A-4AFD-A946-A6E13E5C484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3407696-C6C1-4336-9E75-0441F460AA3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123"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2C20A0F-4090-4268-A21E-39783B50DF3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4973D4B-6158-4BA9-AB65-63AC31F782F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personnes : </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4: Profession</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5: Sexe de la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8: Forme développée du nom de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de l’information biographique*</a:t>
            </a:r>
            <a:endParaRPr b="0" lang="en-US" sz="2400" spc="-1" strike="noStrike">
              <a:solidFill>
                <a:srgbClr val="000000"/>
              </a:solidFill>
              <a:latin typeface="Arial"/>
            </a:endParaRPr>
          </a:p>
        </p:txBody>
      </p:sp>
      <p:sp>
        <p:nvSpPr>
          <p:cNvPr id="132" name="TextBox 4"/>
          <p:cNvSpPr/>
          <p:nvPr/>
        </p:nvSpPr>
        <p:spPr>
          <a:xfrm>
            <a:off x="615960" y="6058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0DEBC68-A281-4577-B46A-9FA5F09A334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36"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24F9F89-C3AC-4FCA-BBFC-F0132768C4E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et rôle de la </a:t>
            </a:r>
            <a:br>
              <a:rPr sz="2800"/>
            </a:br>
            <a:r>
              <a:rPr b="1" lang="en-US" sz="2800" spc="-1" strike="noStrike">
                <a:solidFill>
                  <a:srgbClr val="ffffff"/>
                </a:solidFill>
                <a:latin typeface="Arial"/>
              </a:rPr>
              <a:t>« famille »</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pour les archives, les musées, les collections spéciales, les bulletins de généalogie, les revues d’associations de famill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EC996B4-DDAC-4EE5-B5E7-7A39378C76E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hapitre 10 s’applique à des entités de famille </a:t>
            </a:r>
            <a:r>
              <a:rPr b="0" lang="en-US"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r la politique d’indexation actuelle pour les regroupements </a:t>
            </a:r>
            <a:r>
              <a:rPr b="0" lang="en-US" sz="2800" spc="-1" strike="noStrike">
                <a:solidFill>
                  <a:srgbClr val="008093"/>
                </a:solidFill>
                <a:latin typeface="Arial"/>
              </a:rPr>
              <a:t>généraux</a:t>
            </a:r>
            <a:r>
              <a:rPr b="0" lang="en-US"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B230C5D-D87F-4DD4-85C5-6898FE9D440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1"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2"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977585F-95A3-446D-AE2A-1F125443802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a:t>
            </a:r>
            <a:r>
              <a:rPr b="0" lang="en-US"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associée </a:t>
            </a:r>
            <a:r>
              <a:rPr b="0" lang="en-US" sz="2400" spc="-1" strike="noStrike">
                <a:solidFill>
                  <a:srgbClr val="008093"/>
                </a:solidFill>
                <a:latin typeface="Arial"/>
              </a:rPr>
              <a:t>(RDA 10.4)</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a:t>
            </a:r>
            <a:r>
              <a:rPr b="0" lang="en-US" sz="2400" spc="-1" strike="noStrike">
                <a:solidFill>
                  <a:srgbClr val="008093"/>
                </a:solidFill>
                <a:latin typeface="Arial"/>
              </a:rPr>
              <a:t> (RDA 10.5) </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re illustre de la famille </a:t>
            </a:r>
            <a:r>
              <a:rPr b="0" lang="en-US" sz="2400" spc="-1" strike="noStrike">
                <a:solidFill>
                  <a:srgbClr val="008093"/>
                </a:solidFill>
                <a:latin typeface="Arial"/>
              </a:rPr>
              <a:t>(RDA 10.6)</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i nécessaire pour distinguer </a:t>
            </a:r>
            <a:r>
              <a:rPr b="0" i="1" lang="en-US" sz="2800" spc="-1" strike="noStrike">
                <a:solidFill>
                  <a:srgbClr val="000000"/>
                </a:solidFill>
                <a:latin typeface="Arial"/>
              </a:rPr>
              <a:t>ou</a:t>
            </a:r>
            <a:r>
              <a:rPr b="0" lang="en-US"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46C92E9-1BE4-4503-84B8-CC028558AAA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hoix du catalogueur</a:t>
            </a:r>
            <a:r>
              <a:rPr b="0" lang="en-US" sz="2400" spc="-1" strike="noStrike">
                <a:solidFill>
                  <a:srgbClr val="000000"/>
                </a:solidFill>
                <a:latin typeface="Arial"/>
              </a:rPr>
              <a:t>, par exemple : « Famille », </a:t>
            </a:r>
            <a:br>
              <a:rPr sz="2400"/>
            </a:br>
            <a:r>
              <a:rPr b="0" lang="en-US"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1"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2"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EDEA5AB-8157-4246-B0B8-BAF6900FA14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Identification des famill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453EB1A-4CDE-4505-BA17-BBF89B943AD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e-9e sièc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iècle » n’est plus abrégé !</a:t>
            </a:r>
            <a:endParaRPr b="0" lang="en-US" sz="2400" spc="-1" strike="noStrike">
              <a:solidFill>
                <a:srgbClr val="000000"/>
              </a:solidFill>
              <a:latin typeface="Arial"/>
            </a:endParaRPr>
          </a:p>
        </p:txBody>
      </p:sp>
      <p:sp>
        <p:nvSpPr>
          <p:cNvPr id="167"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8"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A66315B-0A03-4032-8398-97E5F627E57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3"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4"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 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08AABA3-034F-464B-90AC-45F5D43F6EB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79"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0"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3# $a Trudeau (Famille : $g </a:t>
            </a:r>
            <a:r>
              <a:rPr b="1" lang="en-US" sz="2400" spc="-1" strike="noStrike">
                <a:solidFill>
                  <a:srgbClr val="008093"/>
                </a:solidFill>
                <a:latin typeface="Courier New"/>
              </a:rPr>
              <a:t>Trudeau, Pierre Elliott, 1919-2000</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1562DC8-D9B4-4C19-93AA-C7101A2C533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familles:</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6 : Dates spéciales cod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0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6 : Renseignements sur la famil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8 : peut inclure l’historique de la famille</a:t>
            </a:r>
            <a:endParaRPr b="0" lang="en-US" sz="28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nouvelles zon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E444633-CF74-4143-84A2-3FA618B3B1A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88"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65DC382-2B92-4E58-AE32-DBF6F702181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8DF201F-F83F-47A2-98BA-20CB9609EE3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D543552-14B2-4F1D-A636-F2665010569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CF64765-221A-4F8F-B233-454C2306442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5"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1FD850B-91FB-4025-A20D-781A6A81AC9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5A84738-A3C1-4D3A-9FFC-F0731797EC6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C7FA802-F223-42AB-B950-1E2DCB87B62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C5BBC05-615A-4F4A-953C-663865BF2FC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A23FE08-2F09-44B1-9989-2E135F63F1C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2"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3"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B1DA87B-EDBF-47D2-9E9C-DF4D17FADAD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27"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congrès, etc., si le nom de l’institution fournit </a:t>
            </a:r>
            <a:r>
              <a:rPr b="0" lang="en-US" sz="2400" spc="-1" strike="noStrike">
                <a:solidFill>
                  <a:srgbClr val="008093"/>
                </a:solidFill>
                <a:latin typeface="Arial"/>
              </a:rPr>
              <a:t>une meilleure identification</a:t>
            </a:r>
            <a:r>
              <a:rPr b="0" lang="en-US"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férer l’ajout d’une institution à l’ajout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a forme et la langue enregistrées comme nom privilégié de l’institution (</a:t>
            </a:r>
            <a:r>
              <a:rPr b="0" lang="en-US" sz="2800" spc="-1" strike="noStrike" u="sng">
                <a:solidFill>
                  <a:srgbClr val="008093"/>
                </a:solidFill>
                <a:uFillTx/>
                <a:latin typeface="Arial"/>
              </a:rPr>
              <a:t>non pas</a:t>
            </a:r>
            <a:r>
              <a:rPr b="0" lang="en-US"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E0FD46E-0C20-4A8A-8774-53B78A9377F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age MARC21 pour l’institution associée</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Congrès</a:t>
            </a:r>
            <a:r>
              <a:rPr b="0" lang="en-US"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Autres collectivités</a:t>
            </a:r>
            <a:r>
              <a:rPr b="0" lang="en-US"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2"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3"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4"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5"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19BD4F3-8FE4-4C74-8DCE-88DBD6250A9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fondation (RDA 11.4.3)</a:t>
            </a:r>
            <a:br>
              <a:rPr sz="2800"/>
            </a:br>
            <a:r>
              <a:rPr b="1" lang="en-US"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a date </a:t>
            </a:r>
            <a:r>
              <a:rPr b="0" lang="en-US" sz="2800" spc="-1" strike="noStrike">
                <a:solidFill>
                  <a:srgbClr val="008093"/>
                </a:solidFill>
                <a:latin typeface="Arial"/>
              </a:rPr>
              <a:t>si nécessaire</a:t>
            </a:r>
            <a:r>
              <a:rPr b="0" lang="en-US"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1"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95B2943-E1CF-42E6-B722-C3F2082D6AD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es collectivités dont le nom </a:t>
            </a:r>
            <a:r>
              <a:rPr b="0" lang="en-US" sz="2000" spc="-1" strike="noStrike">
                <a:solidFill>
                  <a:srgbClr val="008093"/>
                </a:solidFill>
                <a:latin typeface="Arial"/>
              </a:rPr>
              <a:t>n’évoque pas</a:t>
            </a:r>
            <a:r>
              <a:rPr b="0" lang="en-US"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si nécessaire</a:t>
            </a:r>
            <a:r>
              <a:rPr b="0" lang="en-US"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46"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Tragically Hip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7"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377C241-342D-40C7-933C-1F95D4FAFCB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45B93A1-1099-471B-9773-47D603D2246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collectivités : zones MARC21</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56"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4A3C417-9E68-4275-902A-27A24B32173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A1213DB-FA52-4DF4-8281-E3B72D38DED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176639D-4EF9-45D4-8723-3D749D8AAAE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501DA9D-716D-4661-AFCB-34419953387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noms</a:t>
            </a:r>
            <a:r>
              <a:rPr b="0" lang="en-US"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enregistrer les lieux </a:t>
            </a:r>
            <a:r>
              <a:rPr b="0" lang="en-US" sz="2800" spc="-1" strike="noStrike">
                <a:solidFill>
                  <a:srgbClr val="008093"/>
                </a:solidFill>
                <a:latin typeface="Arial"/>
              </a:rPr>
              <a:t>associés</a:t>
            </a:r>
            <a:r>
              <a:rPr b="0" lang="en-US"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DEFB229-2F3D-4304-AE01-44077F45EB6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1B41063-9C66-41E2-B22A-097C702C089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7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7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BA17292-F7A0-444D-9293-5AB12BE66BD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A00BE04-C534-4BD8-9418-DF0CC1AE4F6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23CD9B1-B6DF-4DC9-873D-8BC865BFC43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A04A9B3-420E-48BC-A9ED-36F576D9545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12-09T15:23:04Z</dcterms:modified>
  <cp:revision>326</cp:revision>
  <dc:subject/>
  <dc:title>Diapositive 1</dc:title>
</cp:coreProperties>
</file>