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EDFFF-6519-4987-94A0-F6CE8F3337B1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C1BB3-DAA5-42CB-BC60-F8A660E57334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5B1EF-7136-4FDD-8D2A-1C297A57AC4C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502B3-80A4-4382-A5E6-1997F8FF4740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A5356-39A9-48AD-8D00-0759044C7462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B6830-8AEF-4724-BE20-07FA5CE5ACEF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638-AC7F-4D3C-A3C2-7B5BE915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881-33F6-4E0D-8875-C402E921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9EE-2009-4E81-98F4-C3F70741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5C51-D40A-433F-A8E5-ED7C4281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AA11-EC08-417F-8923-66A8415F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3FA-D763-480F-B616-E2287FA9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3D7-32D6-4D1A-8559-371E6299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E48-C977-4E46-9776-087D9F39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C31-FFB2-46D7-BA44-7076BFFD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8F41-79C7-45A2-91E0-E47457A0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6F94-5F92-43F5-AA75-398ACDAB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864-F31D-4CAD-9622-725524DA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EE9EF-7F7C-4C31-98FF-0B5530D86C21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escription des supports matériels et du cont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199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il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stration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; $c 23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b txt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7 __ $a sans médiation $b n $2 rda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b nc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504 __ $a Comprend des réf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rences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ibliogr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phiqu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194-19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199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xi, 404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, 18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de p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nch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non numéroté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 : $b il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stration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(certaines en cou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u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) ; $c 23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b txt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7 __ $a sans médiation $b n $2 rda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b nc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504 __ $a Comprend des réf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renc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bibliogr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phiqu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et un ind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xi, 404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, 18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de p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nch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non numéro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Daniel Paradis </cp:lastModifiedBy>
  <dcterms:modified xsi:type="dcterms:W3CDTF">2014-04-14T19:51:06Z</dcterms:modified>
  <cp:revision>6</cp:revision>
  <dc:subject/>
  <dc:title>Diapositive 1</dc:title>
</cp:coreProperties>
</file>