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9E41E-AC99-4276-B0A0-D880C5DE69A7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53348-114F-4DE3-9908-FE41BAA3CC01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79887-AEE0-40F5-B05D-5C1FAAD74AF4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D1D48-818E-4061-B844-49DEE3A00E4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974D0-53CE-47BA-B6B3-709ED477ED1B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72335-E002-4C8D-9943-A6BC46C85D27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298-C271-464B-8809-1D5E1DDF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E41-CAE2-489A-AD20-F3CB99A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5FF-B007-4EB9-A6AF-D7235B50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3BF-8E94-4981-9DEB-A384A26F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3A1-CFBA-49C8-B633-3550E0F8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F87-2C51-4116-B6B1-864890F4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946-7470-424C-A8B5-9065075C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295-FC45-410B-9B28-E9FE06D9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E3A-237F-4D29-94F4-4B3E3667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C7B-1384-477E-BBE6-548E4DA8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787-AE7A-426A-8B1E-FAEFCFF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F25-5EAA-44C0-A45A-48F2F17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F68BC-B754-49E5-857C-1688539CB03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escription des supports matériels et du cont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$c 2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194-1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 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certaines en cou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u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 ; $c 23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et un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Daniel Paradis </cp:lastModifiedBy>
  <dcterms:modified xsi:type="dcterms:W3CDTF">2014-04-14T19:51:06Z</dcterms:modified>
  <cp:revision>6</cp:revision>
  <dc:subject/>
  <dc:title>Diapositive 1</dc:title>
</cp:coreProperties>
</file>