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70D476-D77C-4D2B-BB68-3D92BE400491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750A2D-EDA0-406F-A664-96207F28E196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074E02-278A-44BE-805B-2B584EE55427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A37-B585-4DBD-A325-1A058AF0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435-5EE3-4DE1-BA05-E9D0F4C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D2D-2DF7-4F60-B3F3-87E4974D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FAA-870C-4E08-8D09-EDE7B5C8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70A-8C4F-4585-9AC0-8F05AC9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BF3-9154-4594-BBAD-12ECAC6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A39-0C16-443D-A9D9-029571D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9B2-9C1A-4B4E-8FE2-2CD5B16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503-CC22-48B3-B503-F6D07F91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26A-B388-48C3-9D89-C38ABBF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0B0-4100-4D5B-AC0E-B60177E2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95E-A4AE-4284-9588-24A662F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4F5B24-9470-429E-9A1D-641EA493AA43}" type="slidenum"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98900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92120"/>
            <a:ext cx="85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22400" y="260676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71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2287440"/>
            <a:ext cx="82296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422360"/>
            <a:ext cx="896472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BANQ</cp:lastModifiedBy>
  <dcterms:modified xsi:type="dcterms:W3CDTF">2013-04-17T20:22:48Z</dcterms:modified>
  <cp:revision>33</cp:revision>
  <dc:subject/>
  <dc:title>Diapositive 1</dc:title>
</cp:coreProperties>
</file>