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4B97C9-4263-4082-97DD-2C1DC5E23112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536194-5217-4708-896A-1E795BA95844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126840-BA39-42D2-A7DB-310854A4C0B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196-CD14-46B1-8927-5BFDEA1E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2EF-3652-4373-9A0B-A47F8E9D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6C0-9E22-44FE-91EA-22D07EDC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9A4-18CD-405A-8D8C-20D982E2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57C-E950-4206-A8FA-D021F0A8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08A-E9A4-4610-A41D-BA5682E1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147-7DBF-4761-A71E-948D2B2A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7A6-0803-49A0-9B74-E2DB7B1B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DD1-0626-41AE-BA41-5F457D4A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A40-C86E-4DDB-8806-9C541455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7AE-993E-42BC-8ADF-12C520C8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0B1-ADCF-43E6-809D-5A3EDAB4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5227D5-1F72-489D-A570-D03B29BC3816}" type="slidenum"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98900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92120"/>
            <a:ext cx="8505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22400" y="260676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71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120" y="2287440"/>
            <a:ext cx="82296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1422360"/>
            <a:ext cx="896472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BANQ</cp:lastModifiedBy>
  <dcterms:modified xsi:type="dcterms:W3CDTF">2013-04-17T20:22:48Z</dcterms:modified>
  <cp:revision>33</cp:revision>
  <dc:subject/>
  <dc:title>Diapositive 1</dc:title>
</cp:coreProperties>
</file>