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FE089-6ED5-46AC-A62A-D8DB68D53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C87B1-81D3-4761-A1CB-5861950343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9B596-8D6F-4666-A2D3-3741BC064E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C4424-BD5C-4DB0-8DBF-925FA20D18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127D0-8E2D-42D7-BADF-4A91307E48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EDEB9-5EF8-4E5B-972A-18D434D4F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1DF23-10FD-48BD-8091-A848E92F2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1C9D6-0F8E-49E8-AFCA-80F8C7F0F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1D751-7BF4-4960-B8D3-67BF2C779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89CB4-986B-4E77-95A8-482FC9340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01998-6C9F-452C-9749-767A4FEBB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00C3E-3B7D-47FE-B4D8-3EEC0C80C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9514442-BA1B-459F-B68F-7293BA61A96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vertur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vertu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ronolog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gé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851280"/>
            <a:ext cx="7696080" cy="1922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Basé sur les statistiques de 1981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Représente l’intégralité de l’Europe occidentale et une partie de l’Europe oriental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5E240-5FA0-437C-8EFE-F3F476D1EB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 ci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lasse d’utilis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4120" y="4343400"/>
            <a:ext cx="737388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21 ## $a Pour enfants de 7-9 an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21 ## $a Pour des programmes de rattrapage de lectu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F5632-F2CD-486B-B679-3B722ECCC9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sur la thèse ou le mémo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nditions formell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requises pour l’obtention d’un diplôme universi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ouvelles sous-zones de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5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diplôme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nom de l’institution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8200" y="5041800"/>
            <a:ext cx="80755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2 ## $b M.A. $c Université Laval $d 1974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Basé sur la thèse de l’auteu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FE2EC-7CCE-4061-A623-4A5C303D5F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express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3A12B-822E-4CE9-8122-AD8FCA2EF3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sumé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C pour l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ittérature pour la jeunes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ynthèse, un résumé, un synopsi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 7.10.1.3 sur l’utilisation des zones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730E4-B1B6-4F1F-BB5E-93FC834610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35-3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04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7.12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plus de la langue prédominante, les autres langues présentes (dans les résumés, les tables des matières, etc.) sont codées si jugées importantes pour l’identification ou la sé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r les codes de langue du </a:t>
            </a:r>
            <a:r>
              <a:rPr b="0" i="1" lang="en-US" sz="2400" spc="-1" strike="noStrike">
                <a:solidFill>
                  <a:srgbClr val="008080"/>
                </a:solidFill>
                <a:latin typeface="Arial"/>
              </a:rPr>
              <a:t>format M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D16D7-D8E1-4D97-9877-31A8A67811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e de la no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certaines écritures et pour les formes de notation musi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emble de signes et/ou de symboles utilisés pour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expri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contenu linguistique éc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3.2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4480" y="4545000"/>
            <a:ext cx="7131240" cy="183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1.</a:t>
            </a: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Dévanâgarî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2.</a:t>
            </a: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Arménie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Cyrilliqu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fr-CA" sz="2200" spc="-1" strike="noStrike">
                <a:solidFill>
                  <a:srgbClr val="000000"/>
                </a:solidFill>
                <a:latin typeface="Verdana"/>
                <a:ea typeface="SimSun"/>
              </a:rPr>
              <a:t>ressource écrite dans les deux écritures</a:t>
            </a:r>
            <a:r>
              <a:rPr b="0" lang="en" sz="2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F0E65-1F1A-47A6-B7FC-01DBACDEEF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supplémen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es index et les bibliographies des monogra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5ED54-0BCE-4568-A050-E374AA8ADE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es et inde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9640" y="1346040"/>
            <a:ext cx="86137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C-PCC PS 7.16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r pour les références bibliographiques, discographies, filmographies, index, annexes, papillons ou feuilles d’er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énéralement, indiquer s’il y a des références bibli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y a une bibliographie, indiquer aussi les pages ou les feuillets où elle se trou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 (pages 310-3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quer s’il y a u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0 ##  $a Comprend u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combinée de bibliographie et d’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 et u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4666A-B444-49C1-B7C2-622368456B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u contenu enregistrés dans la zone 300 du format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1D871-0A2B-4D5A-8DEC-6F5FF7203B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nes directrices généra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’information utilisée pour la description du contenu d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ressource elle-mê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ertains cas, l’information peut également être prise de sourc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érieures à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041B0-6195-42A3-89C7-30C81BDCC4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u contenu enregistrés dans la zone 300 du format MA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s associés au contenu, ils se retrouvent au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RDA (et non au chapitr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illustratif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de couleur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7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upport matériel et contenu dans la zone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C4482-B32D-45FB-B8A5-D18EB5ECDA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illustrati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s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selon le 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C-PCC PS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 7.15.1.3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: Généralement, ne pas appliquer l’alternative (ajout du type d’illust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008/18-2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ans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D3D66-16CF-4338-A530-5A919D5D37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de coul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un 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0"/>
            <a:ext cx="8305920" cy="94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couleu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les illustrations sont en couleur)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partie en couleur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10 cartes, dont certaines so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cipalement en couleur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illustrations, majoritaireme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77D07-37BE-4ECF-863B-211CB42C53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important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 d’abré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uleur (pas « cou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c-similés  (pas « fac-sim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lustrations  (pas « il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3A16F-E522-4C67-A29C-714DC91E88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œuvres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DF136-82A8-4085-AAED-C3DD7FC6D4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actéristique d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ntenu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24-2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cas échéant, et dans la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61920" y="4465800"/>
            <a:ext cx="68580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Singspiel en deux act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Tableur avec traitement de texte et capacités graphiqu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083B0-00D7-41B2-AF4B-149E614BA0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11-28T22:29:02Z</dcterms:modified>
  <cp:revision>271</cp:revision>
  <dc:subject/>
  <dc:title>Diapositive 1</dc:title>
</cp:coreProperties>
</file>