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B8D99A-D474-4ABD-A30B-9D6007CE4F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541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768951-5694-4CCA-9E77-1615CC09EC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541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711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79780D-09CD-4F8F-86E6-02A1A4B88C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365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190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541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365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190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8EF0AD-B8DD-4FAD-8F65-2B22D5697BA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AAB247-1683-46DD-8CE2-36EFD8662EC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36C1F5-0342-42E6-81B4-32D0FD3181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4ED28C-0DFD-46E7-93B3-15DB9E6A52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CF6C63-4813-427A-A8E0-8692C4C350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54120" y="2026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8BF1C5-09BE-4062-9547-374F56ADA7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541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86E79A-9532-4621-9AB5-662C2E4DA4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711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474097-CDF5-4A17-AF72-750D3D1F73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541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A1CB43-A32C-452E-B107-E74700C83D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Image 6" descr="bandeauux ppt9.jpg"/>
          <p:cNvPicPr/>
          <p:nvPr/>
        </p:nvPicPr>
        <p:blipFill>
          <a:blip r:embed="rId2"/>
          <a:stretch/>
        </p:blipFill>
        <p:spPr>
          <a:xfrm>
            <a:off x="0" y="228600"/>
            <a:ext cx="9144000" cy="11462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700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228600">
              <a:spcBef>
                <a:spcPts val="700"/>
              </a:spcBef>
              <a:buClr>
                <a:srgbClr val="5f5f5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76080" y="6441840"/>
            <a:ext cx="324324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CA" sz="900" spc="-1" strike="noStrike">
                <a:solidFill>
                  <a:srgbClr val="4d4d4d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&lt;footer&gt;</a:t>
            </a: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3384360" y="6447960"/>
            <a:ext cx="226188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fr-CA" sz="900" spc="-1" strike="noStrike">
                <a:solidFill>
                  <a:srgbClr val="4d4d4d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489B8512-67C2-484A-9977-0350354DA31E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scription du contenu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ttributs des œuvres –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uverture du contenu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7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verture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chronologiqu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u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géograph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registrer si jugée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importa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registrer dans la zone MARC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3851280"/>
            <a:ext cx="7696080" cy="19227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fr-CA" sz="2400" spc="-1" strike="noStrike">
                <a:solidFill>
                  <a:srgbClr val="008093"/>
                </a:solidFill>
                <a:latin typeface="Courier New"/>
                <a:ea typeface="Courier New"/>
              </a:rPr>
              <a:t>500 ## $a Basé sur les statistiques de 1981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fr-CA" sz="2400" spc="-1" strike="noStrike">
                <a:solidFill>
                  <a:srgbClr val="008093"/>
                </a:solidFill>
                <a:latin typeface="Courier New"/>
                <a:ea typeface="Courier New"/>
              </a:rPr>
              <a:t>500 ## $a Représente l’intégralité de l’Europe occidentale et une partie de l’Europe orientale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99A53C-7F12-4042-8346-269BE415B03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ttributs des œuvres –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ublic cibl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7.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Élément fondamental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LC pour les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ressources destinées à la jeunes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Classe d’utilisateu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008/2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t zone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52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54120" y="4343400"/>
            <a:ext cx="7373880" cy="119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fr-CA" sz="2400" spc="-1" strike="noStrike">
                <a:solidFill>
                  <a:srgbClr val="008093"/>
                </a:solidFill>
                <a:latin typeface="Courier New"/>
                <a:ea typeface="Courier New"/>
              </a:rPr>
              <a:t>521 ## $a Pour enfants de 7-9 ans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fr-CA" sz="2400" spc="-1" strike="noStrike">
                <a:solidFill>
                  <a:srgbClr val="008093"/>
                </a:solidFill>
                <a:latin typeface="Courier New"/>
                <a:ea typeface="Courier New"/>
              </a:rPr>
              <a:t>521 ## $a Pour des programmes de rattrapage de lecture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495430-D264-423E-828D-129269404BF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ttributs des œuvres –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formation sur la thèse ou le mémoir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7.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Élément fondamental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L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Conditions formelles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requises pour l’obtention d’un diplôme universita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Nouvelles sous-zones de la zone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5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$b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 diplôme 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$c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 nom de l’institution 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$d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 ann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08200" y="5041800"/>
            <a:ext cx="8075520" cy="825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Courier New"/>
              </a:rPr>
              <a:t>502 ## $b M.A. $c Université Laval $d 1974 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Courier New"/>
              </a:rPr>
              <a:t>500 ## $a Basé sur la thèse de l’auteur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675079-F62E-4416-B6F0-5786A52AB61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66"/>
                </a:solidFill>
                <a:latin typeface="Arial"/>
                <a:ea typeface="ＭＳ Ｐゴシック"/>
              </a:rPr>
              <a:t>Contenu – </a:t>
            </a:r>
            <a:br>
              <a:rPr sz="2800"/>
            </a:br>
            <a:r>
              <a:rPr b="1" i="1" lang="en-US" sz="2800" spc="-1" strike="noStrike">
                <a:solidFill>
                  <a:srgbClr val="006666"/>
                </a:solidFill>
                <a:latin typeface="Arial"/>
                <a:ea typeface="ＭＳ Ｐゴシック"/>
              </a:rPr>
              <a:t>Attributs des expressions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D73A30-3CFC-491A-BBAE-723E2DA4F25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ttributs des expressions –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ésumé du contenu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7.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Élément fondament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C pour la </a:t>
            </a: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littérature pour la jeunes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e synthèse, un résumé, un synopsis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registrer si jugé </a:t>
            </a: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C-PCC PS 7.10.1.3 sur l’utilisation des zones MARC </a:t>
            </a: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52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t </a:t>
            </a: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85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174CFD-AD24-4E0D-B678-6F618BDDB4B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ttributs des expressions –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angue du contenu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7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Élément fondamental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 L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registrer si jugée importa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s MARC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008/35-37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04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t </a:t>
            </a: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5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LC-PCC PS 7.12.1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 plus de la langue prédominante, les autres langues présentes (dans les résumés, les tables des matières, etc.) sont codées si jugées importantes pour l’identification ou la sél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iliser les codes de langue du </a:t>
            </a:r>
            <a:r>
              <a:rPr b="0" i="1" lang="en-US" sz="2400" spc="-1" strike="noStrike">
                <a:solidFill>
                  <a:srgbClr val="008080"/>
                </a:solidFill>
                <a:latin typeface="Arial"/>
              </a:rPr>
              <a:t>format MAR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2BB44E-3FA6-4799-BB0C-7425FD779A3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ttributs des expressions –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rme de la nota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7.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Élément fondamental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 L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our certaines écritures et pour les formes de notation music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semble de signes et/ou de symboles utilisés pour </a:t>
            </a: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exprim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e contenu linguistique écr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C-PCC PS </a:t>
            </a: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7.13.2.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44480" y="4545000"/>
            <a:ext cx="7131240" cy="18313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800" spc="-1" strike="noStrike">
                <a:solidFill>
                  <a:srgbClr val="000000"/>
                </a:solidFill>
                <a:latin typeface="Verdana"/>
                <a:ea typeface="SimSun"/>
              </a:rPr>
              <a:t>1.</a:t>
            </a:r>
            <a:r>
              <a:rPr b="0" lang="en" sz="1800" spc="-1" strike="noStrike">
                <a:solidFill>
                  <a:srgbClr val="000000"/>
                </a:solidFill>
                <a:latin typeface="Verdana"/>
                <a:ea typeface="SimSun"/>
              </a:rPr>
              <a:t>	</a:t>
            </a:r>
            <a:r>
              <a:rPr b="1" lang="en" sz="2400" spc="-1" strike="noStrike">
                <a:solidFill>
                  <a:srgbClr val="008080"/>
                </a:solidFill>
                <a:latin typeface="Courier New"/>
                <a:ea typeface="SimSun"/>
              </a:rPr>
              <a:t>Dévanâgarî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800" spc="-1" strike="noStrike">
                <a:solidFill>
                  <a:srgbClr val="000000"/>
                </a:solidFill>
                <a:latin typeface="Verdana"/>
                <a:ea typeface="SimSun"/>
              </a:rPr>
              <a:t>2.</a:t>
            </a:r>
            <a:r>
              <a:rPr b="1" lang="en" sz="2400" spc="-1" strike="noStrike">
                <a:solidFill>
                  <a:srgbClr val="000000"/>
                </a:solidFill>
                <a:latin typeface="Courier New"/>
                <a:ea typeface="SimSun"/>
              </a:rPr>
              <a:t>	</a:t>
            </a:r>
            <a:r>
              <a:rPr b="1" lang="en" sz="2400" spc="-1" strike="noStrike">
                <a:solidFill>
                  <a:srgbClr val="008080"/>
                </a:solidFill>
                <a:latin typeface="Courier New"/>
                <a:ea typeface="SimSun"/>
              </a:rPr>
              <a:t>Arménien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400" spc="-1" strike="noStrike">
                <a:solidFill>
                  <a:srgbClr val="000000"/>
                </a:solidFill>
                <a:latin typeface="Courier New"/>
                <a:ea typeface="SimSun"/>
              </a:rPr>
              <a:t>	</a:t>
            </a:r>
            <a:r>
              <a:rPr b="1" lang="en" sz="2400" spc="-1" strike="noStrike">
                <a:solidFill>
                  <a:srgbClr val="008080"/>
                </a:solidFill>
                <a:latin typeface="Courier New"/>
                <a:ea typeface="SimSun"/>
              </a:rPr>
              <a:t>Cyrillique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400" spc="-1" strike="noStrike">
                <a:solidFill>
                  <a:srgbClr val="000000"/>
                </a:solidFill>
                <a:latin typeface="Courier New"/>
                <a:ea typeface="SimSun"/>
              </a:rPr>
              <a:t>	</a:t>
            </a:r>
            <a:r>
              <a:rPr b="0" lang="en" sz="2200" spc="-1" strike="noStrike">
                <a:solidFill>
                  <a:srgbClr val="000000"/>
                </a:solidFill>
                <a:latin typeface="Verdana"/>
                <a:ea typeface="SimSun"/>
              </a:rPr>
              <a:t>(</a:t>
            </a:r>
            <a:r>
              <a:rPr b="0" lang="fr-CA" sz="2200" spc="-1" strike="noStrike">
                <a:solidFill>
                  <a:srgbClr val="000000"/>
                </a:solidFill>
                <a:latin typeface="Verdana"/>
                <a:ea typeface="SimSun"/>
              </a:rPr>
              <a:t>ressource écrite dans les deux écritures</a:t>
            </a:r>
            <a:r>
              <a:rPr b="0" lang="en" sz="2200" spc="-1" strike="noStrike">
                <a:solidFill>
                  <a:srgbClr val="000000"/>
                </a:solidFill>
                <a:latin typeface="Verdana"/>
                <a:ea typeface="SimSun"/>
              </a:rPr>
              <a:t>)</a:t>
            </a:r>
            <a:endParaRPr b="1" lang="en-US" sz="2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23981E-A220-4B05-B900-28ED0C66B8C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ttributs des expressions –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u supplémentair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7.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Élément fondamental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 L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our les index et les bibliographies des monograph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ugement du catalogue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s MARC </a:t>
            </a: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50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t </a:t>
            </a: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A6D24B-1F2C-45BE-8544-B6605B4E686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ttributs des expressions –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ibliographies et index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69640" y="1346040"/>
            <a:ext cx="861372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4560" indent="-214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LC-PCC PS 7.16.1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4560" indent="-214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iliser pour les références bibliographiques, discographies, filmographies, index, annexes, papillons ou feuilles d’err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4560" indent="-214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énéralement, indiquer s’il y a des références bibliograph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040" indent="-214560">
              <a:lnSpc>
                <a:spcPct val="90000"/>
              </a:lnSpc>
              <a:spcBef>
                <a:spcPts val="575"/>
              </a:spcBef>
              <a:buClr>
                <a:srgbClr val="008080"/>
              </a:buClr>
              <a:buSzPct val="95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504 ##  $a Comprend des références bibliographiqu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4560" indent="-214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’il y a une bibliographie, indiquer aussi les pages ou les feuillets où elle se trou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040" indent="-214560">
              <a:lnSpc>
                <a:spcPct val="90000"/>
              </a:lnSpc>
              <a:spcBef>
                <a:spcPts val="575"/>
              </a:spcBef>
              <a:buClr>
                <a:srgbClr val="008080"/>
              </a:buClr>
              <a:buSzPct val="95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504 ##  $a Comprend des références bibliographiques (pages 310-32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4560" indent="-214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iquer s’il y a un ind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040" indent="-214560">
              <a:lnSpc>
                <a:spcPct val="90000"/>
              </a:lnSpc>
              <a:spcBef>
                <a:spcPts val="575"/>
              </a:spcBef>
              <a:buClr>
                <a:srgbClr val="008080"/>
              </a:buClr>
              <a:buSzPct val="95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500 ##  $a Comprend un ind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4560" indent="-214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combinée de bibliographie et d’ind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040" indent="-214560">
              <a:lnSpc>
                <a:spcPct val="90000"/>
              </a:lnSpc>
              <a:spcBef>
                <a:spcPts val="575"/>
              </a:spcBef>
              <a:buClr>
                <a:srgbClr val="008080"/>
              </a:buClr>
              <a:buSzPct val="95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504 ##  $a Comprend des références bibliographiques et un ind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E86796-37BF-4212-8A8D-2C8B015BE68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scription du contenu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Attributs du contenu enregistrés dans la zone 300 du format MAR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Attributs des œuv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Attributs des expres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625674-3743-4266-B58B-81BB042FA26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gnes directrices générales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scription du contenu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RDA Chapitre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Prendre l’information utilisée pour la description du contenu de la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ressource elle-mê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Dans certains cas, l’information peut également être prise de sources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extérieures à la res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8C1E33-0A30-428F-BE0A-D755822A655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ttributs du contenu enregistrés dans la zone 300 du format MARC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Éléments associés au contenu, ils se retrouvent au chapitre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7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des RDA (et non au chapitre 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Contenu illustratif (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7.15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Contenu de couleur (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7.17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Support matériel et contenu dans la zone 3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922E14-CBAA-4FCE-A6B7-CEF4D178215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u – 300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u illustratif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Élément fondamental LC pour les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ressources destinées à la jeunes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7.15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37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700" spc="-1" strike="noStrike">
                <a:solidFill>
                  <a:srgbClr val="000000"/>
                </a:solidFill>
                <a:latin typeface="Arial"/>
              </a:rPr>
              <a:t>Enregistrer 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0" lang="fr-CA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CA" sz="2700" spc="-1" strike="noStrike">
                <a:solidFill>
                  <a:srgbClr val="008093"/>
                </a:solidFill>
                <a:latin typeface="Arial"/>
              </a:rPr>
              <a:t>illustration</a:t>
            </a:r>
            <a:r>
              <a:rPr b="0" lang="fr-CA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»</a:t>
            </a:r>
            <a:r>
              <a:rPr b="0" lang="fr-CA" sz="2700" spc="-1" strike="noStrike">
                <a:solidFill>
                  <a:srgbClr val="000000"/>
                </a:solidFill>
                <a:latin typeface="Arial"/>
              </a:rPr>
              <a:t> ou 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0" lang="fr-CA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CA" sz="2700" spc="-1" strike="noStrike">
                <a:solidFill>
                  <a:srgbClr val="008093"/>
                </a:solidFill>
                <a:latin typeface="Arial"/>
              </a:rPr>
              <a:t>illustrations</a:t>
            </a:r>
            <a:r>
              <a:rPr b="0" lang="fr-CA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»</a:t>
            </a:r>
            <a:r>
              <a:rPr b="0" lang="fr-CA" sz="2700" spc="-1" strike="noStrike">
                <a:solidFill>
                  <a:srgbClr val="000000"/>
                </a:solidFill>
                <a:latin typeface="Arial"/>
              </a:rPr>
              <a:t> selon le ca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37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700" spc="-1" strike="noStrike">
                <a:solidFill>
                  <a:srgbClr val="000000"/>
                </a:solidFill>
                <a:latin typeface="Arial"/>
              </a:rPr>
              <a:t>LC-PCC PS</a:t>
            </a:r>
            <a:r>
              <a:rPr b="0" lang="fr-CA" sz="2700" spc="-1" strike="noStrike">
                <a:solidFill>
                  <a:srgbClr val="008093"/>
                </a:solidFill>
                <a:latin typeface="Arial"/>
              </a:rPr>
              <a:t> 7.15.1.3</a:t>
            </a:r>
            <a:r>
              <a:rPr b="0" lang="fr-CA" sz="2700" spc="-1" strike="noStrike">
                <a:solidFill>
                  <a:srgbClr val="000000"/>
                </a:solidFill>
                <a:latin typeface="Arial"/>
              </a:rPr>
              <a:t> : Généralement, ne pas appliquer l’alternative (ajout du type d’illustration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Enregistrer dans la zone MARC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008/18-21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et dans la zone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300 $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9F45A4-B5CE-4139-BD24-7293A90076B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u – 300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u de couleu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s un élément fondamental LC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7.1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 MARC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300 $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572000"/>
            <a:ext cx="8305920" cy="94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n couleur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les illustrations sont en couleur) </a:t>
            </a:r>
            <a:endParaRPr b="1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n partie en couleur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10 cartes, dont certaines sont en couleur)</a:t>
            </a:r>
            <a:endParaRPr b="1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incipalement en couleur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illustrations, majoritairement en couleur)</a:t>
            </a:r>
            <a:endParaRPr b="1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A9EC3D-BCC4-44C4-A956-AAC614494CC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u – 300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ngement important par rapport aux RCAA2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Pas d’abrévi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couleur (pas « coul. 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fac-similés  (pas « fac-sim. 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illustrations  (pas « ill. 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9ECB08-00F8-4ABC-8E51-1D868D15C93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66"/>
                </a:solidFill>
                <a:latin typeface="Arial"/>
                <a:ea typeface="ＭＳ Ｐゴシック"/>
              </a:rPr>
              <a:t>Contenu – </a:t>
            </a:r>
            <a:br>
              <a:rPr sz="2800"/>
            </a:br>
            <a:r>
              <a:rPr b="1" i="1" lang="en-US" sz="2800" spc="-1" strike="noStrike">
                <a:solidFill>
                  <a:srgbClr val="006666"/>
                </a:solidFill>
                <a:latin typeface="Arial"/>
                <a:ea typeface="ＭＳ Ｐゴシック"/>
              </a:rPr>
              <a:t>Attributs des œuvres 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EBB140-3DBF-4853-BFE8-2C7E640F479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ttributs des œuvres –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ature du contenu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7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actéristique du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contenu princip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registrer si jugée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importa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registrer dans la zone MARC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008/24-27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e cas échéant, et dans la zone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961920" y="4465800"/>
            <a:ext cx="6858000" cy="119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Courier New"/>
              </a:rPr>
              <a:t>500 ## $a Singspiel en deux actes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Courier New"/>
              </a:rPr>
              <a:t>500 ## $a Tableur avec traitement de texte et capacités graphiques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E48158-225B-407F-AD10-5FFCF1F828A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5T20:24:45Z</dcterms:created>
  <dc:creator>Louise Lecavalier</dc:creator>
  <dc:description/>
  <dc:language>en-US</dc:language>
  <cp:lastModifiedBy>Mylène Robichaud</cp:lastModifiedBy>
  <cp:lastPrinted>2010-10-18T15:40:26Z</cp:lastPrinted>
  <dcterms:modified xsi:type="dcterms:W3CDTF">2013-12-06T16:59:21Z</dcterms:modified>
  <cp:revision>271</cp:revision>
  <dc:subject/>
  <dc:title>Diapositive 1</dc:title>
</cp:coreProperties>
</file>