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C6264688-2A64-4AB3-836C-69BD94B10132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30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3 - Description des supports matériel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9FE73C2A-9D8D-4EC7-832D-F41E09C73D9C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3 - Description des supports matériel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415D175F-AB7D-4DEF-959B-757661288B66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F19C4-D81A-4942-B630-3BE8E6F97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408D8-D5A3-4932-BCBB-D5E70E4609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93ABE-F0B7-4BE4-8167-0C934181F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28EB4-6C5E-4AF2-8BB1-25620E88B3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CC7E0-A5B4-41DD-9A57-B5EB7C65A8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F3713-4CAC-4B82-8149-7FD45F5E3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60436-09D8-4DA3-A481-9BBCC3715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21115-1804-45B0-964A-AD3B42249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E494C-4DA7-4F4F-809C-8C24C2D83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3F4CA-E535-43F2-8A42-FCB83BDC8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EA1F0-448A-4EDD-ADC4-60CC76379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B0FC7-D3D5-4617-B47A-FB47D8A95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8191EF8-70A4-4A75-BC35-99A5530FC14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haworthpress.com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EF8546B-998A-4C70-BD94-4B6BD55DEBF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Zones MARC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Li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6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7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8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C31EAFB-BB7A-4E6C-8D55-A8EB7FFA3D5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: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la ressource est complète ou si l’importance matérielle totale est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Le nombre et le type d’unités et/ou de sous-unités formant une ressourc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Uni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= composant physique ou logique d’une ressource (par exemple, 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ous-uni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= subdivision physique ou logique d’une unité (par exemple, une page d’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715001E-8DA2-4079-913F-5E305842EF1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nregistrement de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ressource est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mplè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’importance matérielle totale est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4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le nombre d’unités et le terme appropri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fois un terme de la liste de supports matériels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.1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autre terme pour désigner le type d’unité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1.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si le terme n’est pas dans la liste, ou préférer un terme d’usage com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lusieurs catégories couvertes par les exceptions (par exemple, texte, images fixes, musique notée, ressources cartographiq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40BDA61-EEAF-4EA8-A68F-6DBC4F70941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matérielle du tex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volume avec pages, feuillets ou colonnes numéroté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volume avec pages, feuillets ou colonnes non numéroté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DA donne une liste de troi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LC-PCC PS 3.4.5.3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continue la pratique RCA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5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le catalogage original LC, habituellement suivre la méthode c) </a:t>
            </a:r>
            <a:br>
              <a:rPr sz="1800"/>
            </a:br>
            <a:r>
              <a:rPr b="0" lang="fr-CA" sz="1800" spc="-1" strike="noStrike">
                <a:solidFill>
                  <a:srgbClr val="008093"/>
                </a:solidFill>
                <a:latin typeface="Arial"/>
              </a:rPr>
              <a:t>1 volume (non pagi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gination complexe ou irrégulière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8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DA donne une liste de troi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LC-PCC PS 3.4.5.8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continue la pratique RCA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5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le catalogage original LC, habituellement suivre la méthode c) </a:t>
            </a:r>
            <a:br>
              <a:rPr sz="1800"/>
            </a:br>
            <a:r>
              <a:rPr b="0" lang="fr-CA" sz="1800" spc="-1" strike="noStrike">
                <a:solidFill>
                  <a:srgbClr val="008093"/>
                </a:solidFill>
                <a:latin typeface="Arial"/>
              </a:rPr>
              <a:t>1 volume (pagination multi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0752381-2C94-446F-AAE1-D42462B887B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hangements de RCAA2 reliés à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utiliser d’abréviat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par exemple, « pages », « volumes », pas « p. », « v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envir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env. ») et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’est-à-d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i.e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n numéro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, plutôt que des crochets autour des chif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ention aux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ngements de vocabula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par exemple: « disque informatique » est utilisé pour « disque d’ordinateur » et « disque optique d’ordinate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C704113-C9EE-409C-8DFB-C9C1146E5C9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 LC pour les ressources autres que les publications en série et les ressources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Mesures du ou des supports matériels et/ou du conteneur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rrondies au centimèt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cm » et « mm » sont des symboles, pas des abré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utiliser le point ISBD après le symbole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seulement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si une zone 490 apparaît dans la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00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978DA47-ED2F-461C-8E74-77A9738FF4D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Pratiques LC et BAC/BAnQ : 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lternative sous 3.5.1.3 :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atique LC : Utiliser l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pouc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les disques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5.1.4.4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et pour tous les supports matériels audio; sinon, suivre l’instruction RDA telle qu’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atique BAC/BAnQ : Suivre l’instruction RDA telle qu’écrite et toujours employer l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unités mét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atique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ublications en série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er que la dimension n’est pas un élément fondamental pour les publications en série et les ressources en lig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is vous pouvez l’enregistrer si vous le voul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5F6ACDC-595F-48E6-ACC4-53B3AD400B7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Li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00 $a 123 pages, 28 pages n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numér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txt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c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</a:rPr>
              <a:t>Note : $b est op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F4A4F41-21AE-4EF3-9CE0-D9868AB6F99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DV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DVD       {ou: 1 vidéodisqu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mage animée bidimensionne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idé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idéodis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DF en lign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ressource en ligne (39 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D1D1A24-5F1D-4ECF-A355-D3EC8E99D9D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Arial"/>
              </a:rPr>
              <a:t>Site web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(avec cartes, texte et photographies)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300 $a 1 ressource en lig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mage cartographiqu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</a:t>
            </a:r>
            <a:br>
              <a:rPr sz="2200"/>
            </a:b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mage fix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e : si des notices dérivées répètent les sous-zones $a plutôt que la zone 336, vous pouvez les accepter comme elles son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336  $a texte $a image cartographique $a image fixe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8D67052-B67E-4CA8-8474-25818160579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s éléments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57C8B89-C0D1-4B79-9E0D-A768B66A4EB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Arial"/>
              </a:rPr>
              <a:t>Livre avec un accompagnement (CD de conférence)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fr-CA" sz="2200" spc="-1" strike="noStrike">
                <a:solidFill>
                  <a:srgbClr val="ff0000"/>
                </a:solidFill>
                <a:latin typeface="Arial"/>
              </a:rPr>
              <a:t>$3 et $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00 $a 244 pages ...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+ $e 1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text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parole énoncé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sans médiation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volum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disque 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Arial"/>
              </a:rPr>
              <a:t>Note :  </a:t>
            </a:r>
            <a:r>
              <a:rPr b="1" i="1" lang="fr-CA" sz="2000" spc="-1" strike="noStrike">
                <a:solidFill>
                  <a:srgbClr val="ff0000"/>
                </a:solidFill>
                <a:latin typeface="Arial"/>
              </a:rPr>
              <a:t>L’utilisation du $3 est optionnelle dans cet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épéte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l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one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244 pag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1 C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donner un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500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a Accompagné d’un CD publié pa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76C6431-EB2B-4A3D-AD83-B0403A02F65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4120" y="188244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D d’histoire ora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disque 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Livre audio Playaway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Playaway (ou 1 lecteur audio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édié ou 1 lecteur numérique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édi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tr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0ECA80F-16AF-4C8C-82AA-7A4590E9BB2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nsemble multi-supports (contient un livre au sujet d’un pompier, un CD de narration et un casque de pompier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D, 1 livre, 1 casque en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plas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for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ridimensionne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disque 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ob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62120" y="5622840"/>
            <a:ext cx="83818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1600" spc="-1" strike="noStrike">
                <a:solidFill>
                  <a:srgbClr val="ff0000"/>
                </a:solidFill>
                <a:latin typeface="Verdana"/>
              </a:rPr>
              <a:t>*</a:t>
            </a:r>
            <a:r>
              <a:rPr b="1" lang="fr-C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CA" sz="1600" spc="-1" strike="noStrike">
                <a:solidFill>
                  <a:srgbClr val="ff0000"/>
                </a:solidFill>
                <a:latin typeface="Verdana"/>
              </a:rPr>
              <a:t>L’utilisation de plusieurs sous-zones $a dans la zone 336 est acceptable si c’est une notice dérivée, mais pour du catalogage original, LC enregistre des zones 33X séparées</a:t>
            </a:r>
            <a:r>
              <a:rPr b="1" lang="fr-CA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F87883D-3CDA-49F4-89F8-CE8F3042CE2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arti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partition de chant (xii, 300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usique not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arte géographiqu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mage cartograph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feui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4432F41-F8EC-4B77-B5F6-B7CCDD466BA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éléments des manifestations et d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Arial"/>
              </a:rPr>
              <a:t>Information relative à l’acquisition et à l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odalités d’acquisition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oordonnées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trictions d’accès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trictions d’usage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dresse URL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098EAEF-C019-481A-95F9-8E96C5A65A2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odalités d’acquis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 : En général, ne pas donner de prix ou d’autres informations d’acquisition sauf pour les partitions en location ou le matériel de performance en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020  $a 0460044524 : $c matériel en 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2E5AFD8-BCCB-42EB-92B4-854C24DFC4D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ordonné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les coordonnées d’un éditeur, d’un diffuseur ou d’un distributeur, etc. si elles sont jugées importantes pour l’acquisition ou l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037 $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xempl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HaworthPres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Alabama Department of Archives and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624 Washington Avenue, Montgomery, AL 36130-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B481479-6991-40EA-B639-6B697332F14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strictions d’accè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toutes les restrictions d’accès à la ressource y compris la nature et la durée de la restriction de manière aussi précise que possible. L’absence de restrictions peut également être notée si elle est jugée 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5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ccès restreint aux abonnés via un nom d’usager et un mot de passe ou une authentification d’adress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293E420-7BC8-41E7-B114-3FF9C78B6F1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strictions d’us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: La condition fondamentale est limitée aux collections non générales de la  Library of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5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Le visionnement de ce film est restreint à l’utilisation en clas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9A43B4A-619C-400D-9B5D-973582F2DDE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dresse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dresse de la ressource accessible en ligne qui est catalogu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4.6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– S’il y a plus d’une adresse URL pour la ressource, toutes les enregist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7E3E2FA-CBBD-4AEC-8259-8B6A0D743B1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n ne discutera pas des éléments spécifiques pour les ressources de formats spéciaux (films, cartes, partitio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xemples disponibles dans RDA, dans la documentation MARC et dans la compilation d’exemples de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AA01DC4-438F-48D0-9975-062372244C2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dresse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hangements nécessitant l’ajout, la révision ou la suppression d’une adresse UR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.1.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on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la pratique LC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deux situations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Quand l’URL original n’est plus ac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Quand l’URL original est toujours actif, mais la ressource originale n’est plus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AA3AB93-9CC0-45E9-A7DC-6935A003EE5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ontenant du 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’enregistrement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upport d’enregistrement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lectur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 de sill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 pist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 bande magnétiqu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s canaux de reproduc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s de lecture particulières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9A2396C-96BF-477C-80BA-C5A0E9EDC3A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ontenant des images anim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cédé de projection (film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projection (film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at vidéo (enregistrement vidéo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rme de diffusion (enregistrement vidéo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CA073D1-E32A-454D-B51E-46535511CCE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électroniques (fichiers numériq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fichier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at d’encodag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aille du fichier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ésolu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de de rég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transmiss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te de visualisa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2.20.1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quipement ou système requi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7448E44-63A3-422D-9621-AEF7BB58D77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artograph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posi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s du fichier numériqu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ongitude et latitud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4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helle des longueur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helle des hauteur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formation supplémentaire sur l’échell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jection de contenu cartographiqu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BA0414C-D827-403A-9C32-DEC26378525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music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e de la notation musicale (partitions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3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sentation de la musique notée (partitions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0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tribution d’exécution d’un contenu musical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A1B9435-5637-44F1-BF64-D840298071A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mplacement de l’IGGD - 245 $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Trois nouvelles zones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6.9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médi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3.2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upport matérie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3.3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D003CBD-D6D5-42DC-A615-A37B25D68A4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pour contenu, média,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hacune des trois zones pour ces éléments (336-338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a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te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b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2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content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ou 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media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ou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carrier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comme il conv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3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ocuments précisés – donner si 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ela s’app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8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numéro de liaison de zone et de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sé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23A3FD6-14C8-47CE-9395-455D12372B8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ocabulaires contrôlés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 Types de contenu, média,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ist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fermé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ans 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2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plus d’un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terme est appropri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eux choix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donner: répéter la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e terme représentant le contenu/média/support prédominant ou le plus considé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l’information n’est pas conn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enregistrer « non précisé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aucun terme n’est appropri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enregistrer « autre » et si désiré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vertir un des membres du C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E810D0B-7052-4DF1-B3C0-8CB6D8BD4CD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 …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ar lequel il doit être perç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contenu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54120" y="554184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 :</a:t>
            </a: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</a:t>
            </a:r>
            <a:r>
              <a:rPr b="1" i="1" lang="fr-CA" sz="2400" spc="-1" strike="noStrike">
                <a:solidFill>
                  <a:srgbClr val="008093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usique exécuté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image fix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text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6145B47-7131-4E63-BBC5-7F41CF564F6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ype général de dispositif de médi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equis pour visionner, faire fonctionner, faire défiler, etc., le contenu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média qui s’applique à la partie prédominante ou aux parties les plus considérables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54120" y="5483160"/>
            <a:ext cx="7912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audio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informatiqu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microforme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sans médi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305049E-A631-44E0-BE28-A491F3D84ED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forma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u support de stockage et d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ntenan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’un support matériel combiné avec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ype de dispositif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de médi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equis 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listés à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support matériel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615960" y="5675400"/>
            <a:ext cx="85280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disque audio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disque informatique</a:t>
            </a:r>
            <a:br>
              <a:rPr sz="2200"/>
            </a:b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microfiche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volume - vidéodisqu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Riva Pat</cp:lastModifiedBy>
  <cp:lastPrinted>2010-10-18T15:40:26Z</cp:lastPrinted>
  <dcterms:modified xsi:type="dcterms:W3CDTF">2014-11-05T18:19:56Z</dcterms:modified>
  <cp:revision>261</cp:revision>
  <dc:subject/>
  <dc:title>Diapositive 1</dc:title>
</cp:coreProperties>
</file>