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4231FE9E-25CA-4785-BC79-EB6B2F08E7CD}" type="datetime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-07-29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  <a:def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7065D714-FABD-4191-A749-263C6E78860F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3 - Description des supports matériels</a:t>
            </a:r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fld id="{FC26C412-2343-4623-8A31-C8D07991BEE8}" type="slidenum">
              <a:rPr b="1" lang="fr-C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F79E-31DF-4F02-9253-FAABA9A47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F2DB-C051-4453-A816-0C852D9EE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8645-9D7D-4C31-80E1-CF607FCE1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0008-C27F-4090-AEEF-35D58F35C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D0FE-E9F7-4D16-9B12-E86006167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AA52-F6ED-4B52-8FB8-405545117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BBC2-BEE7-48F7-8951-12187E5A6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36B3-0801-48CA-ABB7-E3CF539A4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EC45-4DFC-4EB0-81BD-41950EE39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756D-A1EB-4E98-9134-EC88891D4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E4DE-84D7-4C81-851B-BE5D40BDB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635A-6A5D-4D81-AA4F-9FEFF431C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7D69752-2EEE-4CAB-BC3A-29D86FF0207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aworthpres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6056BFC-471E-4BFD-BE01-A2B054C05A46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Zones MARC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6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7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338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2BBD9A0-6933-4AFF-9DFE-40A86951864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la ressource est complète ou si l’importance matérielle totale est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nombre et le type d’unités et/ou de sous-unités formant une ressourc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composant physique ou logique d’une ressource (par exemple, 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ous-uni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= subdivision physique ou logique d’une unité (par exemple, une page d’un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5423838A-37F7-4FCA-A27E-B50A7AF4A66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nregistrement de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a ressourc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mplè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si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l’importance matérielle totale est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4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onner le nombre d’unités et le terme appropri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fois un terme de la liste de supports matériel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autre terme pour désigner le type d’unité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1.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si le terme n’est pas dans la liste, ou préférer un terme d’usage com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lusieurs catégories couvertes par les exceptions (par exemple, texte, images fixes, musique notée, ressources cartographiq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9035EAB-375D-4A28-A23B-A20E6CAEAF6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Importance matérielle du tex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volume avec pages, feuillets ou colonnes non numérotés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3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non pagi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gination complexe ou irrégulière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4.5.8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RDA donne une liste de troi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809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LC-PCC PS 3.4.5.8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continue la pratique RCA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451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our le catalogage original LC, habituellement suivre la méthode c) </a:t>
            </a:r>
            <a:br>
              <a:rPr sz="1800"/>
            </a:br>
            <a:r>
              <a:rPr b="0" lang="fr-CA" sz="1800" spc="-1" strike="noStrike">
                <a:solidFill>
                  <a:srgbClr val="008093"/>
                </a:solidFill>
                <a:latin typeface="Arial"/>
              </a:rPr>
              <a:t>1 volume (pagination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EBDBF86B-91EE-4CC5-A6A9-E4C26F91990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hangements de RCAA2 reliés à l’importance matériel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e pas utiliser d’abréviation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(par exemple, « pages », « volumes », pas « p. », « v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environ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env. ») et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’est-à-d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 (plutôt que « i.e.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tiliser « 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non numérot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 », plutôt que des crochets autour des chif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ention aux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changements de vocabulai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par exemple: « disque informatique » est utilisé pour « disque d’ordinateur » et « disque optique d’ordinateu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543BF7B-766E-484B-B569-0B03EEEE598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pour les ressources autres que les publications en série et les ressources en lig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Mesures du ou des supports matériels et/ou du conteneur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rrondies au centimètre supéri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m » et « mm » sont des symboles, pas des abré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tiliser le point ISBD après le symbole </a:t>
            </a:r>
            <a:r>
              <a:rPr b="0" lang="fr-CA" sz="2000" spc="-1" strike="noStrike">
                <a:solidFill>
                  <a:srgbClr val="008093"/>
                </a:solidFill>
                <a:latin typeface="Arial"/>
              </a:rPr>
              <a:t>seulemen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si une zone 490 apparaît dans la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00 $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11CD887-9AEF-47CA-9BF4-ADD8B145B53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Pratiques LC et BAC/BAnQ :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ternative sous 3.5.1.3 :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LC : Utilis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pouc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our les disques (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5.1.4.4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 et pour tous les supports matériels audio; sinon, suivre l’instruction RDA telle qu’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atique BAC/BAnQ : Suivre l’instruction RDA telle qu’écrite et toujours employer l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unités 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ratique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publications en série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ter que la dimension n’est pas un élément fondamental pour les publications en série et les ressources en li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2392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is vous pouvez l’enregistrer si vous le vou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84CFA0C-0B6E-45FC-A6DE-967FE460E5A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Livr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00 $a 123 pages, 28 pages no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numér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text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txt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sans médiation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800" spc="-1" strike="noStrike">
                <a:solidFill>
                  <a:srgbClr val="006666"/>
                </a:solidFill>
                <a:latin typeface="Courier New"/>
              </a:rPr>
              <a:t>volume </a:t>
            </a:r>
            <a:r>
              <a:rPr b="1" lang="fr-CA" sz="2800" spc="-1" strike="noStrike">
                <a:solidFill>
                  <a:srgbClr val="ff0000"/>
                </a:solidFill>
                <a:latin typeface="Courier New"/>
              </a:rPr>
              <a:t>$b nc </a:t>
            </a:r>
            <a:r>
              <a:rPr b="1" lang="fr-CA" sz="28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</a:rPr>
              <a:t>Note : $b est op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16C9701-0BE6-4585-8E76-400D2DF8A60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DVD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DVD       {ou: 1 vidéodisq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animée b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idéodis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DF en lign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ressource en ligne (39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6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7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38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1530132F-FCEF-490F-8458-26AA4A8E6D8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848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Site web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avec cartes, texte et photographi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300 $a 1 ressource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</a:t>
            </a:r>
            <a:br>
              <a:rPr sz="2200"/>
            </a:b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mage fix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informatiqu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ressource en ligne</a:t>
            </a:r>
            <a:r>
              <a:rPr b="1" lang="fr-CA" sz="22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e : si des notices dérivées répètent les sous-zones $a plutôt que la zone 336, vous pouvez les accepter comme elles so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336  $a texte $a image cartographique $a image fixe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7C552FC-5323-4DF6-BE90-0D42A85130C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escription des supports maté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tres éléments des manifestations et de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28E543C-2D08-4E24-A341-776A5B265935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00"/>
                </a:solidFill>
                <a:uFillTx/>
                <a:latin typeface="Arial"/>
              </a:rPr>
              <a:t>Livre avec un accompagnement (CD de conférence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CA" sz="2200" spc="-1" strike="noStrike">
                <a:solidFill>
                  <a:srgbClr val="ff0000"/>
                </a:solidFill>
                <a:latin typeface="Arial"/>
              </a:rPr>
              <a:t>$3 et $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00 $a 244 pages ...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+ $e 1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text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6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parole énoncé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sans médiation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7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 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livre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volume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338 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$3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CD $a </a:t>
            </a:r>
            <a:r>
              <a:rPr b="1" lang="fr-CA" sz="2000" spc="-1" strike="noStrike">
                <a:solidFill>
                  <a:srgbClr val="006666"/>
                </a:solidFill>
                <a:latin typeface="Courier New"/>
              </a:rPr>
              <a:t>disque audio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2 rdacarr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Arial"/>
              </a:rPr>
              <a:t>Note :  </a:t>
            </a:r>
            <a:r>
              <a:rPr b="1" i="1" lang="fr-CA" sz="2000" spc="-1" strike="noStrike">
                <a:solidFill>
                  <a:srgbClr val="ff0000"/>
                </a:solidFill>
                <a:latin typeface="Arial"/>
              </a:rPr>
              <a:t>L’utilisation du $3 est optionnelle dans cet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épé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one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244 pag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$a 1 CD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 lieu de $e, peut donner un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000" spc="-1" strike="noStrike">
                <a:solidFill>
                  <a:srgbClr val="ff0000"/>
                </a:solidFill>
                <a:latin typeface="Courier New"/>
              </a:rPr>
              <a:t>500</a:t>
            </a: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$a Accompagné d’un CD publié pa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65566D6-8018-4DD7-862C-819BC7A3BC34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4120" y="188244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D d’histoire ora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ivre audio Playaway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layaway (ou 1 lecteur audio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 ou 1 lecteur numériqu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édi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tr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51199C7-9020-4CBA-84CB-5C99F1BE966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Ensemble multi-supports (contient un livre au sujet d’un pompier, un CD de narration et un casque de pompier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D, 1 livre, 1 casque en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l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parole énonc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ext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or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tridimensionne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disque audio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ob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562284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1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CA" sz="1600" spc="-1" strike="noStrike">
                <a:solidFill>
                  <a:srgbClr val="ff0000"/>
                </a:solidFill>
                <a:latin typeface="Verdana"/>
              </a:rPr>
              <a:t>L’utilisation de plusieurs sous-zones $a dans la zone 336 est acceptable si c’est une notice dérivée, mais pour du catalogage original, LC enregistre des zones 33X séparées</a:t>
            </a:r>
            <a:r>
              <a:rPr b="1" lang="fr-CA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DFE42F0-2497-4634-837C-554672BBCA21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Exemples :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300 $a, 336-33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partition de chant (xii, 300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noté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volum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arte géographiqu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300 $a 1 c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image cartographiqu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rda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7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sans médiation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338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a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feuille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$2 rda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C00078D-D7A4-4134-8BF0-C5ECD1E02172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éléments des manifestations et des i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Arial"/>
              </a:rPr>
              <a:t>Information relative à l’acquisition et à l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odalités d’acquisition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ordonnée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accès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trictions d’usage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URL (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DA22755-C27A-48B4-9993-318461F4979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odalités d’acqui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: En général, ne pas donner de prix ou d’autres informations d’acquisition sauf pour les partitions en location ou le matériel de performance e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020  $a 0460044524 : $c matériel en 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77B60E1A-15C1-45FB-A2DE-631F635A058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Coordonn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les coordonnées d’un éditeur, d’un diffuseur ou d’un distributeur, etc. si elles sont jugées importantes pour l’acquisition ou l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037 $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Haworth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Alabama Department of Archives 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93"/>
                </a:solidFill>
                <a:latin typeface="Courier New"/>
              </a:rPr>
              <a:t>624 Washington Avenue, Montgomery, AL 36130-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D987564-4485-4695-BCE5-08439A668FDC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accè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412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registrer toutes les restrictions d’accès à la ressource y compris la nature et la durée de la restriction de manière aussi précise que possible. L’absence de restrictions peut également être notée si elle est jugée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Accès restreint aux abonnés via un nom d’usager et un mot de passe ou une authentification d’adress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CB73B48-2CFC-41F6-BE6B-96D031AB3387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strictions d’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: La condition fondamentale est limitée aux collections non générales de la  Library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8093"/>
                </a:solidFill>
                <a:latin typeface="Courier New"/>
              </a:rPr>
              <a:t>Le visionnement de ce film est restreint à l’utilisation en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2265BEA-72A7-4154-ADF3-6644FF5AF980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dresse de la ressource accessible en ligne qui est catalog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 4.6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– S’il y a plus d’une adresse URL pour la ressource, toutes les enregist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AA5BF1A-09EB-4687-B0E0-B1F4718B897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Description des supports matéri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pitre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n ne discutera pas des éléments spécifiques pour les ressources de formats spéciaux (films, cartes, partition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emples disponibles dans RDA, dans la documentation MARC et dans la compilation d’exemples de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880AEC0-9675-4A9F-BF6C-27CCB05291F8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dresse UR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hangements nécessitant l’ajout, la révision ou la suppression d’une adresse U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4.6.1.4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on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la pratique LC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pour deux situation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n’est plu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Quand l’URL original est toujours actif, mais la ressource originale n’est plus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28C03FFD-0142-4E1B-81CF-F3497D4E12F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u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pport d’enregistrement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lectur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 de sill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pist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 bande magnétiqu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figuration des canaux de reproduc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e lecture particulières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6.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6A9D6BC3-5EFE-4BEC-A9CB-DF7A23FE4E9B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ontenant des images anim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cédé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projection (film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vidéo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rme de diffusion (enregistrement vidéo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8EABFF3-9026-4FCB-8F3E-9E4C2B3A7C4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électroniques (fichiers numér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2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at d’encodage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aille du fichier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ésolu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de de rég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esse de transmiss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te de visualisa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2.20.1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quipement ou système requi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4EFBCD5A-5511-44B6-B416-DA17F221C02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cartograph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position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éristiques du fichier numér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ongitude et latitud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longu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chelle des hauteurs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formation supplémentaire sur l’échell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jection de contenu cartographique –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4B14D3A-5FEB-4097-8B60-AF88C5BE02E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Autres caractéris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essources musi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orme de la notation musical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3.3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ésentation de la musique notée (partitions)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istribution d’exécution d’un contenu musical -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2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B77579B5-168A-43F4-A3EF-EACDEF4140E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Remplacement de l’IGGD - 245 $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rois nouvelles zones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u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6.9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médi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2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ype d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upport matériel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-- RDA 3.3 --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34912803-CBD7-4F9A-BDE6-389BEC259F9D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ARC pour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hacune des trois zones pour ces éléments (336-338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a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b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2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ontent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 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media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ou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« 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rdacarrier 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» comme il con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8093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$3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documents précisés – donner si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cela s’app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6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2192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$8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numéro de liaison de zone et de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9423F5C0-FCBE-4A57-A61D-B92684E35873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ocabulaires contrôlés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 Types de contenu, média,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ist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fermée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ans 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6.9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2.1.3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plus d’un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terme 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deux choix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ut donner: répéter l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e terme représentant le contenu/média/support prédominant ou le plus consid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l’information n’est pas connu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non précisé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aucun terme n’est approprié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, enregistrer « autre » et si désiré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avertir un des membres du 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A801A49B-BB1E-4215-8A87-BDE6F8B05BA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 …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e fondamentale de communic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sous laquelle le contenu est exprimé et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sens huma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par lequel il doit être perçu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6.1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contenu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54120" y="554184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 :</a:t>
            </a: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</a:t>
            </a:r>
            <a:r>
              <a:rPr b="1" i="1" lang="fr-CA" sz="2400" spc="-1" strike="noStrike">
                <a:solidFill>
                  <a:srgbClr val="008093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musique exécuté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mage fix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texte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02966EC6-9A2B-4BFA-A225-42051ED5EC0A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mé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ément fondamental L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général de dispositif 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pour visionner, faire fonctionner, faire défiler, etc., le contenu d’une ressour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du tablea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média qui s’applique à la partie prédominante ou aux parties les plus considérables de la res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54120" y="5483160"/>
            <a:ext cx="7912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659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audio 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informatique</a:t>
            </a:r>
            <a:br>
              <a:rPr sz="2400"/>
            </a:b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microforme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400" spc="-1" strike="noStrike">
                <a:solidFill>
                  <a:srgbClr val="008093"/>
                </a:solidFill>
                <a:latin typeface="Courier New"/>
              </a:rPr>
              <a:t>- sans médiation</a:t>
            </a: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76440" y="6442200"/>
            <a:ext cx="3243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84720" y="6448320"/>
            <a:ext cx="2261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D51ADD87-CA08-4AAD-9089-B5FD4F7D2209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Type de support matéri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8093"/>
                </a:solidFill>
                <a:latin typeface="Arial"/>
              </a:rPr>
              <a:t>Élément fo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…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forma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u support de stockage et du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contenant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d’un support matériel combiné avec le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type de dispositif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de médiatio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requis 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rmes listés à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.3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lieu de tout enregistrer, vous pouvez enregistrer le type de support matériel qui s’applique à la partie prédominante ou aux parties les plus considérables de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15960" y="5675400"/>
            <a:ext cx="85280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5680" indent="-2155680">
              <a:lnSpc>
                <a:spcPct val="90000"/>
              </a:lnSpc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Courier New"/>
              </a:rPr>
              <a:t>Exemples: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 </a:t>
            </a:r>
            <a:r>
              <a:rPr b="1" lang="fr-CA" sz="2400" spc="-1" strike="noStrike">
                <a:solidFill>
                  <a:srgbClr val="006666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audio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disque informatique</a:t>
            </a:r>
            <a:br>
              <a:rPr sz="2200"/>
            </a:b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microfiche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	</a:t>
            </a:r>
            <a:r>
              <a:rPr b="1" lang="fr-CA" sz="2200" spc="-1" strike="noStrike">
                <a:solidFill>
                  <a:srgbClr val="008093"/>
                </a:solidFill>
                <a:latin typeface="Courier New"/>
              </a:rPr>
              <a:t>- volume - vidéodisque</a:t>
            </a:r>
            <a:endParaRPr b="1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Riva Pat</cp:lastModifiedBy>
  <cp:lastPrinted>2010-10-18T15:40:26Z</cp:lastPrinted>
  <dcterms:modified xsi:type="dcterms:W3CDTF">2014-11-05T18:19:56Z</dcterms:modified>
  <cp:revision>261</cp:revision>
  <dc:subject/>
  <dc:title>Diapositive 1</dc:title>
</cp:coreProperties>
</file>