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51FADE3E-8A77-4E6C-9C50-47B9E2DE9D16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3550990D-0969-47E8-BEAB-1F2056864BA4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1321CF25-77C2-48A4-AA33-CCC362D9EA73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5328-14BB-4601-9412-C570FF58E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C6CB-E7EC-4288-A7FA-FAA4C2EC0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06F1-56BE-4D74-AD9C-82AAD073B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60A1-E8BE-41CD-B0AC-C635E1DAB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08DD-F997-45A2-BD0A-3FA53F1E8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873E-551F-4333-8E77-CF3455587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E80C-D186-40DB-B6CE-8C957A79E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01AF-5883-4803-820D-7ED693109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1973-C7FA-4E20-B554-14C52B165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A08B-1F83-491F-BEB8-6DD17A58B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B769-260B-44FE-9FA3-44E940E7E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1F22-EE41-4C7A-A506-D1AF089E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B6E058C-1DE2-4E17-958D-B8FEF22771F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142E96-75F2-45F9-BD04-0AEB03FE582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40DD6A6-C523-4C46-94F0-9E87D5B6FB4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1D6458B-BBBC-46C7-B92F-C6ED01D205F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070C016-FC7C-4FEB-A4C2-AB37278EEDA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3FDA71-9783-462B-9489-A8A6F0999A4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9A67E27-56E9-4608-A648-DF8CF222A8D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5B9BB8-DDA0-4E17-B92C-9979F9D2968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D221B3D-9DB9-4618-98C1-C3AA045FBB1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547956F-4C0F-4D0E-8B6B-608B5141CAD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77CF6A4-B60A-473B-8EC8-38119CF307F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1AD619E-C272-4E89-A52C-D34DB52D58B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CED75E7-89CD-4603-8B5A-0EAF8F1FE3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8ADFF0-6FBA-406C-BCB9-EF5FD8DECEB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9F809D-AED6-49ED-96B4-7D0C674BD22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3F28590-E3AE-400E-9288-9D4D8DEC36F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58D8882-01B2-4628-B6FF-4D6B9031D7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C295376-3F42-477A-96C3-25C6F0BDE0C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AEA0AE4-50BC-4DA5-B2FB-BF28EF77CC9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6976C36-07AC-4101-924B-19B04050437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B38A84-0FED-4A10-8D69-4FE84841648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6FED7B8-8859-41E4-86DA-0C8EDA5BC34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1424A92-A5D8-468A-AA2E-4E154BE909AE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66F9B85-78E7-4BE8-9841-5D8F6149039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1B23C3E-63DF-475B-84D0-4265D83F35B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16E1823-5CBB-4689-8C3B-B23C0B1F821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8BD4ACED-3547-4FEA-B0A5-52398AAD72F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8203EB2-A69B-43A6-868B-31CA390336F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3B9D884-236E-4E72-9301-D3EF8778ECB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B0512D9-D249-4401-9617-95F9118E788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FBC476D5-5476-4B35-B034-C23EAC96C81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AB539BD-3190-4BFA-958A-3D1407C540E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72F9B57-6318-45EE-BC64-7BCEC47E250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82FA3CE-BD4D-4AED-AB65-845BEE450E8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51E3432-FF34-4A2B-8494-D811D0C853F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12-06T16:58:56Z</dcterms:modified>
  <cp:revision>258</cp:revision>
  <dc:subject/>
  <dc:title>Diapositive 1</dc:title>
</cp:coreProperties>
</file>