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0083-1F65-41F7-B53D-EC712522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3AE1-2644-4FF0-AA2F-31994C10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CF4A-2CA7-4EB6-A4C4-467B914D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6EF5-22B5-4A0B-BD29-36B43A31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B6E2-227B-4392-A74C-656DD4B4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C2F3-16D3-49BF-98D9-56151CF0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B8E9-E0DB-4946-91D0-944CBE24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54F-2AE6-44A5-88BF-8A558693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59BA-B0CC-4E1A-A95A-94CA4184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DC4-5B21-4D10-BDD1-F7FFF4D7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6223-D70A-415E-AA74-50498BD7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051B-70E9-4F69-AEEA-2E605B9B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79BA1-9153-4EA6-841A-3BD7E6A29B4F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Mention de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1_ $a Tendances et débats en développement régional ; $v n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mé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830 _0 $a Tendances et débats en développement régional ; $v n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0_ $a Tendances et débats en développement régional ; $v n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mé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Pat Riva</cp:lastModifiedBy>
  <dcterms:modified xsi:type="dcterms:W3CDTF">2013-04-12T20:58:41Z</dcterms:modified>
  <cp:revision>3</cp:revision>
  <dc:subject/>
  <dc:title>Diapositive 1</dc:title>
</cp:coreProperties>
</file>