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2D13-443F-4270-B837-0CAB7594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426E-5969-4A39-AA7E-3515000C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E955-2149-4D58-9B1A-52E55DE7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F850-CB88-4D94-BE4E-B52967B6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E274-F7D7-41BF-8D9D-7258D102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F2AC-36B3-45AF-A982-F5E03EA7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4E0C-027A-41A5-A7EF-59634E72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3D38-5878-430D-84E4-01A9252F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8963-76E7-4EC0-B9D5-8F18BD3F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A940-AB95-428E-9734-5754FBA2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1964-4B43-40D2-9089-2EA57084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D57D-C608-4EF8-ADDC-1E4ADAB6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BE989-911A-496F-B70A-B788B6CC85C5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d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arti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Mention de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490  (aucu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490 1_ $a Tendances et débats en développement régional ; $v n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umér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o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830 _0 $a Tendances et débats en développement régional ; $v no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490 0_ $a Tendances et débats en développement régional ; $v n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umér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o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3:46:30Z</dcterms:created>
  <dc:creator>Pat Riva</dc:creator>
  <dc:description/>
  <dc:language>en-US</dc:language>
  <cp:lastModifiedBy>Pat Riva</cp:lastModifiedBy>
  <dcterms:modified xsi:type="dcterms:W3CDTF">2013-04-12T20:58:41Z</dcterms:modified>
  <cp:revision>3</cp:revision>
  <dc:subject/>
  <dc:title>Diapositive 1</dc:title>
</cp:coreProperties>
</file>