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58920" y="730080"/>
            <a:ext cx="47908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82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4AC06-FD6E-4DBE-969B-295EE109CA87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28290-08F9-4267-B3AB-7E4651B0F2BA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FEBA0-E976-4AC1-9940-888074656F2C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637CD-00E1-4771-8889-E57F44747BC4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534DE-38D5-4521-846B-05E9461C21CE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42510-457F-44EA-B55A-909D715C1E1F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43933-6506-4D12-A67A-75D662B57AF6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FC3-CC59-4E5D-9FE5-C7BA37F4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695-A27F-4EB8-B1F3-BFE733ED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921-AA90-455C-9BCA-FA21BDF3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86F-8D19-407B-B628-EBE6F89E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259-6B69-4859-8FA6-CD4F937E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0FD-3793-46BA-9E18-1B4338B4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637-5779-4D1C-B643-17990892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231-0169-48B0-B68C-2AC598F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332-8BF7-471F-B4B3-EAEA5076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442-C7C2-43C1-B21D-5095B635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D4F-81F0-433B-A18E-0AA5CDDC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504-FBEC-4B2E-AF7E-0DC61213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4AE7-69ED-48B6-8CDD-DC8F54E8321B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s de public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692360"/>
            <a:ext cx="9145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 ; $a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CRDT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DEQ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$a [Saguenay, Québec]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, 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 (Province)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acultatif d'ajouter aus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2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distribution, GRIDEQ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 $c ©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cp:lastPrinted>2014-04-14T20:13:04Z</cp:lastPrinted>
  <dcterms:modified xsi:type="dcterms:W3CDTF">2014-05-01T20:18:09Z</dcterms:modified>
  <cp:revision>9</cp:revision>
  <dc:subject/>
  <dc:title>Diapositive 1</dc:title>
</cp:coreProperties>
</file>