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F3BCA-DF74-4A0D-86F3-57E6D174F516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C0F-CBEA-4A8C-97A5-278B9892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895-64B6-43EC-B7DF-3BA90AAD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31D2-008E-4D93-84B3-2E0DF0E1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6DD-C97C-48AE-990B-6E959A03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BB9-E501-4B55-B8DB-615E8EEB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5E5-E45F-4B80-B453-3C60A018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518-A3E4-4F82-B800-AB95BFC1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236-F63F-4A72-8FF1-3E0A35CC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897-AEBE-477B-B27F-A5EA7934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62A-D403-43E1-9496-F0B4D0C0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758-7FE2-4BBE-ABB4-096CC7D8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9C4-E3A7-4D9F-AE94-6307999E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6470A-0704-4EA3-8D59-8C5AE626EAFA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itres et mentions de respons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: $b guide pratique pour passer à l’action : huit grands secteurs d’activités / $c Marie-Paule Dessaint,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 Ph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/ $c Marie-Paule Dess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: $b des enjeux pour la gouvernance des territoires locaux et régionaux / $c sous la direction de Martin Simard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Danielle Lafontaine, Sébastien Savard, Marielle Tremblay, Pierre-André Tremblay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ition et révision finales, Jean Larrivé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30 $a Des enjeux pour la gouvernance des territoires locaux et rég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/ $c sous la direction de Martin Simard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[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t quatre autres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BANQ</cp:lastModifiedBy>
  <dcterms:modified xsi:type="dcterms:W3CDTF">2013-04-17T20:24:34Z</dcterms:modified>
  <cp:revision>2</cp:revision>
  <dc:subject/>
  <dc:title>Diapositive 1</dc:title>
</cp:coreProperties>
</file>