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9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7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6684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09492416-255F-4899-B28A-4BF24BACD202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30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75952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66840" y="875952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150F558E-6C77-44CB-BCD1-08112D580E9B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B091390B-EBFD-4B37-B2C2-607E956BD0E0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A1E4F3C8-F809-4864-9E1F-E88ECFB7CD3E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E1F12E7B-54F7-4897-9111-B0765E154A18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80577DC3-7BAB-4780-BB5D-BF9826E6C021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26BE18BA-DC53-4F40-9FC2-28789792DA40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53433F0E-4D3C-45E6-89AE-729036750B57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2CD05F58-63BE-42A4-A7B8-8C991056080D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F0A243D4-92A5-43C9-B399-65629F09601A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03662597-C06D-4DE5-9087-E8B142F3945A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7A070E51-8051-4851-976F-99F0690C7F45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9A647018-3AB7-4823-9C5E-6E5AB489FF88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ECD6DA37-1681-4FFD-BCA4-469B95C1707E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9902F196-C5BD-4EF9-B3C3-FAF348993FB1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5C8D2430-07B9-4C64-ACC2-990C4FE7AA4C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4F0DCF54-A345-4C7B-9ABE-C69C28E64870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768E79EE-FBC8-48DD-A327-69E3161EAA20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22250561-52A3-4548-924B-BAF3E73D177C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E435E022-2862-447F-89FA-D73D9286BD17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54496971-D906-4AB6-960D-7F141D1B5CF3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A93A38AD-E9F5-4333-90FA-F6121323A5E8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EE0601EE-47D7-4903-82A6-30E50A5D7376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1F694BE0-4C53-4165-B448-BA27A7EF6BF4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974A0361-57B3-427D-B563-4CA636048848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B03FBB91-8AF2-486E-A5EA-FC3580A4FA72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59070D5B-2CD3-42B4-A38C-703FD2F9A90D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5D404245-6171-4384-B3E2-A1E58455AA5D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D7A740EC-FBE6-4DAC-AD38-36AE39A8E02D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4CD67CBB-96FF-472E-8715-EF086C6D07A9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A608EE18-BA97-4033-8900-B6F4D3DDA7E8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AE5F7FAB-7ED2-47FF-8FF8-635031A40D66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1A3B968C-9D61-4B05-BCC7-096B9E207F0E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75DCF89F-B701-4959-A96A-F6D0B62CE73E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3A712356-668D-441C-B89A-A63AA6760CAA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99B9FDE6-DE1D-48D0-A1F2-E1AFAECBF273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74DCF2A9-0BD1-4047-93FA-EFA246407FED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ECBCFB0C-C662-4DF4-AEEE-97EBD9D87AEC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B1983143-0970-4211-900E-419AB1B5F7A0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C0C43A25-4716-4DCC-A217-EA90E05EFBAA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FC18D8A9-2119-4F34-B257-876FC452CC47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56421E-28AD-4349-B7F9-586CBAB74528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416E22F7-1F13-4A56-AC79-032EEE7222C8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37E440EA-D6D9-46C1-8384-C49D428D3B9B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321A604B-55DA-4BDA-ACBA-79E3C0BCA73C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01CA32E9-3166-4C99-97F9-78000389EE9E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2012C158-9E02-4FB0-B268-17EC358C5A73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2A3C5B1A-7F96-4C6C-B5B5-50179C26D2EA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C6A6C982-55C4-4CA2-861B-A2B96571BC5C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1D6F6-394E-46C6-A2DD-641615833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4738B-8269-4324-8FE2-437A55869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E4956-B1B4-4CC4-87E1-57B0830F0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60516-667B-4260-983E-C4AE9DA4CE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43224-5667-4714-B234-8762F8951C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7689A-B29D-4339-8FF2-CBB657F56D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7F604-5AE5-49F4-9FC6-2D477675C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69AD0-9DFD-40C6-A30F-0DA095C30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4120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04805-B626-426E-9491-871C1D8130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3ABF5-F8B6-4A6A-8564-4AFCC6777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CA9CD-CE60-4514-BFFA-3C63A1BEE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50FEB-46BA-4C57-ACDA-22F995175F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7" descr="bandeauux ppt6.jpg"/>
          <p:cNvPicPr/>
          <p:nvPr/>
        </p:nvPicPr>
        <p:blipFill>
          <a:blip r:embed="rId2"/>
          <a:stretch/>
        </p:blipFill>
        <p:spPr>
          <a:xfrm>
            <a:off x="0" y="2412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60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0FA50C7-988F-4B28-B836-6B8E7564F9F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rdatoolkit.org/translation/french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rdatoolkit.org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hyperlink" Target="http://www.rdatoolkit.org/translation" TargetMode="External"/><Relationship Id="rId2" Type="http://schemas.openxmlformats.org/officeDocument/2006/relationships/hyperlink" Target="http://spectrum.library.concordia.ca/7638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7" descr="Image BAnQ.jpg"/>
          <p:cNvPicPr/>
          <p:nvPr/>
        </p:nvPicPr>
        <p:blipFill>
          <a:blip r:embed="rId1"/>
          <a:srcRect l="0" t="6063" r="0" b="0"/>
          <a:stretch/>
        </p:blipFill>
        <p:spPr>
          <a:xfrm>
            <a:off x="0" y="0"/>
            <a:ext cx="9150480" cy="47275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9"/>
          <p:cNvSpPr/>
          <p:nvPr/>
        </p:nvSpPr>
        <p:spPr>
          <a:xfrm>
            <a:off x="657360" y="5464080"/>
            <a:ext cx="602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ZoneTexte 33"/>
          <p:cNvSpPr/>
          <p:nvPr/>
        </p:nvSpPr>
        <p:spPr>
          <a:xfrm>
            <a:off x="685800" y="4800600"/>
            <a:ext cx="8486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Étapes préparatoires avant l’implantation RD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8"/>
          <p:cNvSpPr/>
          <p:nvPr/>
        </p:nvSpPr>
        <p:spPr>
          <a:xfrm>
            <a:off x="677880" y="5799240"/>
            <a:ext cx="6027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Danielle Poirier et Pat Riv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Direction du traitement documentaire des collections patrimonial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Centre de conserv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7" descr="BANi2c"/>
          <p:cNvPicPr/>
          <p:nvPr/>
        </p:nvPicPr>
        <p:blipFill>
          <a:blip r:embed="rId2"/>
          <a:stretch/>
        </p:blipFill>
        <p:spPr>
          <a:xfrm>
            <a:off x="7086600" y="5883120"/>
            <a:ext cx="1925640" cy="822600"/>
          </a:xfrm>
          <a:prstGeom prst="rect">
            <a:avLst/>
          </a:prstGeom>
          <a:ln w="0">
            <a:noFill/>
          </a:ln>
        </p:spPr>
      </p:pic>
      <p:pic>
        <p:nvPicPr>
          <p:cNvPr id="53" name="Image 8" descr="bandeauux ppt.jpg"/>
          <p:cNvPicPr/>
          <p:nvPr/>
        </p:nvPicPr>
        <p:blipFill>
          <a:blip r:embed="rId3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D01796E-FDA9-4D59-A247-7091CD996FF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ncipes utilis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repose sur l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es internationales de catalog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FLA 2009) qui actualisent les Principes de Paris (de 196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s'aligne sur les modèles conceptuels de l'IFLA FRBR et F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527197C-97AD-4421-BF7F-D46D4B43454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54120" y="20304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ns ut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Données liées à la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ff0000"/>
                </a:solidFill>
                <a:latin typeface="Arial"/>
              </a:rPr>
              <a:t>http://data.bnf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OCLC Work Records</a:t>
            </a:r>
            <a:br>
              <a:rPr sz="2000"/>
            </a:b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http://www.oclc.org/research/activities/workrec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Classify</a:t>
            </a:r>
            <a:br>
              <a:rPr sz="2000"/>
            </a:b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http://classify.oclc.org/classify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11F04FF-94C8-44AA-A63E-817143BCBEB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371600" y="4273560"/>
            <a:ext cx="6400800" cy="13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erci de votre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690480" y="1882800"/>
            <a:ext cx="3919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égion de Montréal : 514 873-1100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ns frais, d’ailleurs au Québec : 1 800 363-9028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RANDE BIBLIOTHÈQU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75, boulevard De Maisonneuve Es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5C4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 DE CONSERVATION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75, rue Hol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G 3H1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S D’ARCHIVES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bitibi-Témiscamingue et Nord-du-Québec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7, rue du Terminus Oues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uyn-Noranda (Québec)  J9X 2P3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-Saint-Laurent et 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spésie–Îles-de-la-Madelein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37, rue Moreaul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imouski (Québec)  G5L 1P4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Point de service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0, boulevard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spé (Québec)  G4X 1A9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ôte-Nord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00, boulevard Laure, bureau 190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pt-Îles (Québec)  G4R 1Y1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8"/>
          <p:cNvSpPr/>
          <p:nvPr/>
        </p:nvSpPr>
        <p:spPr>
          <a:xfrm>
            <a:off x="5262480" y="2336760"/>
            <a:ext cx="359892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stri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Frontenac, bureau 401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herbrooke (Québec)  J1H 1K1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uricie et Centre-du-Québec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des Forges, bureau 208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ois-Rivières (Québec)  G9A 2G7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ntré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35, avenue Viger Es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2P3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utaouais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55, boulevard de la Gapp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ineau (Québec)  J8T 8H9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Québec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villon Louis-Jacques-Casaul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mpus de l’Université Laval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055, avenue du Séminair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Québec (Québec)  G1V 4N1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guenay–Lac-Saint-Jean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930, rue Jacques-Cartier Est, bureau C-103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aguenay (Québec)  G7H 7K9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Image 9" descr="bandeauux ppt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9748815-680A-4B38-8B3B-209FAB93520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uvelle terminolog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d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dette princip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uni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uniforme collec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voi 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voi voir au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17560" y="1600200"/>
            <a:ext cx="446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'accè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'accès pour l'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collectif conventi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te de point d'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'accès pour une ressource en 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A9B7602-B06F-4DC1-B205-652EF1630FA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DA et RCAA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érences importan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41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e sur les principes et tâches des utilisateu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 basée sur les entités et rel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ce qu'on voi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 pas abréger si pas abrégé sur la 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GD remplacé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ise les listes de termes contrô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2DD4194-50BA-48D6-99F4-65A1A02AD355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DA et RCAA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érences importantes (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e sur les relations entre ressources et entité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ilité de plus de points d’accès (sans règle de tro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de l'œuvre représentée par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s de données indépendants, pas organisés en zones d'informations ISB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e de contenu et non d'affichage, l'affichage ISBD reléguée à une ann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B91299D-C018-4DFD-AFF0-7C14AF624349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e évolu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 la plupart des instructions ne sont pas vraiment différent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ement exprimées dans un nouveau vocabulaire et réordonné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ucoup de connaissances transférab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 nouvelle façon de voir l'information 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f aperçu de FRBR et FR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2B0C9A6-5903-45C6-9559-182941D295F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de FRBR/FRAD pour comprendre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concepts et la terminologie FRBR et FRAD sont intégrés à la structure de RDA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 texte de RDA est organisé sel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es attributs des 11 entités bibliograph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es relations par groupes d'entités</a:t>
            </a:r>
            <a:br>
              <a:rPr sz="2000"/>
            </a:b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tâches des utilisateurs sont omniprésentes dans le text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vorise l'application du jugement du catalogu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F49CC22-8F52-4244-B40A-0F033AB4AC5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odèles de l'IFL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FRB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Functional Requirements for Bibliographic Records (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 français: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Spécifications fonctionnelles des notices bibliographiqu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, publié par la Bibliothèque nationale de France en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FRA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Functional Requirements for Authority Data (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 français: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Fonctionnalités requises des données d’autorité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, traduit par la BnF en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4D2E41A-2228-44E1-94F7-960B2894BF2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éthodologie FRBR et FR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odèle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ntité-rel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E-R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éfinition de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ntité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catégorie d'objet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ste de leur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attribu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éléments de donnée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dentification de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relation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liens) entre les entités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rrélation avec les quatre types d’opérations effectuées par les utilisateurs (les tâch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7AF5462-C185-40F0-934D-3B2C853FBA05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âches qu’accomplissent les utilisateurs (FRB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Trouv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ressources qui correspondent aux critères de recherch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Identifi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une ressource qui correspond à celle recherchée par l’utilisateu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Sélectionn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hoisi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une ressource qui soit en adéquation avec ses besoins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Obteni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avoi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accès à la ressource déc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2977086-2539-4CED-9038-4899733226F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sage à RDA : étapes préparatoi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ésentation des principales étapes nécessaires au passage à la norme RDA, soit, les étapes de préparation du personnel au paramétrage de votre SIG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108C116-6123-40A2-A437-C542F0B03B1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âches qu’accomplissent les utilisateurs (FRA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Trouv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entités qui correspondent aux critères de reche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Identifi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une entité (confirmer qu'elle correspond à celle recherch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ontextualis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larifi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Situer une personne, une collectivité, une œuvre, etc. dans son contex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Justifi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omprend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quoi un nom ou un titre en particulier, ou une forme du nom ou du titre, a été choisi comme le nom ou titre préfé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8101CF9-5390-4724-9CEE-873925AB933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Groupes d'entités FRB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roupe 1 (œuvre, expression, manifestation, item) : productions artistiques ou intellectu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roupe 2 (personne, famille, collectivité) : responsables des entités du group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roupe 3 (concept, objet, événement, lieux) : sujets des œuvres (avec les groupes 1 et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C84529D-335A-427A-8AD2-CA164DB47F3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ntités du Groupe 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ont le cœur de la notice 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 entités abstraites reflètent le cont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 entités concrètes reflètent la présentation matér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manife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2F8FD71-0F58-4D5D-984B-D9AAF330508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xemplai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solé d’une 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bjet concret, généralement matériel, présent dans les collections des bibliothè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eut comprendre plusieurs parties (volumes d'un ouvr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Attribu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identifiant (cote, code à barres), prov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6352274-F662-42B2-99C5-63CEA950346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matérialis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e l’expression d’une 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'ensemble des exemplaires ayant les mêmes caractéristiques, aussi bien la présentation matérielle que le cont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urrait être une édition commerciale, ou un objet unique comme un manuscrit d’au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Attribu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beaucoup! Titre propre, mentions de responsabilité, d'édition, date de publication, nombre de pages, ISBN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D98F84C-8D50-415A-B5D3-B53F11796AE5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réalis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ntellectuelle ou artistique d’une 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a forme intellectuelle ou artistique spécifique que revêt une œuvre lorsqu’elle est réal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mots spécifiques qui forment un texte, les notes spécifiques d'une œuvre musical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Attribu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langue, forme d'expression (textuel, sonore, im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3E2C6B0-071E-46D2-9405-9C495B95A86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Œuv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ré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ntellectuelle ou artistique détermi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bstraction du contenu commun de ses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éside dans une identité de contenu au sein des diverses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e correspond à aucun objet matériel iso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Attribu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forme (poésie, roman), date et contexte de création orig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C41702C-D4B4-41C4-AFAA-B238B17BE415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Qu'est-ce qu'un “livre”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J'ai perdu mon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livre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Il faut commander ce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livre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J'aimerais lire ce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livre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en franç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Ce film s'inspire de mon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livre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préfér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44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ife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Œu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37A2157-780E-4C73-B487-8227FCDEEAC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lations principales du Groupe 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E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trouve sa réalisation d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se concrétise d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st représentée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AB9A400-1C60-4B1F-A303-6301CE00B33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lations principales du Groupe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ERS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M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LLECTI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responsable(s) p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tités du group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œuv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9906FD3-FA5C-46B8-A7D4-D8106997E83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de la 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à RD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f aperçu de FRBR et FRA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uction française de RD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endrier d’im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59F0C84-6DCB-4FB2-830F-E6C1AB81B00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ntités du Groupe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nt la responsabilit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u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ontenu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ntellectuel ou artistique d'une œuvre ou d'une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e la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roduc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matérielle et de la distribution d'une 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e la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ossess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'un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FE70FFC-EBA3-4D5E-9399-3DF7B90B997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lations principales du Groupe 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B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VÉ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+ entités des groupes 1 e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sont les sujet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'entité du group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93132B4-CDD1-4BD3-9432-31D591B479D9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elations dans le catalog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réent un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end possible les tâches </a:t>
            </a:r>
            <a:r>
              <a:rPr b="0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Trouver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ermettent la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04BE3E3-7CCC-42C6-9553-298BA600CA5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elations bibliograph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tre les entités du Group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Œuvres (p. ex. suppléments, adaptations, ensemble/part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xpressions (p. ex. révisions, tradu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nifestations (p. ex. reproductions, formats alternati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B726E31-7CB6-4754-B2AB-7646DCC261F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odèle FR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TITÉS BIBLI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sont connues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MS et / ou IDENTIF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avec lesquels sont formés 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INTS d'ACCÈS CONTRÔ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28EEEB2-8DD8-400F-917B-4B56759FB5B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ntités FRAD dan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’occupe de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donné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'autorité, pas des no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éparation entre le Nom (ou Identifiant) et le Point d'accès contrôlé basé sur le 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formes préférées et les variantes de forme du nom sont des Points d'accès contrô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uction française de RD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2EFD2F3-2195-4D54-9000-C8ADCC2D8DB5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raduction de la norme en franç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quoi une traduction en franç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ente avec l’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enai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STED, BAC, BAnQ,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A63B146-2C64-4712-9089-9E864C5D462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éthodologi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268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a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268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268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lecture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"/>
          <p:cNvPicPr/>
          <p:nvPr/>
        </p:nvPicPr>
        <p:blipFill>
          <a:blip r:embed="rId1"/>
          <a:stretch/>
        </p:blipFill>
        <p:spPr>
          <a:xfrm>
            <a:off x="3112920" y="2392200"/>
            <a:ext cx="5480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83FB5FE-FB3F-43E8-A2B5-C252172D9AE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État d’avanc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DA en franç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ssaire : dès mainten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pie imprimée RDA : janvier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se en ligne, RDA Toolkit : février ou avril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708E2CF-7136-4F11-99D6-71FDC97692D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de la 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paration local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émonstration du RDA Toolkit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ngements au MARC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7944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ices bibliograph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7944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ices autor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B911A30-0D09-4D8C-B606-EBC7B6E869C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Gloss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76440" y="1662120"/>
            <a:ext cx="82072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rdatoolkit.org/translation/fr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192320" y="2198520"/>
            <a:ext cx="618336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endrier d’implant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1817B9D-8BED-49D9-B0EF-2E830E239AC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nisseurs de not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 : transition terminée le 31 mars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Q : début à la fin de janvier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Québécois de Traitement Documentaire : 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C320688-25E9-4A61-A758-347BF8D5D0F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us conti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e 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s à jour de la no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uction des mises à j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s de notices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volution des SI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éparation local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55BA0A0-AAEF-499B-B7E6-C811B22CBB6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se prépar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 implique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able du SI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 des services techniq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tement documen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qui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 à la réfé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B7B3A64-6A80-4017-92F1-C9B53816C5A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se prépar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préparation, principales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iarisation avec RDA, documentation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étrage du SI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de la norme, choix des options R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e à jour des procédure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58088B9-2AC3-4BAA-80DD-85D59FBF94C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miliarisation avec la nouvelle nor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bonnement au RDA Tool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ctur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sionnement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a docu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ff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"/>
          <p:cNvPicPr/>
          <p:nvPr/>
        </p:nvPicPr>
        <p:blipFill>
          <a:blip r:embed="rId1"/>
          <a:stretch/>
        </p:blipFill>
        <p:spPr>
          <a:xfrm>
            <a:off x="3581280" y="2262240"/>
            <a:ext cx="434340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EA04CD3-F447-493C-8504-636F9C8D84D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orm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français, en ang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ligne ou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ation en pers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udget alloué aux 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ateurs ou tout l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8C7E434-2911-4D7D-B1B1-2EB8D16011A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métrage du SIG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ments au format MARC 2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 et modifications de zones MAR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3035160" y="2901960"/>
            <a:ext cx="42260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58FE552-8310-4AA5-94CE-FA6305E8596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de la 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étrage de votre SI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4572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nes MARC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4572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dereaux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4572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de reche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4572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erelles d’importation et d’exportation de no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4572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ichage des donn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nement hybri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s offe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9E69C43-FE23-4F0D-92B5-2998BE567D8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pplication de la nor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dentification des changements possibles de vos procédures de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écisions sur les choix d’options et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litiques locales actu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ypes de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iveau de catalog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DB4F207-85A4-4813-8771-40368371F7A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cuments intern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e mémoire pour le vocabulaire RDA et FR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e mémoire pour les nouvelles zones MARC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aux de correspondance RDA et zones MARC 2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RDA Toolki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3EBA85A-D7F9-4727-AFFC-8FB2B856D7A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DA imprimé ou en lig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DA imprimé ou en li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mbre de cop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mbre d’acc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DA Tool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ès : reconnaissance IP ou personnalis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ssai avant l’abon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2EA0C59-712B-48D4-A031-2D91218404D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émonstration du RDA Toolk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rdatoolkit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"/>
          <p:cNvPicPr/>
          <p:nvPr/>
        </p:nvPicPr>
        <p:blipFill>
          <a:blip r:embed="rId2"/>
          <a:stretch/>
        </p:blipFill>
        <p:spPr>
          <a:xfrm>
            <a:off x="1038240" y="2460600"/>
            <a:ext cx="702936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ment au MARC 21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34A2850-AF98-4D99-9A9B-14CB483D705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DA en MARC 2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cénarios d'implantation de RDA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ur l'immédiat, RDA en MARC 21 avec des notices bibliographiques et d'autorités distinctes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ffichage avec ponctuation ISBD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ventuellement, un nouveau modèle d'encodage de no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Bibliographic Framework Transition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http://www.loc.gov/marc/transitio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77304B7-FA73-42E0-9200-E159847821F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CC24E75-10B2-4A0C-A400-821B57E2690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/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odifications 9 (2008) à 15 (septembre 2012) comprennent des changements liés à 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ssues du MARC/RDA Working 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ésumé : http://www.loc.gov/marc/RDAinMARC-10-12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RC 21 en français : http://www.marc21.ca/040010-235-f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DC7FFB5-4D7A-41A3-9085-2EAD94A8159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onnaître une notice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Guide/18 =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(ISBD) si la ponctuation ISBD est appliquée entre les sous-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ec 040 $e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rda</a:t>
            </a:r>
            <a:br>
              <a:rPr sz="2000"/>
            </a:b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to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008/10 = z (autres règ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ec 040 $e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rda</a:t>
            </a:r>
            <a:br>
              <a:rPr sz="2000"/>
            </a:b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épé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833AD13-5545-4B97-9D9E-A3553E1C68F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dage qui dispara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5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[IGGD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/ $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ntion de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IGGD (ou GMD) des RCAA2 n'existe pas en RDA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placé par 3 nouvelles zones (336, 337, 338) dans les notices bibli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à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9C3CB59-DABD-4433-B727-DA2FC26C3F3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36 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e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06 (exista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uve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rme de RDA 6.9.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oc.gov/standards/valuelist/rdaconten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8760D7A-11CB-4CB5-A8DB-EA3E6CC3E35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37 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igatoire (LC, BAC, BAnQ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7/00 (exista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uve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rme de RDA 3.2.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oc.gov/standards/valuelist/rdamedia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20DAFC2-49AA-44C7-A971-6F3C94A7932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EE59845-4F6D-4482-AEF4-A0E053EE3A8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38 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en RD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7/01 (exista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 quelques nouveaux codes spécialisés (types de microfilms, supports informatiques, documents iconographiques, film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uve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rme de RDA 3.3.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oc.gov/standards/valuelist/rdacarrier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9D22166-B18E-4EEE-80C6-845708C4B93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v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6 ## $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text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vre en bra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6 ## $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texte tacti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5915381-5913-4FDE-A263-F8CBA8875E5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2BF2175-A4D3-4EB8-85FD-840FC1ECBCD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cument électronique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7 ## $a informatique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8 ## $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ressource en lign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$2 rdacarrie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cument électronique sur cédé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7 ## $a informatique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8 ## $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disque informatiqu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D293FDD-5EFC-46D5-940B-2B1ACDB2B76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ation, distribu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 utiliser en RDA! Remplacé pa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épé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ur 2 précise la fonction de la men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= Production (document non publi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=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= Diffusion ou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= Fabrication ou manufacture (im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= Date de copy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7D9C60B-76E1-4357-8EC6-6C10CB44F54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3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existe avec des nouvelles zones pour des types de ressources spécialis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4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aractéristiques son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4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aractéristiques de projection d'images en mouv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4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aractéristiques vidé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4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aractéristiques de fichier numériq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upport matériel) nouvelles sous-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3787BF6-B49E-43EB-83AB-56CC02E1D67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 grand degré de préci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28 (Numéro d'éditeur)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q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Qualificat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028 02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438 954-2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Philips Classics </a:t>
            </a:r>
            <a:r>
              <a:rPr b="1" lang="fr-CA" sz="2000" spc="-1" strike="noStrike">
                <a:solidFill>
                  <a:srgbClr val="0000ff"/>
                </a:solidFill>
                <a:latin typeface="Arial"/>
              </a:rPr>
              <a:t>$q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(disc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502 (Note de thè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502 ## </a:t>
            </a:r>
            <a:r>
              <a:rPr b="1" lang="fr-CA" sz="2000" spc="-1" strike="noStrike">
                <a:solidFill>
                  <a:srgbClr val="0000ff"/>
                </a:solidFill>
                <a:latin typeface="Arial"/>
              </a:rPr>
              <a:t>$b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Ph.D </a:t>
            </a:r>
            <a:r>
              <a:rPr b="1" lang="fr-CA" sz="2000" spc="-1" strike="noStrike">
                <a:solidFill>
                  <a:srgbClr val="0000ff"/>
                </a:solidFill>
                <a:latin typeface="Arial"/>
              </a:rPr>
              <a:t>$c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Université de Montréal </a:t>
            </a:r>
            <a:r>
              <a:rPr b="1" lang="fr-CA" sz="2000" spc="-1" strike="noStrike">
                <a:solidFill>
                  <a:srgbClr val="0000ff"/>
                </a:solidFill>
                <a:latin typeface="Arial"/>
              </a:rPr>
              <a:t>$d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33 et 518 (Date et lieu d'un évén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490 et 8XX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x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00ff"/>
                </a:solidFill>
                <a:latin typeface="Arial"/>
              </a:rPr>
              <a:t>répétitif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, ISSN de collection et sous-collection dans la même zon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 de diverses valeurs dans les 007 et 008 pour des supports spécialis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AF42078-38C9-4A8A-ACCC-D21AFD17062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uvelles zones (Autorités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nom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614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46 (Dates codé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68 (Autres attributs associé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0 (Lieu associ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1 (Adres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2 (Champ d'activit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3 (Groupe associ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374 (Profession/Occup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375 (Sexe de la person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76 (Renseignements sur la fami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378 (Forme développée du n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799320" y="1600200"/>
            <a:ext cx="208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Person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ami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llectivi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DFB1978-E220-4018-A8D3-408AA21A695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uvelles zones (Autorités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ttributs des œuvres et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7 (Langue associ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0 (Genre de l'œuv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1 (Autres caractéristiques d'une œuvre ou 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82 (Médium d'exéc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83 (Numéro d'identification de l'œuvre music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84 (Tonalité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* mus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D2ACCC5-E8AC-4D28-87C0-AA5C05F16868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urquoi changer les RCAA2 o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urquoi une nouvelle norme 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s des RCAA2 (en origine pour un catalogue sur fic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ègle de tr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éviations, lat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uveaux supports à intégr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e vue anglo-améric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DC79036-9D8A-4532-93B6-E5ED5A8C2C5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eurs de re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ôles ave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1XX, 7XX (exista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entre œuvres, etc. avec (nouveau)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les zones 7XX ou 76X-78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entre personnes, familles, collectivités avec (nouveau)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les zones 5XX de la notice d'autorité (précédé p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B8D0D9F-CBA6-47FF-95B9-616EAC4B09D9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d'indicateurs de re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ôles des personnes, collectivités, etc. associés à la ressour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700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aint-Germain, Michel, $d 1951-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e traduc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700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aint-Germain, Michel, $d 1951-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4 t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annex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E2081C7-EADB-42BF-8CB9-608CB68E832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d'indicateurs de re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elations entres œuvres, express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700 1#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i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Suite de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Carroll, Lewis,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1832-1898.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Alice's adventures in Wond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700 1#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i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Traduction de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enny, Louise,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1958-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till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775 08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i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Réimpression de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enny, Louise, 1958-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 plein cœur.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Montréal : Flammarion Québec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annex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81A4EE4-9409-4DF4-A042-33201632EF4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d'indicateurs de rel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utorité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elations entre personnes, familles, collectiv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10 2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.M. Pei &amp;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500 1#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w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r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i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Fondateu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ei, I. M.,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1917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510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w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ei Cobb Freed &amp;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10 2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Anthony Coleman T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500 1#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w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r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i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Membre du groupe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Coleman, Anthony,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1955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annexe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81BAF38-93A6-473A-BCE7-63429BDCDD2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modifications récen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8/23 (Support matériel du docu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 de valeurs pour documents électro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upport tangible (cédéroms, disquet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 précis que s (électronique) encore per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7 (Pays de l'agence de produ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X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stitution à laquelle s'applique la z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EB79B7B-74E0-44EE-A24A-78D9C65C14F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41 Code de lang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041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uvelles sous-zones, modif #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2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ff"/>
                </a:solidFill>
                <a:latin typeface="Arial"/>
              </a:rPr>
              <a:t>http://www.marc21.ca/040010-1010-f.html#mrcb0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h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Code de langue de la langue origin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k</a:t>
            </a:r>
            <a:r>
              <a:rPr b="0" lang="fr-CA" sz="2400" spc="-1" strike="noStrike">
                <a:solidFill>
                  <a:srgbClr val="0000ff"/>
                </a:solidFill>
                <a:latin typeface="Arial"/>
              </a:rPr>
              <a:t> Code de langue de traductions intermédi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1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k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h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 texte est une traduction française d'un texte en anglais publié à l'origine en suéd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ACEF65A-A983-44AA-A132-77FE88D1C78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41 Nouvelles sous-zones mus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de de langue des livr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ode de langue du livre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rig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de de langue du matériel d'accompagnement autre que des livr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ode de langue du matériel d'accompagnemen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riginal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autre que des livr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582E206-A379-48FA-9033-9634C511EF8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41 Exemple de livret tradu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1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h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us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us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enregistrement sonore d'une œuvre chantée en anglais, traduit à partir de l'original en russe; traduction à l'anglais du livret original en russe; les notes de programme en anglais avec des traductions en français et en all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AA64D71-95A4-4FEB-BE53-BA6591F4648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41 Exemple matériel d’accompagnement mus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1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h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t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t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m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ment sonore d'un opéra italien chanté en français, livret en anglais et italien, notes de programme en anglais et français, mais les notes de programme ont été écrites en allemand à l'ori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E647170-5AD6-4B68-91FD-1BF14162F99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41 Pour les vidéos sous-titr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j</a:t>
            </a:r>
            <a:r>
              <a:rPr b="0" lang="fr-CA" sz="2400" spc="-1" strike="noStrike">
                <a:solidFill>
                  <a:srgbClr val="0000ff"/>
                </a:solidFill>
                <a:latin typeface="Arial"/>
              </a:rPr>
              <a:t> Code de langue de sous-titres ou de libell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041 1# 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j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enregistrement vidéo en anglais comprenant des sous-titres en all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719185B-BCAD-4253-8DB9-7EC643CCF49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énéfices de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re uniforme, flexible et extensible pour la description de ressources de tous gen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ise le jugement du catalogueu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çu pour un environnement numériq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internationa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et de tirer profit des nouvelles technologies et des nouveaux catalog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DB58360-A33D-47D6-B167-71E9A0E54E0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88 Source de la descrip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s notes étaient précédemment dans des notes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information administrative concernant la notice, comme la source de la description ou le dernier numéro consulté 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58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##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de la couver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58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##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cription d’après: no 3 (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métrage de votre SIGB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2BAAECE-E647-44C3-9181-69D91A6F320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 et modifications de zones MARC 2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6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324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44DE531-34CC-4F13-850B-5C0E8506F11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 et modifications de zones MARC 2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s de nouvelles zones, par exemple, 264, 336 à 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s de sous-zones, par exemple, la 700 $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s de codes valides, exemple, 040 $e 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s de valeurs dans des zones fix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C386961-D72C-4DCB-A825-A69B3C47F29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ifications des bordereaux de travai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uide/18 = i (pa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0 $e rda par défa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6/337/338 selon le type d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lever les 245 $h IG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64 ind.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=1 (Publication) par défaut pour des documents publi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84606A4-914C-446F-AF15-99B090AA202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ifications des index de recherch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6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548784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DFD4C41-6F8C-42E0-9BA9-A152049E8AE8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ifications des index de recherch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er les 336/337/338 – choix poss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264 $a et 264 $b aux index lieu d’édition et éditeur (s’il y a lie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urs de 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1 ne pas indexer les sous-zones de langue orig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du fichier d’autorité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6545D78-E87A-4343-B452-590813862BB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serelles d’importation et d’expor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erelles d’importation : ajout des nouvelles zones et sous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erelles d’exportation : ajout des nouvelles zones et sous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assurer que des données ne sont pas perd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4BB03BE-3F7D-4A25-AF84-06FF78DFE22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ichage des donné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ffichage à l’OPA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ices (afficher la 26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facet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ffichage FR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nement hybrid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933D09B-4F89-4D75-85C1-36CC6797EBD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 développe RDA 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JSC = Joint Steering Committee for the Development of RDA (6 membres de 4 pay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stralie = Australian Committee on Cataloguing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nada = Comité canadien de catalogag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rande Bretagne = British Library et CILIP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tats-Unis = Library of Congress et ALA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llemagne = Deutsche Nationalbibliothek (depuis 20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6ED7AED-CB75-4C88-9614-24D8EC81859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Bases de donné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ices RCAA2 et notices RDA vont cohabiter dans la même base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mme les notices RCAA1 avec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uit le principe de continu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base de données collective définira des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exemple, OCLC WorldC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1 seule notice par ressource par lan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transformer RCAA2 en RDA, jamais l'in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211B534-BBC8-4C71-B43A-1A44C0A719E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Notic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ésultat d'ajouts d'éléments RDA à une notice bibliographique RCAA2 exista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scription n'est pas modifiée (transcription dans le 245, etc.) et reste selon les RCA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18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CAA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, avec des points d'accès formulés selo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, avec des éléments techniques RDA (exemple, 336/337/338 ajoutés en lo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9AE0251-C9D9-46D8-99A4-1E0817FF3A7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Notices d'autorité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'accès formulé selon les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d'autorité bonifiée avec les nouvelles zones 046, 37x ou 38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 jamais, un point d'accès partiellement RDA et partiellement RCAA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72DC89E-9112-4295-B768-E4EE18B1B80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Notices dérivés ou mises à j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liorer l'accès à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iger les erreurs de contenu, ne pas changer d'un style à un autre, d'un code à l'aut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de l'information, pas en enlever (sauf si erroné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de RCAA2 à RDA seulement avec la ressource en main pour en faire une nouvell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tions offer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7498BCA-D438-45C6-8B78-32367151EB4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fertes en collaboration avec l’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219320" y="3178080"/>
          <a:ext cx="6324480" cy="1882800"/>
        </p:xfrm>
        <a:graphic>
          <a:graphicData uri="http://schemas.openxmlformats.org/drawingml/2006/table">
            <a:tbl>
              <a:tblPr/>
              <a:tblGrid>
                <a:gridCol w="1581120"/>
                <a:gridCol w="1581120"/>
                <a:gridCol w="1581120"/>
                <a:gridCol w="1581120"/>
              </a:tblGrid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réal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ébec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journé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sentation de la norm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janvier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ar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janvier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journée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sation de la norm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et 15 février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et 19 février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2213C3C-1FF0-4F08-B4C8-32FE25AA79F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des utilisateurs des règles de catalogage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s pour faciliter le passage à la nouvelle norme 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atalogage plus spécialisé, par exemple, par support ne sera pas cou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us les formateurs sont de BAnQ et font partie de l’équipe de traduction de la norme 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60D01AC-2230-4AC0-9EC1-C777BA2F99C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iens ut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lossaire RDA en françai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fr-CA" sz="1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rdatoolkit.org/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Article: 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Paradis, Daniel (2011)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RDA ou le catalogage repensé pour l’ère numérique.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Documentation et bibliothèques, 57 (1). pp. 33-43. ISSN 0315-2340 </a:t>
            </a:r>
            <a:r>
              <a:rPr b="0" lang="fr-CA" sz="1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http://spectrum.library.concordia.ca/7638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Sur le site de la BnF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bnf.fr/fr/professionnels/rda/s.rda_objectif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Présentation Congrès des milieux documentaires 2010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spectrum.library.concordia.ca/7673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Ateliers pour l’ASTED, avril 2011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rda-jsc.org/docs/Riva-Asted-RDA-29-avril-2011.pdf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Version française de la brochure sur FRBR écrite par Barbara Tillett.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loc.gov/catdir/cpso/FRBRFrench.pd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DE45FFC-5F09-45B1-BE91-40DFAFEAA4D5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54120" y="25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iens ut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BnF FRBR et plus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bnf.fr/fr/professionnels/modelisation_ontologies/a.modele_FRBR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Principes internationaux de catalogage, texte officiel en français (2009)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ifla.org/files/assets/cataloguing/icp/icp_2009-fr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Principes internationaux de catalogage, présentation Congrès des milieux documentaires 2010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rda-jsc.org/docs/2-CREPUQ-ICP2010-fre-Riva.pdf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Sites essentiels:</a:t>
            </a:r>
            <a:br>
              <a:rPr sz="2000"/>
            </a:b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JSC :</a:t>
            </a:r>
            <a:r>
              <a:rPr b="1" i="1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rda-jsc.org/</a:t>
            </a:r>
            <a:br>
              <a:rPr sz="1800"/>
            </a:b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RDA Toolkit :</a:t>
            </a:r>
            <a:r>
              <a:rPr b="1" i="1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rdatoolkit.org/</a:t>
            </a:r>
            <a:br>
              <a:rPr sz="1800"/>
            </a:b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MARC 21 changements RDA 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loc.gov/marc/RDAinMARC-10-12.html</a:t>
            </a:r>
            <a:br>
              <a:rPr sz="1800"/>
            </a:b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LC, ressources RDA :</a:t>
            </a:r>
            <a:r>
              <a:rPr b="1" i="1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loc.gov/aba/rd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D778F15-699E-40BE-986E-25099D593D5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54120" y="25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iens ut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Portail de BAnQ, Milieux documentaires</a:t>
            </a:r>
            <a:br>
              <a:rPr sz="2000"/>
            </a:b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http://www.banq.qc.ca/services/services_professionnels/milieux_doc/ressources/traitement_classification/rd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SQTD, RDA</a:t>
            </a:r>
            <a:br>
              <a:rPr sz="2000"/>
            </a:b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http://sqtd.banq.qc.ca/faq/faq-rda.d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Sites avec matériel de formation en anglais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loc.gov/catworkshop/RDA training materials/LC RDA Training/LC RDA course tab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loc.gov/catworkshop/RDA training materials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ala.org/alcts/confevents/upcoming/webinar/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01:42:34Z</dcterms:created>
  <dc:creator>Louise Lecavalier</dc:creator>
  <dc:description/>
  <dc:language>en-US</dc:language>
  <cp:lastModifiedBy>Pat Riva</cp:lastModifiedBy>
  <cp:lastPrinted>2012-10-21T23:42:40Z</cp:lastPrinted>
  <dcterms:modified xsi:type="dcterms:W3CDTF">2012-12-10T17:53:30Z</dcterms:modified>
  <cp:revision>343</cp:revision>
  <dc:subject/>
  <dc:title>Diapositive 1</dc:title>
</cp:coreProperties>
</file>