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9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7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6684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72CFD614-05DC-499D-ACA7-F92220802D08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29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75952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66840" y="875952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8E9C3181-0272-469F-94C2-185DCE6814F4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AF7C4E2C-87D4-497A-8754-8B22A0420752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AAE4DFF5-24ED-4726-856A-BDB94666A116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7A141C5B-47EE-4E28-965E-82AA263688DA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CF77DF0D-885B-48DE-BED5-3E35EAE6F391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8E6764C5-A496-4FDE-8390-4BA894B9D17A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30A0175C-BEC9-41F5-B9CA-3C2A40C013CA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9495802D-3D34-45B7-8E02-0907F47D9F9B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0C080B76-C906-47D4-A581-88A12685C6C9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68B335C0-80F5-4211-9AC0-B4000E37A86C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12D0DD22-7F17-48AB-A47F-AF8DB548E5C9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C664F1FF-7840-41C7-B577-1317E7FE4366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579A988C-2121-406C-A4C1-C00FF85FEFF1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906D1F13-97DF-4928-BA7E-2A610A0EFF7D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8611C604-B48E-49F1-BFCA-A86C7322D837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75329D8E-A08F-4180-BA6E-090B52599B23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42D1B75B-1E8F-484E-8F02-F7DC3683AD8B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032F120C-BF22-4F42-B9D5-B99731C7061D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985EDCD2-0045-4D9F-A37B-2258D40E2F17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D0C9B3FD-3CDC-467E-8A2C-5B7D145472D9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69A358DD-FBFB-42B6-A882-692D1EB19481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EEF2D011-644B-4152-8D79-D3EB3D9D3C42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EB265BFB-51F1-4125-8F5F-8E1C4D428756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8D190FAD-FC11-4DEF-8F07-657F19F14EA8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47CC0E95-B88E-48D0-B232-0243888CE38E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15B001E7-FFC9-4C49-A98C-C17C336CD12B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089264D6-29CF-49D4-B53F-169B934298CB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F26B9392-1EC2-4013-8B5D-063BF93B694F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6D9BD262-8DF2-4E90-8430-F3D0D432E03C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F92D7FC3-F066-4DAF-A3A7-0446F2817630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316C42F1-8FC2-41A0-AFE3-772654F728B1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3176277C-9619-4006-BE8F-E85091D15A8D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7D5C0254-026F-4886-B8DB-0C86F731A8DF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BD832590-B953-4435-83DA-DFDF51A770C4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15E5233F-513D-4409-B1EB-5C3EEE6562AC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B0C7CC49-32D9-4965-84D2-F343161749E9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D5E729E1-491F-4E98-B62D-551AA65FBDBD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E9DF96CB-05B3-4B28-90D2-8531BD2AFE7C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A6BD14F4-FDA7-4328-AC6E-01AB6D5DE3BF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2739A683-8F10-4B63-899F-FE85CB632FF2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F6E9B-42DF-4C90-918A-243081A06F0D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66BE72B1-C655-4F80-883A-8605B11AE184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3DFC9C5F-8862-49DF-AE88-7B940C43203E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10DDFE58-BD7E-4DCC-8F69-CBABAC195A01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B811610F-93C4-4071-B46D-4DCDEF6E36E4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B63A1917-33BA-4237-8C9F-C46515062950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B2CCA5F7-54CE-413D-BFEE-38C779DC8B07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01ADC043-1C15-4892-82EE-37DF69FC93A2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87D23-B065-4CC7-A8E8-DB0E70A65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B10AE-3861-4034-B2CC-873925D95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A4980-4245-4BDB-ADAF-BC9E18253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1E8E9-1FC7-4EF8-A638-028443AFB0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19CB2-58CD-4B22-A930-CB3EB48510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4A0D8-E9B8-43B1-B6D4-E76570A44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0E15A-5326-4E8C-83A8-6A2765E26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077A0-A870-4E5B-8C9D-EAF7FF6FF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4120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96911-2C5F-45E7-B31B-4928DBEBF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6B4CA-567F-43A6-BA37-C4C68C321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1D209-65A7-48EF-8968-104F58F3C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C3066-1FDA-4F25-A8B1-D6DF4810A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7" descr="bandeauux ppt6.jpg"/>
          <p:cNvPicPr/>
          <p:nvPr/>
        </p:nvPicPr>
        <p:blipFill>
          <a:blip r:embed="rId2"/>
          <a:stretch/>
        </p:blipFill>
        <p:spPr>
          <a:xfrm>
            <a:off x="0" y="2412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60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79ED81F-2FC9-499D-813C-6D73F18D848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rdatoolkit.org/translation/french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rdatoolkit.org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hyperlink" Target="http://www.rdatoolkit.org/translation" TargetMode="External"/><Relationship Id="rId2" Type="http://schemas.openxmlformats.org/officeDocument/2006/relationships/hyperlink" Target="http://spectrum.library.concordia.ca/7638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7" descr="Image BAnQ.jpg"/>
          <p:cNvPicPr/>
          <p:nvPr/>
        </p:nvPicPr>
        <p:blipFill>
          <a:blip r:embed="rId1"/>
          <a:srcRect l="0" t="6063" r="0" b="0"/>
          <a:stretch/>
        </p:blipFill>
        <p:spPr>
          <a:xfrm>
            <a:off x="0" y="0"/>
            <a:ext cx="9150480" cy="47275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9"/>
          <p:cNvSpPr/>
          <p:nvPr/>
        </p:nvSpPr>
        <p:spPr>
          <a:xfrm>
            <a:off x="657360" y="5464080"/>
            <a:ext cx="602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ZoneTexte 33"/>
          <p:cNvSpPr/>
          <p:nvPr/>
        </p:nvSpPr>
        <p:spPr>
          <a:xfrm>
            <a:off x="685800" y="4800600"/>
            <a:ext cx="848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Étapes préparatoires avant l’implantation RD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8"/>
          <p:cNvSpPr/>
          <p:nvPr/>
        </p:nvSpPr>
        <p:spPr>
          <a:xfrm>
            <a:off x="677880" y="5799240"/>
            <a:ext cx="6027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Danielle Poirier et Pat Riv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Direction du traitement documentaire des collections patrimonial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Centre de conserv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7" descr="BANi2c"/>
          <p:cNvPicPr/>
          <p:nvPr/>
        </p:nvPicPr>
        <p:blipFill>
          <a:blip r:embed="rId2"/>
          <a:stretch/>
        </p:blipFill>
        <p:spPr>
          <a:xfrm>
            <a:off x="7086600" y="5883120"/>
            <a:ext cx="1925640" cy="822600"/>
          </a:xfrm>
          <a:prstGeom prst="rect">
            <a:avLst/>
          </a:prstGeom>
          <a:ln w="0">
            <a:noFill/>
          </a:ln>
        </p:spPr>
      </p:pic>
      <p:pic>
        <p:nvPicPr>
          <p:cNvPr id="53" name="Image 8" descr="bandeauux ppt.jpg"/>
          <p:cNvPicPr/>
          <p:nvPr/>
        </p:nvPicPr>
        <p:blipFill>
          <a:blip r:embed="rId3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6E7B85F-01C6-4D10-8CE9-1C1EAB4EFEF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ncipes utilis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repose sur l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es internationales de catalog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FLA 2009) qui actualisent les Principes de Paris (de 196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s'aligne sur les modèles conceptuels de l'IFLA FRBR et F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245D8B5-6D0E-4554-B30A-33B129762B9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54120" y="20304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ns ut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Données liées à la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ff0000"/>
                </a:solidFill>
                <a:latin typeface="Arial"/>
              </a:rPr>
              <a:t>http://data.bnf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OCLC Work Records</a:t>
            </a:r>
            <a:br>
              <a:rPr sz="2000"/>
            </a:b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http://www.oclc.org/research/activities/workrec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Classify</a:t>
            </a:r>
            <a:br>
              <a:rPr sz="2000"/>
            </a:b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http://classify.oclc.org/classify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F9468D9-E2E7-4BBF-AC83-C7B77B62610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371600" y="4273560"/>
            <a:ext cx="6400800" cy="13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erci de votre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690480" y="1882800"/>
            <a:ext cx="3919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égion de Montréal : 514 873-1100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ns frais, d’ailleurs au Québec : 1 800 363-9028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RANDE BIBLIOTHÈQU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75, boulevard De Maisonneuve Es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5C4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 DE CONSERVATION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75, rue Hol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G 3H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S D’ARCHIVES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bitibi-Témiscamingue et Nord-du-Québec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7, rue du Terminus Oues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uyn-Noranda (Québec)  J9X 2P3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-Saint-Laurent et 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spésie–Îles-de-la-Madelein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37, rue Moreaul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imouski (Québec)  G5L 1P4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Point de service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0, boulevard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spé (Québec)  G4X 1A9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ôte-Nord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00, boulevard Laure, bureau 190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pt-Îles (Québec)  G4R 1Y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8"/>
          <p:cNvSpPr/>
          <p:nvPr/>
        </p:nvSpPr>
        <p:spPr>
          <a:xfrm>
            <a:off x="5262480" y="2336760"/>
            <a:ext cx="359892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stri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Frontenac, bureau 40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herbrooke (Québec)  J1H 1K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uricie et Centre-du-Québec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des Forges, bureau 208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ois-Rivières (Québec)  G9A 2G7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ntré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35, avenue Viger Es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2P3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utaouais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55, boulevard de la Gapp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ineau (Québec)  J8T 8H9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Québec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villon Louis-Jacques-Casaul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mpus de l’Université Laval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055, avenue du Séminair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Québec (Québec)  G1V 4N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guenay–Lac-Saint-Jean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930, rue Jacques-Cartier Est, bureau C-103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aguenay (Québec)  G7H 7K9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Image 9" descr="bandeauux ppt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0E5F42F-5D49-4B3B-B5B5-51309CD007C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uvelle terminolog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d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dette princip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uni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uniforme collec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voi 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voi voir au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17560" y="1600200"/>
            <a:ext cx="446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'accè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'accès pour l'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collectif convent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te de point d'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'accès pour une ressource en 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5415584-ECAB-43C1-8401-D846D4736C5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DA et RCAA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érences importan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41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e sur les principes et tâches des utilisateu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 basée sur les entités et rel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ce qu'on voi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 pas abréger si pas abrégé sur la 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GD remplacé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ise les listes de termes contrô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4840F98-6EA1-4685-8278-7915498F6F6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DA et RCAA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érences importantes (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e sur les relations entre ressources et entité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ilité de plus de points d’accès (sans règle de tro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de l'œuvre représentée par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s de données indépendants, pas organisés en zones d'informations ISB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e de contenu et non d'affichage, l'affichage ISBD reléguée à une ann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6E0B8A7-F464-4E62-911B-A5F16C3DB59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e évolu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 la plupart des instructions ne sont pas vraiment différent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ement exprimées dans un nouveau vocabulaire et réordonné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ucoup de connaissances transférab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 nouvelle façon de voir l'information 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f aperçu de FRBR et FR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C387D6C-AEDB-496F-9CAB-52E21C1B1ED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de FRBR/FRAD pour comprendre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concepts et la terminologie FRBR et FRAD sont intégrés à la structure de RDA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 texte de RDA est organisé sel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es attributs des 11 entités bibliograph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es relations par groupes d'entités</a:t>
            </a:r>
            <a:br>
              <a:rPr sz="2000"/>
            </a:b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tâches des utilisateurs sont omniprésentes dans le text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vorise l'application du jugement du catalogu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14C96A6-1220-4682-A999-FCC5C5FA649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odèles de l'IFL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FRB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Functional Requirements for Bibliographic Records (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 français: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Spécifications fonctionnelles des notices bibliographiqu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, publié par la Bibliothèque nationale de France en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FRA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Functional Requirements for Authority Data (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 français: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Fonctionnalités requises des données d’autorité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, traduit par la BnF en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9D382BF-18E0-49C6-B3F8-B6AD441EF75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éthodologie FRBR et FR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odèle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ntité-rel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E-R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éfinition de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ntité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catégorie d'objet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ste de leur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attribu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éléments de donnée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dentification de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relation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liens) entre les entités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rrélation avec les quatre types d’opérations effectuées par les utilisateurs (les tâch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3D30E01-9797-4EFF-96D3-46A86F97648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âches qu’accomplissent les utilisateurs (FRB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Trouv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ressources qui correspondent aux critères de recherch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Identifi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une ressource qui correspond à celle recherchée par l’utilisateu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Sélectionn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hoisi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une ressource qui soit en adéquation avec ses besoins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Obteni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avoi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accès à la ressource d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6049315-4289-42F7-B48C-424CC02599D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sage à RDA : étapes préparatoi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ésentation des principales étapes nécessaires au passage à la norme RDA, soit, les étapes de préparation du personnel au paramétrage de votre SIG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23E57D4-1E28-4B48-ACD1-A400E6F6B6E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âches qu’accomplissent les utilisateurs (FRA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Trouv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entités qui correspondent aux critères de reche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Identifi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une entité (confirmer qu'elle correspond à celle recherch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ontextualis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larifi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Situer une personne, une collectivité, une œuvre, etc. dans son contex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Justifi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omprend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quoi un nom ou un titre en particulier, ou une forme du nom ou du titre, a été choisi comme le nom ou titre préfé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4E520CD-B76A-4797-B17D-D481067F353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Groupes d'entités FRB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roupe 1 (œuvre, expression, manifestation, item) : productions artistiques ou intellectu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roupe 2 (personne, famille, collectivité) : responsables des entités du group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roupe 3 (concept, objet, événement, lieux) : sujets des œuvres (avec les groupes 1 et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31D58FF-3E67-456F-B690-F066CA07E43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ntités du Groupe 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ont le cœur de la notice 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 entités abstraites reflètent le cont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 entités concrètes reflètent la présentation matér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manife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A5D11B4-7438-4045-876A-163DAD62766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xemplai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solé d’une 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bjet concret, généralement matériel, présent dans les collections des bibliothè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eut comprendre plusieurs parties (volumes d'un ouvr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Attribu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identifiant (cote, code à barres), prov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ED36468-635E-4AF6-B1EB-54D1C55C45E5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matérialis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e l’expression d’une 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'ensemble des exemplaires ayant les mêmes caractéristiques, aussi bien la présentation matérielle que le cont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urrait être une édition commerciale, ou un objet unique comme un manuscrit d’au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Attribu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beaucoup! Titre propre, mentions de responsabilité, d'édition, date de publication, nombre de pages, ISBN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B9675BA-1E42-4E14-9117-C9A20A64D66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réalis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ntellectuelle ou artistique d’une 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a forme intellectuelle ou artistique spécifique que revêt une œuvre lorsqu’elle est réal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mots spécifiques qui forment un texte, les notes spécifiques d'une œuvre musical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Attribu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langue, forme d'expression (textuel, sonore, im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5E4ABD6-873D-48AD-888E-D44EA1E825C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Œuv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ré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ntellectuelle ou artistique détermi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bstraction du contenu commun de ses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éside dans une identité de contenu au sein des diverses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e correspond à aucun objet matériel iso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Attribu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forme (poésie, roman), date et contexte de création orig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408BF54-1704-43EC-9E5A-7E903CB86D7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Qu'est-ce qu'un “livre”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J'ai perdu mon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livre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Il faut commander ce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livre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J'aimerais lire ce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livre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n franç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Ce film s'inspire de mon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livre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préfér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44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ife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Œ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B225A7C-9B5F-486F-B648-1EB50D32BE95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lations principales du Groupe 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E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trouve sa réalisation d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se concrétise d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st représentée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21BE0F1-C7FC-499F-8D0F-E14F5D11B5C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lations principales du Groupe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ERS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M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LLECTI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responsable(s) p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tités du group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œuv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9EF47D3-29A6-41B2-B6F6-F39E386D853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de la 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à RD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f aperçu de FRBR et FRA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uction française de RD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endrier d’im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A0B04FE-4586-4F8F-8883-7E9A117B0E3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ntités du Groupe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nt la responsabilit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u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ontenu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ntellectuel ou artistique d'une œuvre ou d'une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e la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roduc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matérielle et de la distribution d'une 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e la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ossess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'un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8A713E3-AD6C-4269-AE70-8ADA02931B2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lations principales du Groupe 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B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VÉ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+ entités des groupes 1 e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sont les sujet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'entité du group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6FD4A29-EA9A-4A61-9FC7-63E2FFC5599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elations dans le catalog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réent un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end possible les tâches </a:t>
            </a:r>
            <a:r>
              <a:rPr b="0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Trouver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ermettent la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8A0F99D-0595-4A46-878C-216AC651D3A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elations bibliograph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tre les entités du Group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Œuvres (p. ex. suppléments, adaptations, ensemble/part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xpressions (p. ex. révisions, tradu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nifestations (p. ex. reproductions, formats alternati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A89CA20-1D86-48BF-8013-F5A91FECF69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odèle FR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TITÉS BIBLI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sont connues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MS et / ou IDENTIF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avec lesquels sont formés 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INTS d'ACCÈS CONTRÔ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2546875-8DD3-491A-804C-43E40A69059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ntités FRAD dan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’occupe de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donné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'autorité, pas des no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éparation entre le Nom (ou Identifiant) et le Point d'accès contrôlé basé sur le 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formes préférées et les variantes de forme du nom sont des Points d'accès contrô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uction française de RD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7E42B31-2ED3-4CBF-BF47-FC1B1480021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raduction de la norme en franç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quoi une traduction en franç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ente avec l’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enai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STED, BAC, BAnQ,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53061F9-A6D0-4367-9A98-F9A46C71D8F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éthodologi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268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a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268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268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lecture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"/>
          <p:cNvPicPr/>
          <p:nvPr/>
        </p:nvPicPr>
        <p:blipFill>
          <a:blip r:embed="rId1"/>
          <a:stretch/>
        </p:blipFill>
        <p:spPr>
          <a:xfrm>
            <a:off x="3112920" y="2392200"/>
            <a:ext cx="5480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27CE277-3AC3-48E5-B3C6-B4D78BA47F5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État d’avanc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DA en franç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ssaire : dès mainten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pie imprimée RDA : janvier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se en ligne, RDA Toolkit : février ou avril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88AB4DA-11D5-4343-B2F8-26802ED8FB0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de la 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paration local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émonstration du RDA Toolkit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ngements au MARC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7944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ices bibliograph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7944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ices autor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3171434-684F-4D77-85C4-E2FC507541D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Gloss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76440" y="1662120"/>
            <a:ext cx="82072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rdatoolkit.org/translation/fr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192320" y="2198520"/>
            <a:ext cx="618336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endrier d’implant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7F5A275-191A-487A-888A-D4E4AA5EADD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nisseurs de not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 : transition terminée le 31 mars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Q : début à la fin de janvier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Québécois de Traitement Documentaire : 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F1020A1-2956-4EB1-B843-59151809093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us conti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e 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s à jour de la n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uction des mises à j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s de notices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volution des SI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éparation local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B639F0A-2B06-41BA-8DF0-54234D0665D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se prépar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 implique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able du SI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 des services techniq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tement documen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qui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 à la réfé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391DB57-5EDF-43CD-A7E4-0654E7320A9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se prépar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préparation, principales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arisation avec RDA, documentation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étrage du SI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de la norme, choix des options R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e à jour des procédure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E0574A2-FBBF-49F8-BAF2-9E5EFD616A1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miliarisation avec la nouvelle nor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bonnement au RDA Tool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ctur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sionnement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a docu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ff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"/>
          <p:cNvPicPr/>
          <p:nvPr/>
        </p:nvPicPr>
        <p:blipFill>
          <a:blip r:embed="rId1"/>
          <a:stretch/>
        </p:blipFill>
        <p:spPr>
          <a:xfrm>
            <a:off x="3581280" y="2262240"/>
            <a:ext cx="43434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A7B9EE0-34C0-4BFA-AE2B-F3B6A532E41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orm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français, en ang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ligne ou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ation en pers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udget alloué aux 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ateurs ou tout l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7085792-2554-4704-A9E4-6D63F9FF3D9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métrage du SIG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ments au format MARC 2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 et modifications de zones MAR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3035160" y="2901960"/>
            <a:ext cx="42260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150EDBB-A1DC-4E42-A970-3DB9FF36FC1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de la 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étrage de votre SI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4572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nes MARC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4572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dereaux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4572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de reche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4572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erelles d’importation et d’exportation de no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4572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ichage des don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nement hybri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s offe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A378B67-280E-45B6-8FAE-4174844C78F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pplication de la nor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dentification des changements possibles de vos procédures de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écisions sur les choix d’options et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litiques locales actu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ypes de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iveau de catalog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EDC17F3-0E28-4D26-A4CF-89DF96152AC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cuments intern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e mémoire pour le vocabulaire RDA et FR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e mémoire pour les nouvelles zones MARC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aux de correspondance RDA et zones MARC 2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RDA Toolki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AE14701-1CBE-4568-ADD9-C039573151C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DA imprimé ou en lig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DA imprimé ou en li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mbre de cop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mbre d’acc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DA Tool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ès : reconnaissance IP ou personnalis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ssai avant l’abon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3E7DF71-DC14-4989-A899-D43C555FE41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émonstration du RDA Toolk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rdatoolkit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"/>
          <p:cNvPicPr/>
          <p:nvPr/>
        </p:nvPicPr>
        <p:blipFill>
          <a:blip r:embed="rId2"/>
          <a:stretch/>
        </p:blipFill>
        <p:spPr>
          <a:xfrm>
            <a:off x="1038240" y="2460600"/>
            <a:ext cx="70293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ment au MARC 21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3667AFA-7F8A-428A-ABC7-CD32123135A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DA en MARC 2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cénarios d'implantation de RDA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ur l'immédiat, RDA en MARC 21 avec des notices bibliographiques et d'autorités distinctes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ffichage avec ponctuation ISBD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ventuellement, un nouveau modèle d'encodage de no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Bibliographic Framework Transition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http://www.loc.gov/marc/transitio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8D3697B-3D29-40CA-9A6E-6B9C757EEFB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CC5B7A8-6CBC-4745-BD16-D802DD9CCB35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/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odifications 9 (2008) à 15 (septembre 2012) comprennent des changements liés à 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ssues du MARC/RDA Working 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ésumé : http://www.loc.gov/marc/RDAinMARC-10-12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RC 21 en français : http://www.marc21.ca/040010-235-f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A5884F7-4323-49A9-9BBD-177B9DC1FB2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onnaître une notice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Guide/18 =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(ISBD) si la ponctuation ISBD est appliquée entre les sous-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ec 040 $e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rda</a:t>
            </a:r>
            <a:br>
              <a:rPr sz="2000"/>
            </a:b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t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008/10 = z (autres règ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ec 040 $e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rda</a:t>
            </a:r>
            <a:br>
              <a:rPr sz="2000"/>
            </a:b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épé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D5AFC2C-90BB-48FC-B61B-C5A46FE53D5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dage qui dispara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5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[IGGD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/ $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ntion de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IGGD (ou GMD) des RCAA2 n'existe pas en RDA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placé par 3 nouvelles zones (336, 337, 338) dans les notices bibli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à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B2618D3-D5F2-485F-BEA2-1818CA1160B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36 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e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06 (exista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uve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rme de RDA 6.9.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oc.gov/standards/valuelist/rdaconten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B98CAE8-FF3D-4F26-A874-DD078F12759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37 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igatoire (LC, BAC, BAnQ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7/00 (exista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uve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rme de RDA 3.2.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oc.gov/standards/valuelist/rdamedia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A122037-2351-4BBD-A902-BA2CAAE6017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5C00C5F-112D-4E62-8F1D-1D6EA003CC0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38 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en RD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7/01 (exista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 quelques nouveaux codes spécialisés (types de microfilms, supports informatiques, documents iconographiques, film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uve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rme de RDA 3.3.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oc.gov/standards/valuelist/rdacarrier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D67F948-BC86-4D93-B4C3-A37C79FBB5D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v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6 ## $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text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vre en bra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6 ## $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texte tacti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303DCAF-0E80-430B-BBA6-C7492297F53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02882DA-BC8E-48B1-A121-94D61CEEB8E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cument électronique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7 ## $a informatique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8 ## $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ressource en lign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$2 rdacarrie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cument électronique sur cédé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7 ## $a informatique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8 ## $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disque informatiqu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C0CFBF1-BD2C-4AB1-8745-0E4B1EEE7B7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ation, distribu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 utiliser en RDA! Remplacé pa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épé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ur 2 précise la fonction de la men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= Production (document non publi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=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= Diffusion ou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= Fabrication ou manufacture (im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= Date de copy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E1B4877-7233-4048-828B-732AB7E0F3B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3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existe avec des nouvelles zones pour des types de ressources spécialis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4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aractéristiques son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4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aractéristiques de projection d'images en mouv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4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aractéristiques vidé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4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aractéristiques de fichier numériq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upport matériel) nouvelles sous-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736697D-7CEE-4104-94C5-D276EC92ADB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 grand degré de préci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28 (Numéro d'éditeur)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q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Qualificat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028 02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438 954-2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Philips Classics </a:t>
            </a:r>
            <a:r>
              <a:rPr b="1" lang="fr-CA" sz="2000" spc="-1" strike="noStrike">
                <a:solidFill>
                  <a:srgbClr val="0000ff"/>
                </a:solidFill>
                <a:latin typeface="Arial"/>
              </a:rPr>
              <a:t>$q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(disc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502 (Note de thè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502 ## </a:t>
            </a:r>
            <a:r>
              <a:rPr b="1" lang="fr-CA" sz="2000" spc="-1" strike="noStrike">
                <a:solidFill>
                  <a:srgbClr val="0000ff"/>
                </a:solidFill>
                <a:latin typeface="Arial"/>
              </a:rPr>
              <a:t>$b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Ph.D </a:t>
            </a:r>
            <a:r>
              <a:rPr b="1" lang="fr-CA" sz="2000" spc="-1" strike="noStrike">
                <a:solidFill>
                  <a:srgbClr val="0000ff"/>
                </a:solidFill>
                <a:latin typeface="Arial"/>
              </a:rPr>
              <a:t>$c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Université de Montréal </a:t>
            </a:r>
            <a:r>
              <a:rPr b="1" lang="fr-CA" sz="2000" spc="-1" strike="noStrike">
                <a:solidFill>
                  <a:srgbClr val="0000ff"/>
                </a:solidFill>
                <a:latin typeface="Arial"/>
              </a:rPr>
              <a:t>$d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33 et 518 (Date et lieu d'un évén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490 et 8XX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x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00ff"/>
                </a:solidFill>
                <a:latin typeface="Arial"/>
              </a:rPr>
              <a:t>répétitif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, ISSN de collection et sous-collection dans la même zon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 de diverses valeurs dans les 007 et 008 pour des supports spécialis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C9B6EAB-5F1E-4FCD-A412-0E772880D42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uvelles zones (Autorités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nom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614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46 (Dates codé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68 (Autres attributs associé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0 (Lieu associ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1 (Adres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2 (Champ d'activit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3 (Groupe associ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374 (Profession/Occup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375 (Sexe de la person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76 (Renseignements sur la fami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378 (Forme développée du n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799320" y="1600200"/>
            <a:ext cx="208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Person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ami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llectivi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79FFB08-1315-4318-BB01-5A01B8469F1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uvelles zones (Autorités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ttributs des œuvres et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7 (Langue associ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0 (Genre de l'œuv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1 (Autres caractéristiques d'une œuvre ou 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82 (Médium d'exéc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83 (Numéro d'identification de l'œuvre music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84 (Tonalité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* mu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9D19650-B4A0-4EE4-8798-BC5816B0C5E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urquoi changer les RCAA2 o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urquoi une nouvelle norme 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s des RCAA2 (en origine pour un catalogue sur fic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ègle de tr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éviations, lat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uveaux supports à intégr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e vue anglo-améric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FA9268A-0095-4492-9DDD-41D5115ECA8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eurs de re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ôles ave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1XX, 7XX (exista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entre œuvres, etc. avec (nouveau)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les zones 7XX ou 76X-78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entre personnes, familles, collectivités avec (nouveau)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les zones 5XX de la notice d'autorité (précédé p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DB9C39E-99EA-427E-80B3-7C4DBBD90B75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d'indicateurs de re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ôles des personnes, collectivités, etc. associés à la ressour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700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aint-Germain, Michel, $d 1951-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e traduc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700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aint-Germain, Michel, $d 1951-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4 t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annex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C23E760-F44F-4F25-9520-924A9C685BF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d'indicateurs de re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elations entres œuvres, express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700 1#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i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Suite de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Carroll, Lewis,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1832-1898.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Alice's adventures in Wond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700 1#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i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Traduction de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enny, Louise,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1958-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til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775 08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i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Réimpression de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enny, Louise, 1958-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 plein cœur.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Montréal : Flammarion Québec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annex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48358D3-01C6-45B0-8A13-36D2E5EB435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d'indicateurs de rel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utorité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elations entre personnes, familles, collectiv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10 2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.M. Pei &amp;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500 1#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w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r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i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Fondateu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ei, I. M.,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1917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510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w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ei Cobb Freed &amp;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10 2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Anthony Coleman T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500 1#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w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r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i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Membre du groupe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Coleman, Anthony,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1955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annexe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35F93E0-4009-4AAE-813F-43D9EC2AE96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modifications récen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8/23 (Support matériel du docu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 de valeurs pour documents électro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upport tangible (cédéroms, disquet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 précis que s (électronique) encore per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7 (Pays de l'agence de produ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X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stitution à laquelle s'applique la z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4B79EE0-C1F2-4FCF-9928-D5596CD026E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41 Code de lang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041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uvelles sous-zones, modif #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2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ff"/>
                </a:solidFill>
                <a:latin typeface="Arial"/>
              </a:rPr>
              <a:t>http://www.marc21.ca/040010-1010-f.html#mrcb0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h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Code de langue de la langue origin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k</a:t>
            </a:r>
            <a:r>
              <a:rPr b="0" lang="fr-CA" sz="2400" spc="-1" strike="noStrike">
                <a:solidFill>
                  <a:srgbClr val="0000ff"/>
                </a:solidFill>
                <a:latin typeface="Arial"/>
              </a:rPr>
              <a:t> Code de langue de traductions intermédi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1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k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h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 texte est une traduction française d'un texte en anglais publié à l'origine en suéd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C60FEBF-9915-4130-8FD2-1AEF66D9682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41 Nouvelles sous-zones mus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de de langue des livr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ode de langue du livre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rig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de de langue du matériel d'accompagnement autre que des livr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ode de langue du matériel d'accompagnemen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riginal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autre que des livr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09EC54E-84A9-4672-9AA6-50E13032B16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41 Exemple de livret tradu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1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h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us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us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enregistrement sonore d'une œuvre chantée en anglais, traduit à partir de l'original en russe; traduction à l'anglais du livret original en russe; les notes de programme en anglais avec des traductions en français et en all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5D692CA-0DB6-4008-AFE6-F3963BE0D7A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41 Exemple matériel d’accompagnement mus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1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h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t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t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m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ment sonore d'un opéra italien chanté en français, livret en anglais et italien, notes de programme en anglais et français, mais les notes de programme ont été écrites en allemand à l'ori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736F828-7969-4963-82C4-0A450CB796F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41 Pour les vidéos sous-titr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j</a:t>
            </a:r>
            <a:r>
              <a:rPr b="0" lang="fr-CA" sz="2400" spc="-1" strike="noStrike">
                <a:solidFill>
                  <a:srgbClr val="0000ff"/>
                </a:solidFill>
                <a:latin typeface="Arial"/>
              </a:rPr>
              <a:t> Code de langue de sous-titres ou de libell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041 1# 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j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enregistrement vidéo en anglais comprenant des sous-titres en all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16F1A77-0141-48D2-A864-0F69EEA45D0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énéfices de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re uniforme, flexible et extensible pour la description de ressources de tous gen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ise le jugement du catalogueu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çu pour un environnement numériq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internationa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et de tirer profit des nouvelles technologies et des nouveaux catalog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C2DA166-F9B5-4F56-9BB7-8E7115FED88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88 Source de la descrip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s notes étaient précédemment dans des notes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information administrative concernant la notice, comme la source de la description ou le dernier numéro consulté 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58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##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de la couver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58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##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cription d’après: no 3 (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métrage de votre SIGB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16745A3-027F-47CE-ACD2-B8F37A2CB4D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 et modifications de zones MARC 2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6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324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5697C9F-A9E8-46EE-B525-8982529BD26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 et modifications de zones MARC 2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s de nouvelles zones, par exemple, 264, 336 à 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s de sous-zones, par exemple, la 700 $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s de codes valides, exemple, 040 $e 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s de valeurs dans des zones fix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03FD9E8-F74D-4080-9FDE-D75704D5F7D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ifications des bordereaux de travai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uide/18 = i (pa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0 $e rda par défa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6/337/338 selon le type d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lever les 245 $h IG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64 ind.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=1 (Publication) par défaut pour des documents publi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2676D61-A84C-4893-B9D4-E64F4D81F39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ifications des index de recherch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6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548784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5251400-0F56-46BE-94F3-CDC6094D5FB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ifications des index de recherch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er les 336/337/338 – choix poss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264 $a et 264 $b aux index lieu d’édition et éditeur (s’il y a lie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urs de 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1 ne pas indexer les sous-zones de langue orig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du fichier d’autorité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6353EFA-25BD-4737-945D-BBC71F510C7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serelles d’importation et d’expor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erelles d’importation : ajout des nouvelles zones et sous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erelles d’exportation : ajout des nouvelles zones et sous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assurer que des données ne sont pas perd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E4C0F75-18B2-41CD-A85F-B750F18E3E8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ichage des donné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ffichage à l’OPA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ices (afficher la 26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facet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ffichage FR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nement hybrid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B42B3AA-24F2-4AFE-93A6-47AC26196BA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 développe RDA 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JSC = Joint Steering Committee for the Development of RDA (6 membres de 4 pay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stralie = Australian Committee on Cataloguing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nada = Comité canadien de catalogag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rande Bretagne = British Library et CILIP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tats-Unis = Library of Congress et ALA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llemagne = Deutsche Nationalbibliothek (depuis 20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A9BBBDC-30FE-4D5A-AC4E-6B5560D6C3B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Bases de donné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ices RCAA2 et notices RDA vont cohabiter dans la même bas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mme les notices RCAA1 avec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uit le principe de continu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base de données collective définira des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exemple, OCLC WorldC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1 seule notice par ressource par lan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transformer RCAA2 en RDA, jamais l'in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40AA7AE-7AF4-4170-8AAD-AD2B20CDCA4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Notic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ésultat d'ajouts d'éléments RDA à une notice bibliographique RCAA2 exist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scription n'est pas modifiée (transcription dans le 245, etc.) et reste selon les RCA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18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CAA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, avec des points d'accès formulés selo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, avec des éléments techniques RDA (exemple, 336/337/338 ajoutés en lo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BC595E9-2E7C-4E78-93F1-AC61178A608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Notices d'autorité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'accès formulé selon les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d'autorité bonifiée avec les nouvelles zones 046, 37x ou 38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 jamais, un point d'accès partiellement RDA et partiellement RCAA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C8804ED-ABCE-47FB-B236-ABEECC08A39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Notices dérivés ou mises à j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er l'accès à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ger les erreurs de contenu, ne pas changer d'un style à un autre, d'un code à l'au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de l'information, pas en enlever (sauf si erroné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de RCAA2 à RDA seulement avec la ressource en main pour en faire une nouvell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tions offer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0E099AC-ED19-4E47-895A-B40D1A8447D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fertes en collaboration avec l’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219320" y="3178080"/>
          <a:ext cx="6324480" cy="1882800"/>
        </p:xfrm>
        <a:graphic>
          <a:graphicData uri="http://schemas.openxmlformats.org/drawingml/2006/table">
            <a:tbl>
              <a:tblPr/>
              <a:tblGrid>
                <a:gridCol w="1581120"/>
                <a:gridCol w="1581120"/>
                <a:gridCol w="1581120"/>
                <a:gridCol w="1581120"/>
              </a:tblGrid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réal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ébec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journé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sentation de la norm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janvier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ar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janvier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journée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sation de la norm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et 15 février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et 19 février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679F479-AD32-488C-AAB9-4928005ECED5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des utilisateurs des règles de catalogage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s pour faciliter le passage à la nouvelle norme 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atalogage plus spécialisé, par exemple, par support ne sera pas cou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us les formateurs sont de BAnQ et font partie de l’équipe de traduction de la norme 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70A9B5F-47DE-4903-9315-EFCEDF07055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iens ut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lossaire RDA en françai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fr-CA" sz="1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rdatoolkit.org/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Article: 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Paradis, Daniel (2011)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RDA ou le catalogage repensé pour l’ère numérique.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Documentation et bibliothèques, 57 (1). pp. 33-43. ISSN 0315-2340 </a:t>
            </a:r>
            <a:r>
              <a:rPr b="0" lang="fr-CA" sz="1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http://spectrum.library.concordia.ca/7638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Sur le site de la BnF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bnf.fr/fr/professionnels/rda/s.rda_objectif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Présentation Congrès des milieux documentaires 2010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spectrum.library.concordia.ca/7673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Ateliers pour l’ASTED, avril 2011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rda-jsc.org/docs/Riva-Asted-RDA-29-avril-2011.pdf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Version française de la brochure sur FRBR écrite par Barbara Tillett.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loc.gov/catdir/cpso/FRBRFrench.pd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AD259B2-70AF-44A4-8218-CA726350212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54120" y="25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iens ut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BnF FRBR et plus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bnf.fr/fr/professionnels/modelisation_ontologies/a.modele_FRBR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Principes internationaux de catalogage, texte officiel en français (2009)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ifla.org/files/assets/cataloguing/icp/icp_2009-fr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Principes internationaux de catalogage, présentation Congrès des milieux documentaires 2010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rda-jsc.org/docs/2-CREPUQ-ICP2010-fre-Riva.pdf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Sites essentiels:</a:t>
            </a:r>
            <a:br>
              <a:rPr sz="2000"/>
            </a:b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JSC :</a:t>
            </a:r>
            <a:r>
              <a:rPr b="1" i="1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rda-jsc.org/</a:t>
            </a:r>
            <a:br>
              <a:rPr sz="1800"/>
            </a:b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RDA Toolkit :</a:t>
            </a:r>
            <a:r>
              <a:rPr b="1" i="1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rdatoolkit.org/</a:t>
            </a:r>
            <a:br>
              <a:rPr sz="1800"/>
            </a:b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MARC 21 changements RDA 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loc.gov/marc/RDAinMARC-10-12.html</a:t>
            </a:r>
            <a:br>
              <a:rPr sz="1800"/>
            </a:b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LC, ressources RDA :</a:t>
            </a:r>
            <a:r>
              <a:rPr b="1" i="1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loc.gov/aba/rd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C0DA568-1B8A-4497-B116-2CE25F61AD8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4120" y="25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iens ut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Portail de BAnQ, Milieux documentaires</a:t>
            </a:r>
            <a:br>
              <a:rPr sz="2000"/>
            </a:b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http://www.banq.qc.ca/services/services_professionnels/milieux_doc/ressources/traitement_classification/rd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SQTD, RDA</a:t>
            </a:r>
            <a:br>
              <a:rPr sz="2000"/>
            </a:b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http://sqtd.banq.qc.ca/faq/faq-rda.d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Sites avec matériel de formation en anglais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loc.gov/catworkshop/RDA training materials/LC RDA Training/LC RDA course tab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loc.gov/catworkshop/RDA training materials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ala.org/alcts/confevents/upcoming/webinar/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01:42:34Z</dcterms:created>
  <dc:creator>Louise Lecavalier</dc:creator>
  <dc:description/>
  <dc:language>en-US</dc:language>
  <cp:lastModifiedBy>Pat Riva</cp:lastModifiedBy>
  <cp:lastPrinted>2012-10-21T23:42:40Z</cp:lastPrinted>
  <dcterms:modified xsi:type="dcterms:W3CDTF">2012-12-10T17:53:30Z</dcterms:modified>
  <cp:revision>343</cp:revision>
  <dc:subject/>
  <dc:title>Diapositive 1</dc:title>
</cp:coreProperties>
</file>