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FBA9-C777-4494-8A96-8BC3D39DB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5B34-63E9-472D-AC0E-082B9FF29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CBFD-9DDA-49CB-80D7-0E6DB33DE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8E51D-F600-41D8-8DA8-6F7D8EDEED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2FB6-A9D9-4B16-964D-63ED7E315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4A8AC-1486-40B8-A04E-CEFD2F88D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8DCA-B35E-44A3-8A4E-A0ED2DE44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D6A7-EB5B-495B-9024-81D772C52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2B09-54D3-4518-A935-CDBE5EEB4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679A-3927-4D34-AEB0-22B4D2726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C989-DBEC-4E77-9CDA-39B859CCC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E8F6-5CFA-436A-8B6D-3ED544324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D2C344B-E9DF-4673-87E4-1A80CC0CCCE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AC3B-2FF3-4D8F-9E72-35A95FF35D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1B53-46DC-4ABE-A5B1-0091895AAE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BEF3-783C-4033-9776-CF74B62A0C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433E-3548-4CC9-A92C-67C23D7300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F5DA-6DC0-403D-9934-E3AC6D0978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FBF4-896D-4D32-A125-F3004F3ED0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03D4918-14C2-490B-8942-E7D8469A54D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0304-E62B-424E-AEC3-44976E9AD4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3T13:47:14Z</dcterms:modified>
  <cp:revision>271</cp:revision>
  <dc:subject/>
  <dc:title>Diapositive 1</dc:title>
</cp:coreProperties>
</file>