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5535FB-9522-4A54-96A2-24A65D7CB0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F8315D-F78E-406C-BBCD-78A1D9F127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075666-F8D0-4CA4-8B32-1C8C330DD3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65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90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41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65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90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A54589-1B97-4395-9658-57A34EC9CDF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977728-E0F3-43D9-9939-B3DFC0BE512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B7A3C1-98ED-478D-9A58-611138260B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BF738A-05D9-43BC-81F2-8E9162291B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AC646F-2BFD-4190-BF82-A047493359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4120" y="2026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4A4E54-95F1-4ECE-B95E-D8142F69C3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CDFBC4-B7A2-4B90-8837-5635FCF786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BEE2DD-BD95-489A-B1C5-9F29472BFF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B126D1-C15B-4A8A-87A2-FB323E61EA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 6" descr="bandeauux ppt9.jpg"/>
          <p:cNvPicPr/>
          <p:nvPr/>
        </p:nvPicPr>
        <p:blipFill>
          <a:blip r:embed="rId2"/>
          <a:stretch/>
        </p:blipFill>
        <p:spPr>
          <a:xfrm>
            <a:off x="0" y="228600"/>
            <a:ext cx="9144000" cy="1146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700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228600">
              <a:spcBef>
                <a:spcPts val="700"/>
              </a:spcBef>
              <a:buClr>
                <a:srgbClr val="5f5f5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76080" y="6441840"/>
            <a:ext cx="324324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&lt;footer&gt;</a:t>
            </a: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384360" y="6447960"/>
            <a:ext cx="226188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B1DC6348-B23E-4033-A312-3B6C953F5133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vironnement hybr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ses de données hybrid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Notices RCAA2 et notices RDA vont cohabiter dans la même base de donné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Tout comme les notices RCAA1 avec RCAA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RDA suit le principe de continu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haque base de données collective définira des polit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exemple, OCLC WorldC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1 seule notice par ressource par lan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transformer RCAA2 en RDA, jamais l'inver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AD935-E24E-4719-8EED-5B3E00D277D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ices bibliographiques hybrid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 résultat d'ajouts d'éléments RDA à une notice bibliographique RCAA2 existant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description n'est pas modifiée (transcription dans le 245, etc.) et reste selon les RCAA2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ide/18 = a (RCAA2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s, avec des points d'accès formulés selon RDA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, avec des éléments techniques RDA (exemple, 336/337/338 ajoutés en lot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1B9516-354A-4EDC-BD84-B8CCF92C9DC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ices d'autorité hybrid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int d'accès formulé selon les RCAA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ice d'autorité bonifiée avec les nouvelles zones 046, 37X ou 38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s jamais, un point d'accès partiellement RDA et partiellement RCAA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A7BD7B-685E-4284-BF5B-A007E355DF8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ices dérivées ou mises à jou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éliorer l'accès à la ressourc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riger les erreurs de contenu, ne pas changer d'un style à un autre, d'un code à l'aut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jouter de l'information, ne pas en enlever (sauf si erronée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r de RCAA2 à RDA seulement avec la ressource en main pour en faire une nouvelle descri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04717A-B0A9-4D9B-8EA3-A403F37DA0B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lendri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duction et implantation de RDA en françai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3920" indent="-2239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artenaires à la tra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74480" indent="-22392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ASTED, BAC, BAnQ, Bn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Version imprimée : publication juin 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Mise en ligne dans RDA Toolkit : 14 mai 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LC/British Library : transition terminée le 31 mars 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BAnQ : début avril 2013 pour les monographies et début juin 2013 pour les périod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Service québécois de traitement documentaire (SQTD)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74480" indent="-22392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avril 2013 pour les documents publiés au Québ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4480" indent="-22392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juillet 2013 pour les documents imprimés traités par SD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9E5638-56FF-4D8D-B4C9-A5C8853433F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cessus contin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ycle annuel de modifications a commencé en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uction des mises à j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ications de notices RCAA2 dans les catalog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Évolution des SIG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889F46-B471-4257-AB59-ED06231E177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A2162876-2768-4A07-889F-98568E80538D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it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690480" y="1882800"/>
            <a:ext cx="3919680" cy="45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Région de Montréal : 514 873-1100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ans frais, d’ailleurs au Québec : 1 800 363-9028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GRANDE BIBLIOTHÈQUE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475, boulevard De Maisonneuve Est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ontréal (Québec)  H2L 5C4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CENTRE DE CONSERVATION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2275, rue Holt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ontréal (Québec)  H2G 3H1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CENTRES D’ARCHIVES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Abitibi-Témiscamingue et Nord-du-Québec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27, rue du Terminus Ouest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Rouyn-Noranda (Québec)  J9X 2P3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as-Saint-Laurent et 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Gaspésie–Îles-de-la-Madeleine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337, rue Moreault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Rimouski (Québec)  G5L 1P4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100000"/>
              </a:lnSpc>
              <a:spcAft>
                <a:spcPts val="14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000" spc="-1" strike="noStrike">
                <a:solidFill>
                  <a:srgbClr val="000000"/>
                </a:solidFill>
                <a:latin typeface="Arial"/>
              </a:rPr>
              <a:t>Point de service de Gaspé</a:t>
            </a:r>
            <a:br>
              <a:rPr sz="1000"/>
            </a:b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80, boulevard de Gaspé</a:t>
            </a:r>
            <a:br>
              <a:rPr sz="1000"/>
            </a:b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Gaspé (Québec)  G4X 1A9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Côte-Nord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700, boulevard Laure, bureau 190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pt-Îles (Québec)  G4R 1Y1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5262480" y="2336760"/>
            <a:ext cx="359892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Estrie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225, rue Frontenac, bureau 401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herbrooke (Québec)  J1H 1K1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uricie et Centre-du-Québec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225, rue des Forges, bureau 208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Trois-Rivières (Québec)  G9A 2G7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ontréa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535, avenue Viger Est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ontréal (Québec)  H2L 2P3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Outaouais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855, boulevard de la Gappe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Gatineau (Québec)  J8T 8H9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Québec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villon Louis-Jacques-Casault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Campus de l’Université Laval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1055, avenue du Séminaire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Québec (Québec)  G1V 4N1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aguenay–Lac-Saint-Jean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930, rue Jacques-Cartier Est, bureau C-103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aguenay (Québec)  G7H 7K9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60" name="Image 9" descr="bandeauux ppt.jpg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1146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861600-9AFE-4DAC-9A80-78FD414D530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5T20:24:45Z</dcterms:created>
  <dc:creator>Louise Lecavalier</dc:creator>
  <dc:description/>
  <dc:language>en-US</dc:language>
  <cp:lastModifiedBy>Daniel Paradis</cp:lastModifiedBy>
  <cp:lastPrinted>2010-10-18T15:40:26Z</cp:lastPrinted>
  <dcterms:modified xsi:type="dcterms:W3CDTF">2013-10-23T13:47:14Z</dcterms:modified>
  <cp:revision>271</cp:revision>
  <dc:subject/>
  <dc:title>Diapositive 1</dc:title>
</cp:coreProperties>
</file>