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1E6A0-F713-4F90-B8F8-F5AE0A9AE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980EC-3D00-4009-B6B5-DC31F788D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CD51-D625-400D-9C23-DA6FB4E97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31BC-0E9E-4C78-A005-C773D5E59D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8B9CD-BC4F-411F-BC15-CF938F7469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4322-6D39-4568-9EE3-D22BF5B5D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09DB-CF77-466B-A118-4899F424F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D96AD-0DC0-4184-807F-B37B016F0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0CFB-D8B1-41D1-85DB-D04D189B1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FAA64-043D-4D88-A229-1066CABF2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1AA7-ABBB-4B09-B143-738902B60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38485-883C-4434-930A-D8DD24B29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1B19A4E-5F93-4BB0-8A82-86A62D1235E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34AF-4E2E-42EE-8BBA-24D2E63FC3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4F68B-F107-4034-9D16-83A6DA3A3A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B9DAF-394D-4BF3-94CA-DF2472D200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6364-2258-431D-B820-2FC542D497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 plus tôt mai 2013 pour les document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7CBF-D60C-46FA-BABE-BB9896FC50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C802-8C7A-4AC1-88A6-FD5C978FE1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184C3C7-AC68-4741-8F91-961158E4DB3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66CD-576B-4B7A-9ED8-24943D8B6F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9T22:23:07Z</dcterms:modified>
  <cp:revision>268</cp:revision>
  <dc:subject/>
  <dc:title>Diapositive 1</dc:title>
</cp:coreProperties>
</file>