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1A66D1-1059-4BA3-9AAD-3634E721664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A31B1A-3A1F-4990-B5A9-5247919E4DCE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FB4009-A2C3-4874-8789-1F129B098859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2432E2-E32E-46F7-9D55-17915D6FBCD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BBF90D-17FB-46F9-898D-0AE78825514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880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887-C3DA-4E63-8E34-62BFEDAE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6C3-D12E-4D23-A38B-B13640C1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AD8-3307-4A25-9CD6-78E8BC65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E81-E668-4245-8711-86BAABA2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D5C-1D44-4545-A11A-788DBC42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80C-3664-4D85-A286-BF2EAECA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131-3A90-4E4A-9256-270124D7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7A2-8F6A-4121-8998-C1F89ED5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10A-B0AC-4FD0-9A00-7845ECBE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EC4-2EE7-441B-A0C6-B83FECB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562-CDA1-4E58-8DCC-D2BF51C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706-D38C-468B-857F-5610E8F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39FE-892F-4305-BBEE-7A510DA070E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FR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13336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 jugement du catalogueur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devrait prendre en considération si un élément est nécessaire pour donner accès à la ressou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est essentiel pour décider quelles relations additionnelles on doit établir, en plus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n’est pas requis pour l’enregistrement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1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2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Riva Pat</cp:lastModifiedBy>
  <dcterms:modified xsi:type="dcterms:W3CDTF">2014-11-05T21:51:51Z</dcterms:modified>
  <cp:revision>118</cp:revision>
  <dc:subject/>
  <dc:title>Quiz Module 8: les relations RDA</dc:title>
</cp:coreProperties>
</file>