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Quiz - Les relations 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D02953-D149-4034-AEC3-E1E428009980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ce réservé du pied de page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Quiz - Les relations 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numéro de diapositive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DE588A-738D-407A-AEDA-0A1D2AFFF57D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space réservé du pied de page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Quiz - Les relations 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space réservé du numéro de diapositive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5F5A02-FC2A-4770-874B-4800D4B940E5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2A991B-37F0-48B0-ADBE-9E3EF17ADA96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Quiz - Les relations 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E4DFD7-758D-4D11-B8FF-72CE974ACFD4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880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1397-AC23-4656-BA7F-1EDD4315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8818-450B-4986-88C7-CD704B2A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ADC-5B79-4206-9DBE-C49B14C2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D34-3206-4238-9661-E2D3E277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E803-0713-4AC6-ACBC-EC37A814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ACE1-BA76-40CF-BB77-4B4D5CD3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E6AB-F65C-4016-B20B-825C16CA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629D-2AAA-475E-8A04-0ACF863B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222D-32B4-4AA9-ADD7-2BCDC3B9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EAF-0D2D-4F6D-9390-8DF22D26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44C-07C4-40C1-A8E2-E86962C1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A187-6B47-4A47-9286-75751D62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64CD-218D-44EE-8392-7F577723A96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Arial"/>
                <a:ea typeface="Arial"/>
              </a:rPr>
              <a:t>Quiz</a:t>
            </a:r>
            <a:br>
              <a:rPr sz="4000"/>
            </a:br>
            <a:r>
              <a:rPr b="1" i="1" lang="en-CA" sz="3600" spc="-1" strike="noStrike">
                <a:solidFill>
                  <a:srgbClr val="333399"/>
                </a:solidFill>
                <a:latin typeface="Arial"/>
                <a:ea typeface="Arial"/>
              </a:rPr>
              <a:t>Les relations R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Calibri"/>
              </a:rPr>
              <a:t>RDA fournit des instructions pour quels types de rela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entre les ressources et les personnes/collectivités/famil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entre les œuvres, les expressions, les manifestations et les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entre les personnes, les collectivités et les famil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entre les concepts, les objets, les événements et les lieu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  <a:ea typeface="Arial"/>
              </a:rPr>
              <a:t>Que retrouve-t-on dans les </a:t>
            </a:r>
            <a:br>
              <a:rPr sz="3600"/>
            </a:br>
            <a:r>
              <a:rPr b="1" lang="fr-FR" sz="3600" spc="-1" strike="noStrike">
                <a:solidFill>
                  <a:srgbClr val="333399"/>
                </a:solidFill>
                <a:latin typeface="Arial"/>
                <a:ea typeface="Arial"/>
              </a:rPr>
              <a:t>annexes I, J et K?</a:t>
            </a:r>
            <a:r>
              <a:rPr b="1" lang="fr-FR" sz="40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13336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es listes fermées de termes relatifs aux types de médias, de contenus et de supports matériels R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es listes ouvertes d’indicateurs de relation pour qualifier les différents types de relations existant entre les entité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Parmi les énoncés ci-dessous, lesquels expriment une relation entre une œuvre et une person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18760" y="2575080"/>
            <a:ext cx="808524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uteur du roma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rtiste qui a créé le tableau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e compositeur du concerto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nnotateur de la version manuscrite de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Le jugement du catalogueur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devrait prendre en considération si un élément est nécessaire pour donner accès à la ressour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est essentiel pour décider quelles relations additionnelles on doit établir, en plus des relations fondamentales L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n’est pas requis pour l’enregistrement des relations fondamentales L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Toutes les réponses ci-dess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3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  <a:ea typeface="Arial"/>
              </a:rPr>
              <a:t>Les indicateurs de relatio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68360" y="1413000"/>
            <a:ext cx="82296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priment la nature précise d’une re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nt codés en $e à la 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fin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s zones 100 ou 700 pour exprimer le rôle de la person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nt codés en $i au 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début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 zones 700, 775, etc. pour exprimer une relation entre res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’accordent avec le genre de la person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5" dur="indefinite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6" dur="indefinite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50003" t="26393" r="26745" b="16639"/>
          <a:stretch/>
        </p:blipFill>
        <p:spPr>
          <a:xfrm>
            <a:off x="2700360" y="326880"/>
            <a:ext cx="4535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Lesquelles des options suivantes sont conformes à R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Quatre zones 700 pour Gariépy, Gauthier, Paulhiac Scherrer et Scherrer, sans $e aute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Une seule zone 700 pour Garié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Aucune zone 7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L’indicateur de relation «auteur», saisi en $e dans quatre zones 700 pour Gariépy, Gauthier, Paulhiac Scherrer et Scherr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1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2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9" dur="indefinite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0" dur="indefinite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3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4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Riva Pat</cp:lastModifiedBy>
  <dcterms:modified xsi:type="dcterms:W3CDTF">2014-11-05T21:51:51Z</dcterms:modified>
  <cp:revision>118</cp:revision>
  <dc:subject/>
  <dc:title>Quiz Module 8: les relations RDA</dc:title>
</cp:coreProperties>
</file>