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592E74A-5B23-4DDF-831D-7360EB976C34}"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42E0DF9-F3E8-4B7A-B7A5-52BB69F27F1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 (bien que nous n’aborderons ce dernier point que très brièvement, à l’aide d’une seule diapositive, puisque malheureusement nous n’avons pas le temps suffisant pour traiter de façon plus approfondie des données d’autorité dans le cours de cette formation (i.e. dans la formation de 1 j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8 - Les relations</a:t>
            </a:r>
            <a:endParaRPr b="1" lang="en-US" sz="1200" spc="-1" strike="noStrike">
              <a:solidFill>
                <a:srgbClr val="000000"/>
              </a:solidFill>
              <a:latin typeface="Arial Unicode MS"/>
            </a:endParaRPr>
          </a:p>
        </p:txBody>
      </p:sp>
      <p:sp>
        <p:nvSpPr>
          <p:cNvPr id="132"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58296F-55EB-44BA-BDA6-C72468AF546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B72CFF-696C-45C6-8C74-1C2C0F051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888753-C89D-42CA-B0AF-0D5EE5B93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4291D7-BF60-448D-8F5D-F98FEEF13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798E92-8A93-45F9-8634-C45EA63E33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198DE0-6A70-4B61-9C3E-C86504057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BED940-AA4A-4E9C-BF8D-C74A7A457B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87F4C4-19C4-44AE-B0CA-3CEF5586B7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8C084-2FB3-4A6D-921D-69B89D5291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FACA74-FE92-4F61-B0A5-01D243CFA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EE82B3-42FE-4A2B-A4AC-1FC92FBB7A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BC4D7-1BC0-4C89-9F90-166A6C1B1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EE3186-1FA4-4F6C-8B3E-B1759B39C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193F2E-4D23-4FAE-95C5-BDB433A321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D8A582-1B5B-4959-A0EA-44CE6F133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D7E1E9-00DE-4622-B03D-79D284D81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6EA26D-B937-4242-AE72-F8BB3D362D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5540C4-D165-4C80-97EC-2E1D1EB01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6"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7"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8"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A3DD8AB-605D-41C6-B70A-B610CC3C9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81"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82"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8FAEF81-D36B-4191-852C-4BECE8A472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131538-0313-44CB-9264-673146C8EC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5C8E79-1B24-4AC0-AB54-3CC59BC0B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8"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9"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CC9D76F0-439D-4787-A2CE-93D914206C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B51C87-117E-4A96-8EF1-F36EAF57E6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0AFB5E-EA58-41F0-B3F5-47A2A49B3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93"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4"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5"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A7C025A-2119-4CEE-81F6-D325287B3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F3E7AA-E17B-4788-B764-C2C47309DB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9" name=""/>
          <p:cNvSpPr/>
          <p:nvPr/>
        </p:nvSpPr>
        <p:spPr>
          <a:xfrm>
            <a:off x="385920" y="1760400"/>
            <a:ext cx="8758080" cy="228852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Courier New"/>
                <a:ea typeface="Courier New"/>
              </a:rPr>
              <a:t> </a:t>
            </a:r>
            <a:r>
              <a:rPr b="1" lang="fr-CA" sz="2400" spc="-1" strike="noStrike">
                <a:solidFill>
                  <a:srgbClr val="008093"/>
                </a:solidFill>
                <a:latin typeface="Courier New"/>
              </a:rPr>
              <a:t>dédicateur.</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endParaRPr b="1" lang="en-US" sz="2400" spc="-1" strike="noStrike">
              <a:solidFill>
                <a:srgbClr val="000000"/>
              </a:solidFill>
              <a:latin typeface="Arial Unicode MS"/>
            </a:endParaRPr>
          </a:p>
        </p:txBody>
      </p:sp>
      <p:sp>
        <p:nvSpPr>
          <p:cNvPr id="100" name=""/>
          <p:cNvSpPr/>
          <p:nvPr/>
        </p:nvSpPr>
        <p:spPr>
          <a:xfrm>
            <a:off x="385920" y="412272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ADDF56C-F3B2-4195-8D03-76AF3B5FEF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C91560-DF2B-4169-ABD2-F31D70A50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5F7E39-7922-485A-9EF8-C67F3D1A0D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7"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E7E6F52-8C86-4F9A-89B1-BFCD358F2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7FABF6-B201-4270-AEF7-DCB2F5FAC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11"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B4B67F-7EE5-456D-BA47-3B5FF493BB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645B175-9A9B-49B3-BC9C-C7C2E5200C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a:t>
            </a:r>
            <a:r>
              <a:rPr b="0" lang="en-US" sz="2400" spc="-1" strike="noStrike">
                <a:solidFill>
                  <a:srgbClr val="008093"/>
                </a:solidFill>
                <a:latin typeface="Arial"/>
              </a:rPr>
              <a:t>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FE94B1-8D22-484F-B342-133052A0D5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94C08764-ED27-43B4-ACA3-735B14C3B54F}"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1E22E9-EF67-4BE3-AB98-9026D5B6F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CCA75A8C-1B70-4FB6-A5B0-405F36CEA3BD}"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454E24-01C6-4A19-B437-1253427199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99AC88-C82A-433F-801F-58D2A6783F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0ABE6E-4C0D-4F2F-9B9F-45D176FCD7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5"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6"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0FE771B-18F0-4813-85CC-F4F751CF66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DCAD1C-60DE-49D0-9450-3DC01AC12C2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475F5F-042F-4C53-B7BB-7EB3943C0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6FF570-61E5-4EF7-B8C2-8A8A34B30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FA28F6-F120-4F94-844F-ABF9F2B22A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5BBBA4-C04C-4594-B55D-38B0A6FDC8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A80BF4-60F3-473F-8F69-1BD647233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0661FA-4FDC-4F9E-8014-9BA1A0C43D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17T22:17:44Z</dcterms:modified>
  <cp:revision>319</cp:revision>
  <dc:subject/>
  <dc:title>Diapositive 1</dc:title>
</cp:coreProperties>
</file>