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5AFBB-D181-447C-AACC-859DCE4925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85B37-5540-41B0-8E41-D5486BD156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A8348-28FC-47AE-9BE0-B7B727E795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7A3C1-477E-48E9-A8A9-0E87A2B8C5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FFA80-823A-4AA2-A023-F6E58CB72E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6699F-AC01-4D5D-89D1-9D6B321C5C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B92BC-82B1-4DC3-A422-DA19D6E44A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0F6B6-9C24-4C55-8688-834D22787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86E64-6A80-4322-A8B7-94223EAFE1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B122A-8049-4E9B-BAE6-8B8177D219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B2EDB-52EC-4CAE-B16E-A2E6F898E0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C8D9A-47CD-4EB1-A391-17B2665DAA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91BBFB9-D50A-424F-BE12-98E48AC0A7C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cation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cisions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 du point d’accès autorisé représentant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outs aux points d’accès autorisé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18476-0AFC-4FC4-AAC7-AFFE2793BE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points d’accès autorisés sont utilisés dans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otices bibliographiq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identifier l’expression qui est cataloguée; aussi dans les 6XX et 7XX pour représenter les relations à d’autr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és selon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hapitr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ux étapes (similaires à l’identification de l’œuv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mer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l’information qui identifie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62A1C-CFFF-4D90-9C36-289B55F3AC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bliographique ou autorité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dentifier l’expression en l’enregistrant dans la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notice bibli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elon politiques LC) aussi en faisant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tice autor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ou nom/ti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es points d’accès autoris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nt utilisés dans d’autres notices d’autorité dans des zon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X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elations à d’autres expressions) pour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rait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dans les cas laissés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8C1AE-15DA-407A-BD35-D903A29B95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C-PCC PS 0.6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ions en ajoutant un attribut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criture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cré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30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radu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 éditions en d’autres langues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musica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8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BA460-50B3-4C08-BA15-2993B74D41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ruction du point d’accès autorisé représentant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élément de base est le point d’accès autorisé pour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ls que présentés dans 6.2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61920" y="3962520"/>
            <a:ext cx="6705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6666"/>
                </a:solidFill>
                <a:latin typeface="Courier New"/>
                <a:ea typeface="Courier New"/>
              </a:rPr>
              <a:t>Goncourt, Edmond de, 1822–1896. Frères Zemganno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"/>
          <p:cNvSpPr/>
          <p:nvPr/>
        </p:nvSpPr>
        <p:spPr>
          <a:xfrm>
            <a:off x="4264200" y="4359240"/>
            <a:ext cx="184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cccc"/>
                </a:solidFill>
                <a:latin typeface="Courier New"/>
                <a:ea typeface="Courier New"/>
              </a:rPr>
              <a:t>Anglais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7653C-727C-4557-92F6-FDAF931EEE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autorisés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ype de contenu 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5334120"/>
            <a:ext cx="4876560" cy="45972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"/>
          <p:cNvSpPr/>
          <p:nvPr/>
        </p:nvSpPr>
        <p:spPr>
          <a:xfrm>
            <a:off x="1146240" y="4648320"/>
            <a:ext cx="21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3000" spc="-1" strike="noStrike">
                <a:solidFill>
                  <a:srgbClr val="006666"/>
                </a:solidFill>
                <a:latin typeface="Arial"/>
              </a:rPr>
              <a:t>« et/ou »</a:t>
            </a:r>
            <a:endParaRPr b="1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F40BC-8BCB-4946-A920-FA72D0EBA7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 plus utiliser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« Polyglotte 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« Multilingue 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s $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seule sous-zone ave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exemple,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« Anglais &amp; françai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que expression doit être identifiée séparément (si cela est jugé utile pour l’accè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D9C9D-0DA9-4140-A0B1-7A60A49160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03-25T23:02:22Z</dcterms:modified>
  <cp:revision>263</cp:revision>
  <dc:subject/>
  <dc:title>Diapositive 1</dc:title>
</cp:coreProperties>
</file>