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14B4C-68B6-4131-8E56-5914CA5383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489EF-1D5C-45AC-B81C-4D60C18E09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D32A6-A920-45DA-B315-082CD05F24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E690C-5BFD-45E9-B541-550563A981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61E60-32ED-4547-A65B-DE10FA39F1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1FFB2-175B-4BE6-B371-F1913AFBB1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4E397-F02B-4186-B2D1-6D2470B0B6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821D7-D8A4-426A-B1B2-A6B50F40AE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B3CCC-1725-45C8-916D-A1BA934826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19F9D-C4C6-4B4E-85FF-9B980C8A1F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F6D0A-D822-47D0-9DEC-54F3343CE3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548FE-4853-4EF7-9C1F-D0B7B0E9AB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14A18E4-0D96-46A9-865B-74A730872450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ication d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cisions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on du point d’accès autorisé représentant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outs aux points d’accès autorisés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8E770-4962-47CE-A9B5-6A10168AF7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r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points d’accès autorisés sont utilisés dans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otices bibliographiq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identifier l’expression qui est cataloguée; aussi dans les 6XX et 7XX pour représenter les relations à d’autres expre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és selon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hapitre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ux étapes (similaires à l’identification de l’œuv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mer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l’information qui identifie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’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84333-BA28-4F09-864B-953099D55C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 LC sur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bliographique ou autorité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Toujou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dentifier l’expression en l’enregistrant dans la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notice bibliograph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parf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elon politiques LC) aussi en faisant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tice autori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tre ou nom/ti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Les points d’accès autorisé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nt utilisés dans d’autres notices d’autorité dans des zon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X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elations à d’autres expressions) pour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raité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dans les cas laissés a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jugement du catalogu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D9B1A-04FC-449D-8124-D1840A60CE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identifie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C-PCC PS 0.6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ressions en ajoutant un attribut a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criture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acré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30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radu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 éditions en d’autres langues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musicau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8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E453C-5D25-4FD8-BB7F-B519D9FEF8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truction du point d’accès autorisé représentant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élément de base est le point d’accès autorisé pour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Ajou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ls que présentés dans 6.27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61920" y="3962520"/>
            <a:ext cx="6705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006666"/>
                </a:solidFill>
                <a:latin typeface="Courier New"/>
                <a:ea typeface="Courier New"/>
              </a:rPr>
              <a:t>Goncourt, Edmond de, 1822–1896. Frères Zemganno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"/>
          <p:cNvSpPr/>
          <p:nvPr/>
        </p:nvSpPr>
        <p:spPr>
          <a:xfrm>
            <a:off x="4264200" y="4359240"/>
            <a:ext cx="184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cccc"/>
                </a:solidFill>
                <a:latin typeface="Courier New"/>
                <a:ea typeface="Courier New"/>
              </a:rPr>
              <a:t>Anglais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12876-F6D6-47DC-A5E1-95D4B848AE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autorisés pou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ype de contenu 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ang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aractéristique distin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5334120"/>
            <a:ext cx="4876560" cy="459720"/>
          </a:xfrm>
          <a:prstGeom prst="rect">
            <a:avLst/>
          </a:pr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"/>
          <p:cNvSpPr/>
          <p:nvPr/>
        </p:nvSpPr>
        <p:spPr>
          <a:xfrm>
            <a:off x="1146240" y="4648320"/>
            <a:ext cx="21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3000" spc="-1" strike="noStrike">
                <a:solidFill>
                  <a:srgbClr val="006666"/>
                </a:solidFill>
                <a:latin typeface="Arial"/>
              </a:rPr>
              <a:t>« et/ou »</a:t>
            </a:r>
            <a:endParaRPr b="1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45FE8-A86C-4DA8-A636-F5E068DDAE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 plus utiliser 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« Polyglotte 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« Multilingue 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s $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seule sous-zone ave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lusieurs lan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exemple,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« Anglais &amp; français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que expression doit être identifiée séparément (si cela est jugé utile pour l’accè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C2A68-EA77-4064-8657-6E952821AE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Pat Riva</cp:lastModifiedBy>
  <cp:lastPrinted>2010-10-18T15:40:26Z</cp:lastPrinted>
  <dcterms:modified xsi:type="dcterms:W3CDTF">2013-03-25T23:02:22Z</dcterms:modified>
  <cp:revision>263</cp:revision>
  <dc:subject/>
  <dc:title>Diapositive 1</dc:title>
</cp:coreProperties>
</file>