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4D05-C4A4-4BF9-A1EE-E220EFECD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5EA4-47E9-4E38-B3B6-B1B3BB0B9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147D-1139-4D07-87CD-D35B1B836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331B0-EBA4-4757-BEA0-957BBD0F3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C538-7811-4A3B-82EB-3386D2B68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136A-ACA4-47F5-891A-2696589A4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DFEF-B941-428B-99F4-77ACDFDC1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DA0D-29E2-4FE5-8A22-014E52653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F47E-64BE-49C4-9B87-506BA77E6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299C-56A4-45F4-8E21-C9A5ED35E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DB7F-5BE5-4074-848B-A43111804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754F6-518A-4FFC-8B0D-CDEDB82D2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766C23C-B4BA-4361-95F3-FEA0ED739CE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E317-1D07-4A3A-82AB-BAC51E2130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1397-F09B-4C05-9F59-55A7830772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0FA8-E630-4C97-BA85-9D46B230F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6986-7A13-412D-A6F1-0CF3D8945C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9A97-EE6B-493E-B12E-0460A4F845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4055-DF76-4361-81E1-71ADF967E1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70FB-F0AE-4EC7-AF8D-8382926146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38Z</dcterms:modified>
  <cp:revision>263</cp:revision>
  <dc:subject/>
  <dc:title>Diapositive 1</dc:title>
</cp:coreProperties>
</file>