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6631-6906-4FE1-8B76-C2FD45E7C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7962-61AC-42B7-998A-420DE6085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5FC8E-1CF1-42D2-91F8-BD5C247EF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5018-A0FE-4666-848B-D63174996B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0C0B-DE43-4614-A6FF-CDFACFA92C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02E5-8FC6-46AF-BF13-978B5EC5A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AC396-9221-46DC-B06D-F66ED976B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A8A5-80A5-4628-816A-60F5B257B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07AD-BD66-44CE-B5C9-BF94F3989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688F-E600-4EC3-AF31-AB769F7B5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9AB9-8ECE-41BE-9F58-73DC1BAC6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DE24-6AD9-427B-890A-0A25913F7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84B21E3-D80D-4980-ADBE-2210DA987D6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0ABC-7DD3-4F34-8F67-D41A108DAB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0E54-CF6D-40BB-A531-2084DA5919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33D7D-3524-42B8-A611-9329FF6BDC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63CA-7E52-40D1-A0EE-CD130575E7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D14F-CC0D-4625-87F8-F2675A9646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A403-1D68-4B67-9FF6-7AC28BBFAD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E4E89-251F-49CB-B7D9-345628EFE8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38Z</dcterms:modified>
  <cp:revision>263</cp:revision>
  <dc:subject/>
  <dc:title>Diapositive 1</dc:title>
</cp:coreProperties>
</file>