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C17A3-CDDD-46BF-A803-ECFAA14E24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9FD66-F5C9-47CF-AD2D-450506B28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CB4BF-B36E-447D-B1A1-67D992067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AE12D-E94E-4B17-9625-09625DE9B5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2E407-17A3-4D74-B3D0-E0584BC427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BB00A-CC79-4EE1-A7C9-12A02AFC6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3333D-2887-4602-8795-B3E68B5027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77C87-BED5-475C-ABD8-F399CDA450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9A28D-A55D-466F-8A4D-94B60893A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9315E-A6C1-45B2-B91B-884DC8435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C9625-BD11-4FFA-BE76-5DFF0F19B1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2FA45-4B09-4EC0-AB55-FBCFCEB69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B251466-4162-4C83-9AE3-EC8E7993CEB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aux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éateur (19.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personne, famille ou collectivité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responsable pour la cré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’œuvr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lus d’une ent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responsable de l’œuvre dans son intégralit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créateur ayant la responsabilité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princip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mmé en premier dans la ressource est req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a responsabilité principale n’est pas indiquée, seul 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créateur nommé en prem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t req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LC-PCC PS 19.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dique d’utiliser 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ur décider de donner des points d’accès autorisés pour les créateurs additionnels, au-delà de l’élément fonda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2FAB9-217C-4943-BEB9-3B9DF0BFEF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éateur – Chang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isparition de la « règle de trois 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i identifiait l’œuvre seulement par son titre privilégié quand il y avait plus de trois créate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 conséquent, il y aura plus d’œuvres nommées au moyen d’une combinaison créateur+titre privilég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641E2-48F5-4F90-A5EF-071654AFCD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ilateurs et modificateurs comme créateurs (19.2.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ne entité responsable d’une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eut être considérée comme étant la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créatric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a compilat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sélection, l’arrangement, l’édition, etc., du contenu de la compilation entraînent de fait la création d’une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nouvelle 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ne entité responsable de la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modification d’une œuvre préexistan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st considérée comme étant la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créatrice de la nouvelle œu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si la modification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change considérablement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nature ou le contenu de l’orig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362B3-610A-4D22-8A70-D8F543B146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ectivités considérées comme créatr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tégories d’œuv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19.2.1.1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ire à RCAA2 21.1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llectivité a préséance sur une personne ou une famille nommée en premier comme créat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, similaire à la LCRI pour 21.1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19.2.1.1.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ignitaires gouvernementaux et les dignitaires religie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dérés comme cré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88AD4-FB44-4083-9412-AB457BA960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ies de la Bible (6.23.2.9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ments par rapport à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3.2.9.1 Testaments, mettre au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ncien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uveau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3.2.9.2 Livres, suiv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rectement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ans mention du test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sd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pocaly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4DB5D-1C08-42BA-88D6-D8707FF86D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ilations et collabo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e disti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terminer comment chacune est ‘identifié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1B64C-7120-4CEE-A197-38AABFB926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décider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es que vous avez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ion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qui a créé qu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À partir de : source privilégiée, table des matières, préface, notes de programme, page d’accueil, autres composant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z que c’est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llabo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n’avez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ucune ind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qui a créé qu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out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39FF8-E81E-405B-A5EC-C9600968C7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œuvres par un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t être traité comme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’est-à-dire, il n’y a pas de collabo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é 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EC8EB-B910-4D23-8334-D595886128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 privilégié – Compilations par une Personne-Famille-Collectivité (6.2.2.1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st-ce qu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st connue par un tit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Pas habituel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Mais, par exemple, </a:t>
            </a:r>
            <a:r>
              <a:rPr b="0" i="1" lang="fr-CA" sz="2000" spc="-1" strike="noStrike">
                <a:solidFill>
                  <a:srgbClr val="008093"/>
                </a:solidFill>
                <a:latin typeface="Arial"/>
              </a:rPr>
              <a:t>Leaves of grass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est un exemple d’une compilation connue par un ti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i non, utiliser le titre collectif conventionnel (pas d’importance si le titre propre est distinctif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s complètes = utiliser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« Œuvr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s complètes en une seule forme = utiliser le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terme choisi par le catalogueur (par exemple, Pièces de théâtre, Poèmes, Roma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utres compilations de deux ou plusieurs (mais pas toutes) œuvres dans la même forme ou dans différentes formes =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ajouter « Extraits »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(et non «  Morceaux choisis ») au titre collectif conventionnel, y compris après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« Œuvr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0B9DA-5B94-4AA1-B812-009A7ECFD3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Compilation de 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par le même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a 1re œuvre comme titre privilégié (mais cela identifie de façon erronée la compi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4120" y="306720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Miller, Arthur, $d 1915-200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Archbishop’s ceiling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Two plays / $c Arthur Miller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505 0#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he Archbishop’s ceil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-- The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Miller, Arthur, $d 1915-2005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t 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>
            <a:off x="1415880" y="3067200"/>
            <a:ext cx="624852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339920" y="3067200"/>
            <a:ext cx="647676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29B5B-8F47-46C9-966F-792FBD6669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ion aux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sont les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 Nommer » 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de LC sur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ographique ou autorit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s d’accès autorisés pour l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35CA7-7948-4E4B-800F-8B8278E0F6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Compilation de 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par le même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avec application de l’alternative d’utiliser un titre collectif conven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1480" y="2590920"/>
            <a:ext cx="792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Miller, Arthur, $d 1915-200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Pièces de théâtre. $k Extrai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Two plays / $c Arthur Miller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505 0# $a The Archbishop’s ceiling -- Th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700 12 $a Miller, Arthur, $d 1915-2005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$t Archbishop’s ceiling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Miller, Arthur, $d 1915-2005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t 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>
            <a:off x="461880" y="6019920"/>
            <a:ext cx="75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* 2e</a:t>
            </a:r>
            <a:r>
              <a:rPr b="1" i="1" lang="en-US" sz="2200" spc="-1" strike="noStrike" baseline="30000">
                <a:solidFill>
                  <a:srgbClr val="008093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700 pas élément fondamental mais utile à l’usager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C26FC-210C-4F5B-9D35-577BEE3590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œuvres par plusieurs créateurs -- Compilations vs Collabo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ns 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rce qu’il n’y a pas un seul créateur des œuvres individu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incipal ou premier nomm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CDB06-0B67-4ACE-BFAB-C61997AF32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Compilation d’œuvres par différents créateurs (pas de titre collecti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a 1re œuvre comme titre privilégié (mais cela n’identifie pas la compi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4120" y="3067200"/>
            <a:ext cx="807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100 1# $a Polk, Shar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Community band concer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24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 $a Community band concerts / $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haron Polk. Fall harves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 / Terri Swans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7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2 $a Swanson, Terri. $t Fall harvest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1797120" y="2990880"/>
            <a:ext cx="571500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797120" y="2990880"/>
            <a:ext cx="556236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6E07C-0386-4629-A864-0BE3E87F37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Compilation d’œuvres par différents créateurs (pas de titre collecti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e titre propre de la 1re œuvre comme titre privilégié (</a:t>
            </a: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ne pas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forger un tit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743200"/>
            <a:ext cx="838224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00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Community band concert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/ $c Sharon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olk.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Fall harvest festival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/ Terri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wanson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700 12 $a Polk, Sharon. $t Community band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    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concerts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Swanson, Terri. $t Fall harvest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5486400"/>
            <a:ext cx="769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* 2e 700 n’est pas requis mais utile pour l’usager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537AE-52C2-4992-8979-E11E996F33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collaborativ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e œuvre, plusieurs créateu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esponsable princip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u créate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mmé en prem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Exce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stées e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ms cinémat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es ressources impliquant à la fois des collectivités et des perso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es collaborations musi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lupart des publications en série (selon LC-PCC 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27D8F-2BA8-4F7C-9B7C-7EDCBBB8A9B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Plusieurs créateurs –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93"/>
                </a:solidFill>
                <a:latin typeface="Arial"/>
              </a:rPr>
              <a:t>Pas de changement, sauf pour ‘vedettes secondair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040" y="2492280"/>
            <a:ext cx="7683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Sweet, Martha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Georgia history / $c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artha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weet and Linda Bru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with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ontributions by Gus Peterson and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rilee James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Bruce, Linda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Peterson, Gu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James, Marilee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"/>
          <p:cNvSpPr/>
          <p:nvPr/>
        </p:nvSpPr>
        <p:spPr>
          <a:xfrm>
            <a:off x="474840" y="5576760"/>
            <a:ext cx="809136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* nombre de points d’accès pour autres créateur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LC-PCC PS 19.3 = jugement du catalogueu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12384-AAC4-486D-95D3-DE1D0AD2DAA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Plusieurs créateur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CA" sz="2800" spc="-1" strike="noStrike">
                <a:solidFill>
                  <a:srgbClr val="008093"/>
                </a:solidFill>
                <a:latin typeface="Arial"/>
              </a:rPr>
              <a:t>‘entrer’ sous le titre, sans zone 1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utres auteurs (Melanie Carlson, Stephen Lindell, Kevin Ott et Janet Wilson) listés sur la source, mais pas enregistrés dans le 2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2286000"/>
            <a:ext cx="77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5 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$a Architecture / $c by Susan Brown … [et al.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Brown, Susa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8D5AE-8FCC-45F5-A77D-0870286A859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Plusieurs créateur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faire précéder le titre privilégié par le créateur nommé en prem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1480" y="252720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100 1# $a Brown, Susa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Architecture / $c by Susan Brown, Melanie Carlson, Stephen Lindell,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Kevin Ott, and Janet Wils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Carlson, Melanie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Lindell, Stephe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Ott, Kevi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Wilson, Janet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"/>
          <p:cNvSpPr/>
          <p:nvPr/>
        </p:nvSpPr>
        <p:spPr>
          <a:xfrm>
            <a:off x="1701360" y="5656320"/>
            <a:ext cx="5453640" cy="70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93"/>
                </a:solidFill>
                <a:latin typeface="Arial"/>
              </a:rPr>
              <a:t>points d’accès pour autres créateurs :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93"/>
                </a:solidFill>
                <a:latin typeface="Arial"/>
              </a:rPr>
              <a:t>jugement du catalogueur (LC-PCC PS 19.3)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08BFF-4866-4C62-A26D-CF74783C341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représentant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er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cer avec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e précéder par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appropr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jout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 rendre dist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.1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ajout possible est discuté en détail dans les instructions précédentes du chapitre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32B14-B907-404A-B73A-5CE7ECBBCA9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représentant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For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ieu d’orig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876920"/>
            <a:ext cx="6705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d’ordre de priorité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ut donner plus d’un ajout si nécessair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A9B14-643B-4D58-AA68-F759993169B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ù sont les instruction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énéral, les instructions po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’identification des œuvres et des ex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dans le chapi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devrez aussi consulter les instructions connexes dan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« Personnes, familles et collectivités associées à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« Personnes, familles et collectivités associées à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32956-D077-41C6-96C1-B4272E2FC8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 Nommer » l’œuv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t comme ‘nommer’ les personnes et les collectivité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maintenant les famil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mbl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 concept de « vedette principale » dans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offre quatre possibilités où coder cett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XX + 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XX + 2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3445F-7047-4A67-A884-6B5CDDDCE0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nées bibliographiques ou d’autorité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n’indique pas si les attributs de l’œuvre et les points d’accès doivent être enregistrés comme données bibliographiques ou d’auto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que LC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fier l’œuvre en donnant le point d’accès dans la notic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bibli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fier l’œuvre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d’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auteur/titre – pas de changement dans la politique L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(DCM Z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9EA6E-33FC-447D-B679-B82E205587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rminologie reliée aux « Œuvres 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re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1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mot, caractère ou groupe de mots et/ou de caractères sous lequel une œuvre est connu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re privilégié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2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e du titre choisie pour créer le point d’accè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te de titre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3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e du titre choisie pour créer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vari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renvois voir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1C815-64D0-4463-859C-4FA5CAA326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 d’information pour les titres privilégiés (6.2.2.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consacré par l’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e œuvre créé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près 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partir des ressources matérialisant l’œuvre ou à partir des sources de réfé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fois : le titre propre de la première manifestation reç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e œuvre créé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vant 15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partir des sources de référence moder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es preuves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ne sont pas concluan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tiliser (dans cet ordre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ditions moder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ditions ancien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aires manuscr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97A66-A055-49E5-BDC6-5EE4F30F6B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 d’information pour les autres éléments (6.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ous les aut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tributs d’identification des œuvres et d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l’information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 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2C05A-96DB-462B-8C4C-084680982E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ints d’accès autorisés pour les œuvr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6.27.1.1 - 6.27.1.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assembler les éléments pour construire un 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élément de base est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Le point d’accès autorisé pour le 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écède le titre privilégié, le cas éché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u titre privilégié selon les instructions données sou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en vers les instructions sur l’enregistrement de chacun des éléments spéc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D3972-3E97-4CC0-AF96-5EA1381A02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Daniel Paradis</cp:lastModifiedBy>
  <cp:lastPrinted>2010-10-18T15:40:26Z</cp:lastPrinted>
  <dcterms:modified xsi:type="dcterms:W3CDTF">2013-11-05T17:28:00Z</dcterms:modified>
  <cp:revision>280</cp:revision>
  <dc:subject/>
  <dc:title>Diapositive 1</dc:title>
</cp:coreProperties>
</file>