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1E2F-3F7F-41D3-8058-0ADD18DFA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13AF-03B2-4517-808F-160C86DEF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4784-B527-4321-9EDC-E05191868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6F03-7152-4DD4-9BB3-574E293EC1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6721-691A-4A33-8987-4EDA64D88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BA15-8B13-4E41-BAA5-1BC41E6BD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DCD2-8CE8-406F-9F3A-88330DA60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421C-084F-480D-95C5-F11D72CD6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C5E5-FF8A-4EA1-8223-4951B81EF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EE6C-9F33-4C3D-9F32-9B19CCAD4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BBFF-EC48-4208-A222-6DB7E1D5E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2B95-1B98-41A1-A1E9-1C57FCF88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2FF77B0-AE1B-48D0-9A19-29B138C8E70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3F65-A92E-479C-A4E8-AB2E9A9893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8FD3-D650-4719-8C3C-1BD5654FD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considérée comme étant l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eur de la nouvelle œuv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DFCD-91EB-41AE-B880-5749DC3F40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au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08BD-EFEE-4D70-A27D-FFFBBDFB65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5399-A894-479F-A5B5-74D6543DDD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28B1-A6AC-4DF9-BA58-4D70FCE649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FBFD-6A13-4E6D-90E9-A7E2B93FFA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23F1-B487-492B-B071-224D814A5C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1EA6C-6C89-40E1-808E-6243B9ED7F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111A-004B-41C7-9854-9B7EBF8AD7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5ED0-4A91-4145-A8B7-E557D3A948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B2BF-8A0B-4184-8D8C-69EC883E7F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6FEE-B826-41B9-9E05-25ACB9C093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5BA4-9BA5-4052-AFCD-5B39C759E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E791-0D48-4ACC-8B1F-8F8DB5756C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5269-2203-4610-8B5C-34144C6A73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649A-7C5C-40A8-B812-C0737B91A3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8D98-5FCA-497E-B619-6AFB3E494E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8A98-4E1D-451A-91D0-F8F88FF75E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0A07-390C-4D4A-A7C9-C463C33345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FF2D-A376-42C0-B332-8D9AFD9853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84D2-5156-448B-B3E8-4317D6B04E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3F5B-7857-47F2-94D4-BBD00F2E18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0145-F255-4663-8977-2C4CB5689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A9CF-7E46-4240-88BB-023D8A250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3433-9E5D-4B02-B007-13E82ED0E9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573F-44F6-4E95-94AD-02259119DE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7F18-74E2-44F3-A743-6A0B401843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29Z</dcterms:modified>
  <cp:revision>276</cp:revision>
  <dc:subject/>
  <dc:title>Diapositive 1</dc:title>
</cp:coreProperties>
</file>