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personnes et des collectiv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B005C2-9807-4ABA-A955-B7579FAEAA1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personnes et des collectiv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3E49A9-F370-4586-BFA4-05AB5FB2623F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9445-C598-45C0-9115-F6E86528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7D99-6EB5-4BF9-89C3-CF1746BE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FE05-45E0-4CF0-9702-BA3A4FB7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69A6-D3E8-4F94-98D4-0D8C1EC6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DB2D-90ED-4818-83F4-E8FA3BC6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6C2C-D040-4840-8DA4-971A24BC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FE9A-4BB1-4649-98A6-29416761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1CAC-7898-4533-A90E-C4E1B01D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5E33-C6C0-4701-91F1-8F07200E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8CE3-809B-49E0-BA75-0CC09479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1C9D-B672-419B-AFCF-A9A4BCD7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CF54-D522-48D9-94A8-BEEB8644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35D6-FF65-4A91-A1C6-FC9FBD68B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449B-68A8-40F4-B3EA-2A556F833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250920" y="2060640"/>
            <a:ext cx="8569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62080"/>
                <a:tab algn="l" pos="2511360"/>
                <a:tab algn="l" pos="4572000"/>
                <a:tab algn="l" pos="4935600"/>
                <a:tab algn="l" pos="770724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36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Identification des personnes et des collectivit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E463-597A-4715-BCA1-418125CC7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5690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4120" y="3035160"/>
            <a:ext cx="7140600" cy="16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24000" y="1557360"/>
            <a:ext cx="8445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100 0# $a M. B., $d activité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83B0-2C67-430D-9C01-E312C913F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2923920"/>
            <a:ext cx="836280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ou RCAA2 pourrait avoir été utilis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74760" y="1628640"/>
            <a:ext cx="8445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100 1# $a Ohlhausen, Peter $c (Chercheur en ges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E5AE-251A-4257-88BE-A25556D3A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st-ce possible d’avoir un point d’accès autorisé RDA pour un nom personnel indifférenci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79480" y="2565360"/>
            <a:ext cx="7724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" dur="indefinite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" dur="indefinite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02D6-799E-4E5D-9F3F-E456A4B60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280" y="3112920"/>
            <a:ext cx="75819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539640" y="1557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111 2# $a Annual Conference on Development and Change $n (1re : $d 2005 : $c N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  <a:ea typeface="Arial"/>
              </a:rPr>
              <a:t>ī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mr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  <a:ea typeface="Arial"/>
              </a:rPr>
              <a:t>ā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na, Ind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FB24-8A3F-4F5F-93EE-6D7E346FA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hoisir le nom privilégié RDA pour le congrès ci-dess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Arial"/>
              </a:rPr>
              <a:t>Fifth Annual SoFi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Fifth Annual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Annual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5FAA-12D0-478E-9857-69AABF2FB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Arial"/>
              </a:rPr>
              <a:t>110 1# $a États-Unis. $b Department o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RDA ou RCAA2 pourrait avoir été utilisé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70E4-22F5-4E6C-B029-F668A249E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326880"/>
            <a:ext cx="8569080" cy="20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rai ou Faux? RDA nous dit de déterminer le nom privilégié pour une collectivité à partir des sources suivantes (en ordre de préférence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0280" indent="0">
              <a:spcBef>
                <a:spcPts val="649"/>
              </a:spcBef>
              <a:buNone/>
              <a:tabLst>
                <a:tab algn="l" pos="0"/>
                <a:tab algn="l" pos="4313160"/>
                <a:tab algn="l" pos="6978600"/>
                <a:tab algn="l" pos="1046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 sources privilégiées d’information dans les ressources associées à la collectivit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0">
              <a:spcBef>
                <a:spcPts val="649"/>
              </a:spcBef>
              <a:buNone/>
              <a:tabLst>
                <a:tab algn="l" pos="0"/>
                <a:tab algn="l" pos="4313160"/>
                <a:tab algn="l" pos="6978600"/>
                <a:tab algn="l" pos="1046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res mentions formelles apparaissant dans les ressources associées à la collectivit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0">
              <a:spcBef>
                <a:spcPts val="649"/>
              </a:spcBef>
              <a:buNone/>
              <a:tabLst>
                <a:tab algn="l" pos="0"/>
                <a:tab algn="l" pos="4313160"/>
                <a:tab algn="l" pos="6978600"/>
                <a:tab algn="l" pos="1046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res sources (incluant des sources de référenc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313160"/>
                <a:tab algn="l" pos="6978600"/>
                <a:tab algn="l" pos="104680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4313160"/>
                <a:tab algn="l" pos="6978600"/>
                <a:tab algn="l" pos="104680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544500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9" dur="indefinite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0" dur="indefinite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403E-BCAD-4837-A1C5-AEDF5142F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rai ou faux? Le nom privilégié pour une collectivité est un élément fondamental. Les variantes du nom pour une collectivité sont optionnel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96820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7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8:07:42Z</dcterms:created>
  <dc:creator>BANQ</dc:creator>
  <dc:description/>
  <dc:language>en-US</dc:language>
  <cp:lastModifiedBy>BANQ</cp:lastModifiedBy>
  <dcterms:modified xsi:type="dcterms:W3CDTF">2013-04-05T13:58:51Z</dcterms:modified>
  <cp:revision>55</cp:revision>
  <dc:subject/>
  <dc:title>Autorités RDA</dc:title>
</cp:coreProperties>
</file>