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z - Identification des personnes et des collectiv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54BB93C-E6EC-477F-A076-9EEAF1FD3A2B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z - Identification des personnes et des collectiv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D14EA99-E007-494C-9B70-78EC7F42853E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5DC6-A5F8-45C7-B9A9-F250930F0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DF92-A8AC-48AE-B3DF-A5075E8F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9330-045B-4F0D-B513-7A40C8C35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FBD9-2AE1-412C-94B5-5C1408E4A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6894-AD3B-492F-B83F-F9154AAA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DC36-F0EF-42B9-96AE-42B4D596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B27E-EA53-44A4-AA1D-11C3273D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1E9C-3D6D-4AE3-8763-43E264D8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A1F7-9F03-4EA3-857F-7AF3FBF2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0049-25FD-4A89-ACE2-F03904B6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22A3-55B6-4951-A953-B320C543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A96A-4560-4391-981A-7A88905D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EAC2-2C81-4465-90B9-026AFAE49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6688-D060-4B68-B80C-01A565F71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250920" y="2060640"/>
            <a:ext cx="8569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62080"/>
                <a:tab algn="l" pos="2511360"/>
                <a:tab algn="l" pos="4572000"/>
                <a:tab algn="l" pos="4935600"/>
                <a:tab algn="l" pos="770724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Quiz</a:t>
            </a:r>
            <a:br>
              <a:rPr sz="3600"/>
            </a:br>
            <a:r>
              <a:rPr b="1" i="1" lang="fr-FR" sz="3600" spc="-1" strike="noStrike">
                <a:solidFill>
                  <a:srgbClr val="333399"/>
                </a:solidFill>
                <a:latin typeface="Arial"/>
              </a:rPr>
              <a:t>Identification des personnes et des collectivit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C61D-1F5D-4807-BBBE-D9BE846CA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56908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4120" y="3035160"/>
            <a:ext cx="7140600" cy="16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24000" y="1557360"/>
            <a:ext cx="8445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100 0# $a M. B., $d activité 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7731-BB17-4B63-8324-ED2E616CC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2923920"/>
            <a:ext cx="836280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ou RCAA2 pourrait avoir été utilis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74760" y="1628640"/>
            <a:ext cx="8445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404040"/>
                </a:solidFill>
                <a:latin typeface="Arial"/>
              </a:rPr>
              <a:t>100 1# $a Ohlhausen, Peter $c (Chercheur en ges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E17E-A0A6-41BA-B458-FFAF3C15B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Est-ce possible d’avoir un point d’accès autorisé RDA pour un nom personnel indifférenci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79480" y="2565360"/>
            <a:ext cx="7724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" dur="indefinite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" dur="indefinite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CE01-5748-4268-8A13-A18937EE6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280" y="3112920"/>
            <a:ext cx="75819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539640" y="1557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404040"/>
                </a:solidFill>
                <a:latin typeface="Arial"/>
              </a:rPr>
              <a:t>111 2# $a Annual Conference on Development and Change $n (1re : $d 2005 : $c N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  <a:ea typeface="Arial"/>
              </a:rPr>
              <a:t>ī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</a:rPr>
              <a:t>mr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  <a:ea typeface="Arial"/>
              </a:rPr>
              <a:t>ā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</a:rPr>
              <a:t>na, Ind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A5D5-3D66-470A-B0EA-E5BC1DE2D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hoisir le nom privilégié RDA pour le congrès ci-dess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Arial"/>
              </a:rPr>
              <a:t>Fifth Annual SoFiE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111 2# $a Fifth Annual SoFiE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111 2# $a Annual SoFiE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111 2# $a SoFiE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2464-32D0-43A2-A38C-7D7F33579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Arial"/>
              </a:rPr>
              <a:t>110 1# $a États-Unis. $b Department of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RDA ou RCAA2 pourrait avoir été utilisé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BBFB-CE3F-498A-B2E5-693E1D675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326880"/>
            <a:ext cx="8569080" cy="202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rai ou Faux? RDA nous dit de déterminer le nom privilégié pour une collectivité à partir des sources suivantes (en ordre de préférence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23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0280" indent="0">
              <a:spcBef>
                <a:spcPts val="649"/>
              </a:spcBef>
              <a:buNone/>
              <a:tabLst>
                <a:tab algn="l" pos="0"/>
                <a:tab algn="l" pos="4313160"/>
                <a:tab algn="l" pos="6978600"/>
                <a:tab algn="l" pos="104680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 sources privilégiées d’information dans les ressources associées à la collectivit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0">
              <a:spcBef>
                <a:spcPts val="649"/>
              </a:spcBef>
              <a:buNone/>
              <a:tabLst>
                <a:tab algn="l" pos="0"/>
                <a:tab algn="l" pos="4313160"/>
                <a:tab algn="l" pos="6978600"/>
                <a:tab algn="l" pos="104680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res mentions formelles apparaissant dans les ressources associées à la collectivit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0">
              <a:spcBef>
                <a:spcPts val="649"/>
              </a:spcBef>
              <a:buNone/>
              <a:tabLst>
                <a:tab algn="l" pos="0"/>
                <a:tab algn="l" pos="4313160"/>
                <a:tab algn="l" pos="6978600"/>
                <a:tab algn="l" pos="104680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res sources (incluant des sources de référenc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4313160"/>
                <a:tab algn="l" pos="6978600"/>
                <a:tab algn="l" pos="104680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4313160"/>
                <a:tab algn="l" pos="6978600"/>
                <a:tab algn="l" pos="104680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544500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9" dur="indefinite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0" dur="indefinite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5190-F5A6-44A8-97D2-69152442C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rai ou faux? Le nom privilégié pour une collectivité est un élément fondamental. Les variantes du nom pour une collectivité sont optionnel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96820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7" dur="indefinite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8" dur="indefinite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8:07:42Z</dcterms:created>
  <dc:creator>BANQ</dc:creator>
  <dc:description/>
  <dc:language>en-US</dc:language>
  <cp:lastModifiedBy>BANQ</cp:lastModifiedBy>
  <dcterms:modified xsi:type="dcterms:W3CDTF">2013-04-05T13:58:51Z</dcterms:modified>
  <cp:revision>55</cp:revision>
  <dc:subject/>
  <dc:title>Autorités RDA</dc:title>
</cp:coreProperties>
</file>