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E87CCDA-9166-4C68-8979-2081C543C2DA}"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AE3D884-2C14-4997-956F-FB693C8BC86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FA295F7-BAF7-483E-B187-875C306D82A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695331C-6622-4DD9-8368-4E8C41C4588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5C3052-BF93-4D71-9B17-1C6D6541EF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AA205F-9F2A-4E51-B541-093E4A9D30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1C0459-6281-4A56-BA9E-1C21527204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22A912-3EF8-43CB-819A-8436208338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C59063-909C-4CA7-8168-2ADF49CFF1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DEC585-AE59-49AD-8D84-107B5AD82F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8B22AF-3A81-4EDD-A3D1-0DCE8B3D88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EAEF73-5616-4724-AFF5-4A0B3B93AA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648773-7E33-4AC5-B730-54C4942FBE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D7F168-8CF6-4D73-87C6-340B16DF0D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FFAAE0-93B0-4D8B-B6D1-C94AEEDC96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68CF2E-7AA9-47FA-A69E-69BC81CB9B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B6DC650-6A00-41C3-BC69-356FBD1CB7A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a:t>
            </a:r>
            <a:br>
              <a:rPr sz="2800"/>
            </a:br>
            <a:r>
              <a:rPr b="1" lang="fr-CA"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F47AAB-B9CB-48B4-9118-2FB62843BB7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C0AC79-9699-4F3D-9490-EF48378E46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63BF3A-FBDA-4633-A9DE-A1ED8C0BA6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697E69-E0AD-431F-9942-B435A0CB8E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694675-D988-4FC5-89F2-62AE3D9402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49D831-2717-4940-B951-667C46D549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0"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EA65C9D-8FCF-430F-AABE-FF01DF2E74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75661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bréviations « s. » et « ca » </a:t>
            </a:r>
            <a:r>
              <a:rPr b="0" lang="fr-CA"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s. » devient « </a:t>
            </a:r>
            <a:r>
              <a:rPr b="0" lang="fr-CA" sz="2000" spc="-1" strike="noStrike">
                <a:solidFill>
                  <a:srgbClr val="008093"/>
                </a:solidFill>
                <a:latin typeface="Arial"/>
              </a:rPr>
              <a:t>siècle</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8093"/>
                </a:solidFill>
                <a:latin typeface="Arial"/>
              </a:rPr>
              <a:t>environ</a:t>
            </a:r>
            <a:r>
              <a:rPr b="0" lang="fr-CA"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Mais</a:t>
            </a:r>
            <a:r>
              <a:rPr b="0" lang="fr-CA"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ériode d’activité de la personne : « </a:t>
            </a:r>
            <a:r>
              <a:rPr b="0" lang="fr-CA" sz="2000" spc="-1" strike="noStrike">
                <a:solidFill>
                  <a:srgbClr val="008093"/>
                </a:solidFill>
                <a:latin typeface="Arial"/>
              </a:rPr>
              <a:t>activité</a:t>
            </a:r>
            <a:r>
              <a:rPr b="0" lang="fr-CA"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AnQ va employer « activi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35473A-7677-4DA7-B37D-1347163C90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4BB9C40-1D65-4986-97E5-FF7718A86C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3"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e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1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14DE43-B376-41C7-9D9F-3150D4953F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19"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11BBD9-E431-48BF-9424-FE8F3484FE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41BEC9-B825-4A30-B9AC-937FA48E90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3AFB83-77C0-4E52-8179-E6ACAC0B3C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341EC2-D4B9-4600-893D-551239A0E4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1586035-28B3-4D59-80CC-E43A5B79D3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136"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xpo</a:t>
                      </a:r>
                      <a:r>
                        <a:rPr b="0" lang="fr-CA" sz="2000" spc="-1" strike="noStrike">
                          <a:solidFill>
                            <a:srgbClr val="000000"/>
                          </a:solidFill>
                          <a:latin typeface="Arial"/>
                        </a:rPr>
                        <a:t> (</a:t>
                      </a:r>
                      <a:r>
                        <a:rPr b="0" lang="fr-CA" sz="2000" spc="-1" strike="noStrike">
                          <a:solidFill>
                            <a:srgbClr val="008093"/>
                          </a:solidFill>
                          <a:latin typeface="Arial"/>
                        </a:rPr>
                        <a:t>1986</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3A12E2-40D6-4ECA-A46E-40E9A7D906B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29EBD83-F2F1-4F1C-8C32-D0652B9384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520EAC-18D3-47C8-A9A6-919C7B12B6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BF50BB3-7B66-4F1D-AF8B-D2AC0D7533D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83A3D6-D943-4EFC-BD6A-5F4ECE8D501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10</a:t>
            </a:r>
            <a:r>
              <a:rPr b="0" i="1" lang="fr-CA" sz="2800" spc="-1" strike="noStrike">
                <a:solidFill>
                  <a:srgbClr val="000000"/>
                </a:solidFill>
                <a:latin typeface="Arial"/>
              </a:rPr>
              <a:t>	</a:t>
            </a:r>
            <a:r>
              <a:rPr b="0" i="1" lang="fr-CA" sz="2800" spc="-1" strike="noStrike">
                <a:solidFill>
                  <a:srgbClr val="000000"/>
                </a:solidFill>
                <a:latin typeface="Arial"/>
              </a:rPr>
              <a:t>Identification des familles</a:t>
            </a:r>
            <a:r>
              <a:rPr b="0" i="1"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295D05-D913-4E46-94C3-34AE25EDD0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5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54E51F-4417-4857-856B-837E124099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8AFE88-A705-4EA6-B8E4-3947DEAA5F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1E79BB-B604-48EC-8A74-FDB571A242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31CC38-A20C-4117-87D3-CA036BBE62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0-17T20:04:12Z</dcterms:modified>
  <cp:revision>313</cp:revision>
  <dc:subject/>
  <dc:title>Diapositive 1</dc:title>
</cp:coreProperties>
</file>