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89F25A6-E818-463B-B287-8876DC53D785}"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92D5EF5-D7A9-46B3-9096-EBC9DA35567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61EF909-0C97-4BE1-A978-1C31F6923BD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34A7B3A-5C93-4AC8-A771-E215859558D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1F6A85-9628-4AE7-8F35-7F9596612D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C41606-748E-4A4B-842C-B131FE2FF5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07E67E-2360-4E4B-8989-2905C0C294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7D523F-7D53-41CF-845F-DD81EF6600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228AA9-7980-403D-86B7-3A61839B12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79D6DE-33BF-4801-9B7A-E03752422D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9C739D-0190-4ED0-9331-BEF7BFC266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AF645D-E570-4704-A085-20022F3BAC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E8D7B6-EAEB-47F3-A682-D5E1DB1BBC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76CED7-9F1B-4D85-BA03-A86CDF2750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8C13E7-6B93-4DEE-97EC-6F5FC48520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93915E-CFFD-400A-A4E2-57550EE8C0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376CF2-D33C-4849-B327-B09543E8CE6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a:t>
            </a:r>
            <a:br>
              <a:rPr sz="2800"/>
            </a:br>
            <a:r>
              <a:rPr b="1" lang="fr-CA"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F40DEE-31B0-427C-8324-143738419F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4A2ED7-5D08-4630-963E-722CA89594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C9DA76-3DFA-40CE-B844-FD162963BD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D2FEC2-B087-4FD1-A436-81BFC192EF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2A5C45-800F-4F4A-8E7F-9D00F1846F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9C7F0BE-5924-4B47-BB13-FBEA72DC7C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0"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FA5371-5911-47C7-B0E6-98CED82FE0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75661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bréviations « s. » et « ca » </a:t>
            </a:r>
            <a:r>
              <a:rPr b="0" lang="fr-CA"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s. » devient « </a:t>
            </a:r>
            <a:r>
              <a:rPr b="0" lang="fr-CA" sz="2000" spc="-1" strike="noStrike">
                <a:solidFill>
                  <a:srgbClr val="008093"/>
                </a:solidFill>
                <a:latin typeface="Arial"/>
              </a:rPr>
              <a:t>siècle</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8093"/>
                </a:solidFill>
                <a:latin typeface="Arial"/>
              </a:rPr>
              <a:t>environ</a:t>
            </a:r>
            <a:r>
              <a:rPr b="0" lang="fr-CA"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Mais</a:t>
            </a:r>
            <a:r>
              <a:rPr b="0" lang="fr-CA"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ériode d’activité de la personne : « </a:t>
            </a:r>
            <a:r>
              <a:rPr b="0" lang="fr-CA" sz="2000" spc="-1" strike="noStrike">
                <a:solidFill>
                  <a:srgbClr val="008093"/>
                </a:solidFill>
                <a:latin typeface="Arial"/>
              </a:rPr>
              <a:t>activité</a:t>
            </a:r>
            <a:r>
              <a:rPr b="0" lang="fr-CA"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AnQ va employer « activi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4F0808-E669-4B69-8DF4-C6531CB01C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6338327-C5F2-4F5C-80C5-88F19BA2268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3"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e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1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3D4CABC-24B8-4C28-8ACC-F8A1EEB674C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19"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5676FB-E22A-44F7-A7A0-26CB7701D1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1E9DDCB-8607-478C-BAF4-2A9AB78EC9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C5D5E9-F1F8-4CEF-878A-625CA637E4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252F3DD-08B0-43FF-9C1B-9471EA0F38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E66185-A84A-4767-B4E2-896504D7D8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136"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xpo</a:t>
                      </a:r>
                      <a:r>
                        <a:rPr b="0" lang="fr-CA" sz="2000" spc="-1" strike="noStrike">
                          <a:solidFill>
                            <a:srgbClr val="000000"/>
                          </a:solidFill>
                          <a:latin typeface="Arial"/>
                        </a:rPr>
                        <a:t> (</a:t>
                      </a:r>
                      <a:r>
                        <a:rPr b="0" lang="fr-CA" sz="2000" spc="-1" strike="noStrike">
                          <a:solidFill>
                            <a:srgbClr val="008093"/>
                          </a:solidFill>
                          <a:latin typeface="Arial"/>
                        </a:rPr>
                        <a:t>1986</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78C4C2-84F3-4071-9C71-E4FECFD1214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1E335FC-C167-49A6-B550-5A598BD8A5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B6F9CE-A44A-43B8-83CE-FD198BEE7E1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7591EC9-FD69-48A9-96FE-7700C3653F2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CB44CA-54BC-47C4-9D99-145FFF3351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10</a:t>
            </a:r>
            <a:r>
              <a:rPr b="0" i="1" lang="fr-CA" sz="2800" spc="-1" strike="noStrike">
                <a:solidFill>
                  <a:srgbClr val="000000"/>
                </a:solidFill>
                <a:latin typeface="Arial"/>
              </a:rPr>
              <a:t>	</a:t>
            </a:r>
            <a:r>
              <a:rPr b="0" i="1" lang="fr-CA" sz="2800" spc="-1" strike="noStrike">
                <a:solidFill>
                  <a:srgbClr val="000000"/>
                </a:solidFill>
                <a:latin typeface="Arial"/>
              </a:rPr>
              <a:t>Identification des familles</a:t>
            </a:r>
            <a:r>
              <a:rPr b="0" i="1"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510A87-35B0-459A-8ECF-9B41BC37BF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5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B2CDB4-B379-4EFF-A9D6-68D637DBC9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D8F6C2-50D4-44EB-9123-12939C642FB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70E21C-D2E6-4C8F-A91F-E159D156F4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BE2062-AE9F-4A01-A672-4176E003A6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0-17T20:04:12Z</dcterms:modified>
  <cp:revision>313</cp:revision>
  <dc:subject/>
  <dc:title>Diapositive 1</dc:title>
</cp:coreProperties>
</file>