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A00784A-A1B8-492B-9709-841B5A84EA01}"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55075C4-357D-4039-81E6-3EFC7A12556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D1220F-CFCE-4FD8-B345-FDB39E7E2C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E64B21-EA46-4ED9-9E38-E39C8B33EB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C2CEE0-34D7-4E28-93B6-B2FA690B44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7FC7D3-C192-47A8-BD93-3384412486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0C0C33-454F-4975-B64C-646245281F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854E32-2821-486C-B54B-87C8EEAA68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878D2B-2B90-4E3D-899D-1F4EE55FFB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5FFE09-707B-4F06-868E-CE922ED55B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836F12-C59A-4607-A488-5C112C9D6F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A80546-576B-4E84-ADEF-E091D5DE20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18080D-D950-4C21-8E75-240315149F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63809B-4404-4D14-9DDE-D895970A45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BC1804-28E0-4EF8-AD49-849AA451F6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a:t>
            </a:r>
            <a:br>
              <a:rPr sz="2800"/>
            </a:br>
            <a:r>
              <a:rPr b="1" lang="en-US"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621B2E-EB92-4E6C-A6FC-4E7B6DBD2F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AFFFF0-C384-4453-B306-E579EC4AD5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523D85-E61F-4F3A-BFEC-C6E17244CE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57E26C-D371-44B0-B0BF-161377F708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4CC3CE-94AB-49A0-99FC-6335576414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76" name=""/>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79D25A5B-C3E6-4BD5-9CC4-A12C4B85D3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78" name="PlaceHolder 2"/>
          <p:cNvSpPr>
            <a:spLocks noGrp="1"/>
          </p:cNvSpPr>
          <p:nvPr>
            <p:ph/>
          </p:nvPr>
        </p:nvSpPr>
        <p:spPr>
          <a:xfrm>
            <a:off x="653760" y="1600200"/>
            <a:ext cx="75661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bréviations « s. » et « ca » </a:t>
            </a:r>
            <a:r>
              <a:rPr b="0" lang="en-US"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 » devient « </a:t>
            </a:r>
            <a:r>
              <a:rPr b="0" lang="en-US" sz="2000" spc="-1" strike="noStrike">
                <a:solidFill>
                  <a:srgbClr val="008093"/>
                </a:solidFill>
                <a:latin typeface="Arial"/>
              </a:rPr>
              <a:t>siècle</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93"/>
                </a:solidFill>
                <a:latin typeface="Arial"/>
              </a:rPr>
              <a:t>environ</a:t>
            </a:r>
            <a:r>
              <a:rPr b="0" lang="en-US"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Mais</a:t>
            </a:r>
            <a:r>
              <a:rPr b="0" lang="en-US"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activité de la personne : « </a:t>
            </a:r>
            <a:r>
              <a:rPr b="0" lang="en-US" sz="2000" spc="-1" strike="noStrike">
                <a:solidFill>
                  <a:srgbClr val="008093"/>
                </a:solidFill>
                <a:latin typeface="Arial"/>
              </a:rPr>
              <a:t>activité</a:t>
            </a:r>
            <a:r>
              <a:rPr b="0" lang="en-US"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Q va employer « activité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9CF1E8-EC47-44C2-BDF7-73CAC956C4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844520" y="1600200"/>
            <a:ext cx="403884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E29BD0F3-A281-43F3-971F-4634B65B4A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83" name="PlaceHolder 2"/>
          <p:cNvSpPr>
            <a:spLocks noGrp="1"/>
          </p:cNvSpPr>
          <p:nvPr>
            <p:ph/>
          </p:nvPr>
        </p:nvSpPr>
        <p:spPr>
          <a:xfrm>
            <a:off x="654120" y="1345680"/>
            <a:ext cx="8229600" cy="4526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8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748757B-CEEA-4A12-87CA-D5F7F576D5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8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21D37889-8A40-43E1-9973-4E72819E0E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1656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5717E7-2FC7-4265-BCC5-CB6DD27A3F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4724A1-50F7-49E7-9F74-749B8DFE5A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notices d’autorité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687BCC-11D4-477C-A26A-E3FFC46C01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3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7E2C3C-C00B-4485-8FA8-5B9230325E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96" name=""/>
          <p:cNvGraphicFramePr/>
          <p:nvPr/>
        </p:nvGraphicFramePr>
        <p:xfrm>
          <a:off x="423720" y="1346040"/>
          <a:ext cx="8460000" cy="5170320"/>
        </p:xfrm>
        <a:graphic>
          <a:graphicData uri="http://schemas.openxmlformats.org/drawingml/2006/table">
            <a:tbl>
              <a:tblPr/>
              <a:tblGrid>
                <a:gridCol w="4032360"/>
                <a:gridCol w="4427640"/>
              </a:tblGrid>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C6DB12D6-0B50-41F6-AFCD-AD44D50019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6E4401-19A2-4616-A0AF-192BBAD5CC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88E690-A20E-48B7-B540-AF69838A52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E6A5A6-D37F-47E9-BA3B-014BA4FC5C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9ECCC0-A06C-4C18-84CC-B076351428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a:solidFill>
                  <a:srgbClr val="000000"/>
                </a:solidFill>
                <a:latin typeface="Arial"/>
              </a:rPr>
              <a:t>	</a:t>
            </a:r>
            <a:r>
              <a:rPr b="0" i="1" lang="en-US" sz="2800" spc="-1" strike="noStrike">
                <a:solidFill>
                  <a:srgbClr val="000000"/>
                </a:solidFill>
                <a:latin typeface="Arial"/>
              </a:rPr>
              <a:t>Identification des familles</a:t>
            </a:r>
            <a:r>
              <a:rPr b="0" i="1"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3" name=""/>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249DAEB8-588F-416F-A1E7-149ADE222B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39448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0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FD27E35-9AF8-415A-B33B-D4E7B0274F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4DEC9A-8BC6-4DFC-80E3-F6B870E363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5C7AC6-B0D1-496A-B9DE-B710C02716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6A3864-4810-4840-968E-1D0E4D0D9E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A5ED4F1-7B2A-490E-B895-1BCB524B3D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47Z</dcterms:modified>
  <cp:revision>305</cp:revision>
  <dc:subject/>
  <dc:title>Diapositive 1</dc:title>
</cp:coreProperties>
</file>