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340031F-FBF2-435A-B8F3-0F622BA3C863}"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348E505-B21A-433B-B47C-BDC071695E7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8352B9-8B4B-41C3-B826-8EE54E80B5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6584F7-5576-48EA-9CC3-F290B4FCBD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C8A9EC-BEE3-4836-9C55-28515DF7FD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ADB776-E50E-494B-93B9-F8056C3E96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822C74-1A3E-44E3-9481-3EB1AF236D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AB2A27-AA9F-4279-84A2-D22149525D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E58E2A-7DC7-47EC-8155-688DBB9258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CB31D2-7981-4589-B6AA-22890E7D16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F2BC54-C3F3-4287-8C1B-D83B19E50B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0DEF63-A645-4ED9-A924-E271284FE3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23BCAA-28E9-4578-A43C-0DB92A7BDA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10E2AB-5A63-4797-AC4B-5B3EAFDD35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86C9F0A-61EE-41B1-A405-ED34F9EDA77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a:t>
            </a:r>
            <a:br>
              <a:rPr sz="2800"/>
            </a:br>
            <a:r>
              <a:rPr b="1" lang="en-US"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64D613-0082-437F-8E2E-283A535CAC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872EF4-75A9-4958-AF5E-F5B8BBF48B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073063-1BEE-43DA-9EE0-50E9B7F06E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11A7B2A-9D3D-428E-82B6-31D8CBAF36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783AA2-09B4-4F50-B3C0-7C33684BC9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7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76" name=""/>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0870D796-22ED-46BB-AB82-14BB662076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78" name="PlaceHolder 2"/>
          <p:cNvSpPr>
            <a:spLocks noGrp="1"/>
          </p:cNvSpPr>
          <p:nvPr>
            <p:ph/>
          </p:nvPr>
        </p:nvSpPr>
        <p:spPr>
          <a:xfrm>
            <a:off x="653760" y="1600200"/>
            <a:ext cx="75661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bréviations « s. » et « ca » </a:t>
            </a:r>
            <a:r>
              <a:rPr b="0" lang="en-US"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 » devient « </a:t>
            </a:r>
            <a:r>
              <a:rPr b="0" lang="en-US" sz="2000" spc="-1" strike="noStrike">
                <a:solidFill>
                  <a:srgbClr val="008093"/>
                </a:solidFill>
                <a:latin typeface="Arial"/>
              </a:rPr>
              <a:t>siècle</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8093"/>
                </a:solidFill>
                <a:latin typeface="Arial"/>
              </a:rPr>
              <a:t>environ</a:t>
            </a:r>
            <a:r>
              <a:rPr b="0" lang="en-US"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Mais</a:t>
            </a:r>
            <a:r>
              <a:rPr b="0" lang="en-US"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ériode d’activité de la personne : « </a:t>
            </a:r>
            <a:r>
              <a:rPr b="0" lang="en-US" sz="2000" spc="-1" strike="noStrike">
                <a:solidFill>
                  <a:srgbClr val="008093"/>
                </a:solidFill>
                <a:latin typeface="Arial"/>
              </a:rPr>
              <a:t>activité</a:t>
            </a:r>
            <a:r>
              <a:rPr b="0" lang="en-US"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Q va employer « activité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3E7B3D-530D-40A1-9531-78F6BB42E5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4038480" cy="4525920"/>
          </a:xfrm>
          <a:prstGeom prst="rect">
            <a:avLst/>
          </a:prstGeom>
          <a:noFill/>
          <a:ln w="0">
            <a:noFill/>
          </a:ln>
        </p:spPr>
        <p:txBody>
          <a:bodyPr lIns="90000" rIns="90000" tIns="46800" bIns="46800"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844520" y="1600200"/>
            <a:ext cx="403884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0E1C2408-20EF-4E27-A847-A81D327AD8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83" name="PlaceHolder 2"/>
          <p:cNvSpPr>
            <a:spLocks noGrp="1"/>
          </p:cNvSpPr>
          <p:nvPr>
            <p:ph/>
          </p:nvPr>
        </p:nvSpPr>
        <p:spPr>
          <a:xfrm>
            <a:off x="654120" y="1345680"/>
            <a:ext cx="8229600" cy="4526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8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9175171C-10C2-4F7A-BD4A-D55D4709AA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8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EDB5DF4C-32BD-411F-BF52-1C247FC3ED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1656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CA6AE1-7A6E-4DCC-AF26-AC045227AE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C25925-26F7-4350-A29B-8975CDB139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notices d’autorité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6B26CC7-111B-4F9D-A451-8DB5B02528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3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A7A30C-DCAE-4D2B-9CD2-E60CEB0489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96" name=""/>
          <p:cNvGraphicFramePr/>
          <p:nvPr/>
        </p:nvGraphicFramePr>
        <p:xfrm>
          <a:off x="423720" y="1346040"/>
          <a:ext cx="8460000" cy="5170320"/>
        </p:xfrm>
        <a:graphic>
          <a:graphicData uri="http://schemas.openxmlformats.org/drawingml/2006/table">
            <a:tbl>
              <a:tblPr/>
              <a:tblGrid>
                <a:gridCol w="4032360"/>
                <a:gridCol w="4427640"/>
              </a:tblGrid>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69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90A4E57D-1864-4EAA-9293-CE11DA48C7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CC8982-17CE-43D2-B931-07A370B354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36EC6EE-4F2F-4CEA-B726-29E321F607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1A7154-FA01-4295-A16D-A08521DE4F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7C4138-951E-404A-ABF8-4F30A7C603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0</a:t>
            </a:r>
            <a:r>
              <a:rPr b="0" i="1" lang="en-US" sz="2800" spc="-1" strike="noStrike">
                <a:solidFill>
                  <a:srgbClr val="000000"/>
                </a:solidFill>
                <a:latin typeface="Arial"/>
              </a:rPr>
              <a:t>	</a:t>
            </a:r>
            <a:r>
              <a:rPr b="0" i="1" lang="en-US" sz="2800" spc="-1" strike="noStrike">
                <a:solidFill>
                  <a:srgbClr val="000000"/>
                </a:solidFill>
                <a:latin typeface="Arial"/>
              </a:rPr>
              <a:t>Identification des familles</a:t>
            </a:r>
            <a:r>
              <a:rPr b="0" i="1"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3" name=""/>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EFC9588B-A963-4394-89DE-C581910D75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39448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0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0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8C258399-A3AC-4EBB-BEC0-1BF9B3A68D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ED5CD6-CBBC-47E4-A2BA-F93E5ADF02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6DECE0-6DFF-4000-92CA-D8B9802ED9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F947DE-7696-494E-992A-0D61722973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6F7A8E-9889-4890-9427-75FB876524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47Z</dcterms:modified>
  <cp:revision>305</cp:revision>
  <dc:subject/>
  <dc:title>Diapositive 1</dc:title>
</cp:coreProperties>
</file>