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A3E16FD-010E-48B4-B36B-7470B667ECDF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4B3DF76-D825-456D-9D75-743F044099C9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5240F92-8FCD-463C-8F48-8EC782CDD6B8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0AC0-980F-499C-B8C6-E8F92B303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2232-2ECA-494F-8C46-F372D77E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0D87-9D38-4DBE-A6FE-2C8DEE983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243B-3194-4516-BE4F-B1D30879E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4D7E-2924-4DC2-AD3B-E48C8E05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BD45-D45E-4B75-B471-B926EC87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3F23-8973-48DC-9315-D27538A6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032A-C36F-494E-B206-CF025D8E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B27B-5710-4FD6-B6D0-B277C03B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FFE8-7338-4AF2-80B1-3C9F106E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D478-B0B6-45BC-A0D7-A46673B4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8CC9-854B-4D37-A4E6-36B775F1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A96E-E2B3-4D56-82B1-7D1486085E96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1988640"/>
            <a:ext cx="856908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262080"/>
                <a:tab algn="l" pos="2511360"/>
                <a:tab algn="l" pos="4572000"/>
                <a:tab algn="l" pos="4935600"/>
                <a:tab algn="l" pos="770724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Arial"/>
              </a:rPr>
              <a:t>Quiz</a:t>
            </a:r>
            <a:br>
              <a:rPr sz="3600"/>
            </a:br>
            <a:r>
              <a:rPr b="1" i="1" lang="fr-FR" sz="3600" spc="-1" strike="noStrike">
                <a:solidFill>
                  <a:srgbClr val="333399"/>
                </a:solidFill>
                <a:latin typeface="Arial"/>
              </a:rPr>
              <a:t>Description des supports matériel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Lesquels des éléments suivants constituent des éléments fondamentaux R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type de mé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type de support maté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importance matéri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méthode de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es les réponses ci-d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Bulle ronde 3"/>
          <p:cNvSpPr/>
          <p:nvPr/>
        </p:nvSpPr>
        <p:spPr>
          <a:xfrm>
            <a:off x="5364000" y="2168640"/>
            <a:ext cx="3311640" cy="1620720"/>
          </a:xfrm>
          <a:prstGeom prst="wedgeEllipseCallout">
            <a:avLst>
              <a:gd name="adj1" fmla="val -72532"/>
              <a:gd name="adj2" fmla="val 27666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Uniquement si la ressource est complète ou si l’importance matérielle totale est conn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50572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Vrai ou faux? Les termes utilisés dans les zones MARC 336, 337 et 338 proviennent de listes fermées que l’on retrouve au chapitre 3, dans RDA.</a:t>
            </a:r>
            <a:r>
              <a:rPr b="1" lang="fr-FR" sz="2800" spc="-1" strike="noStrike">
                <a:solidFill>
                  <a:srgbClr val="376092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22400" y="2606400"/>
            <a:ext cx="8229600" cy="29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à coins arrondis 3"/>
          <p:cNvSpPr/>
          <p:nvPr/>
        </p:nvSpPr>
        <p:spPr>
          <a:xfrm>
            <a:off x="3348000" y="2637000"/>
            <a:ext cx="4896000" cy="2592360"/>
          </a:xfrm>
          <a:prstGeom prst="roundRect">
            <a:avLst>
              <a:gd name="adj" fmla="val 16667"/>
            </a:avLst>
          </a:prstGeom>
          <a:noFill/>
          <a:ln w="34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Faux! La zone 336 est réservée à l’enregistrement du type de contenu de la ressource. Les instructions et le vocabulaire relatifs au type de contenu se trouvent au chapitre 6, “Identification des œuvres et des expressions”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" dur="indefinite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" dur="indefinite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Lesquels des éléments suivants, enregistrés dans la zone MARC 300, se rapportent au support 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19120" y="2287080"/>
            <a:ext cx="8229600" cy="33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’importance matériel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s illustr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s dimen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a coule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Toutes les réponses ci-dess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1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2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Lesquels des groupes d’éléments suivants décrivent conformément à RDA une monographie constituée d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8000" y="1422000"/>
            <a:ext cx="896472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f3f3f"/>
                </a:solidFill>
                <a:latin typeface="Arial"/>
              </a:rPr>
              <a:t>	</a:t>
            </a:r>
            <a:r>
              <a:rPr b="1" i="1" lang="fr-CA" sz="1800" spc="-1" strike="noStrike">
                <a:solidFill>
                  <a:srgbClr val="3f3f3f"/>
                </a:solidFill>
                <a:latin typeface="Arial"/>
              </a:rPr>
              <a:t>21 pages numérotées de texte, suivies de 18 pages de planches de portraits non numérotées et de 18 feuillets numérotés. Le volume mesure 25,2 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[18] pages de planches, 18 feuillets : $b illustrations ; $c 26 centimèt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a image fix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volum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18 pages de planches non numérotées, 18 feuillets : $b illustrations ; $c 26 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volum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18 pages de planches non numérotées, 18 feuillets : $b portraits ; $c 26 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image fix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volum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18 pages de planches non numérotées, 18 feuillets : $b portraits ; $c 25,2 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image fix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monographi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500" fill="hold"/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16:22:24Z</dcterms:created>
  <dc:creator>BANQ</dc:creator>
  <dc:description/>
  <dc:language>en-US</dc:language>
  <cp:lastModifiedBy>Daniel Paradis</cp:lastModifiedBy>
  <dcterms:modified xsi:type="dcterms:W3CDTF">2013-11-13T16:57:28Z</dcterms:modified>
  <cp:revision>33</cp:revision>
  <dc:subject/>
  <dc:title>Diapositive 1</dc:title>
</cp:coreProperties>
</file>