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274B72A-DCC2-4231-8DF7-EB2FBF36DA61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B5DB834-C383-49A7-B8EC-77F2ACAA0D75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352D5A6-ECB5-44AE-A06A-F6A9A3166070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6580-D30D-4A5B-BD33-79AFB7CB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1B91-9C5F-4B72-A86E-66264C9B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98C6-718E-47FE-8837-A0C1D98A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0F76-502F-42DC-A12D-FA80BC9A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6AC8-EF3B-4838-8BC1-CF9637DE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CFFF-08CE-48AD-B751-20DD00B0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89F0-34A6-4505-99A3-34CE974B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335E-D82B-4770-874C-9A41EDC7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CD8A-A58D-46B9-AA2D-3D7FE4F5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12E9-1836-4E13-AD23-83D4388D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BFB4-4787-4060-8486-CE068E40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908D-F7A5-47FE-975F-3B92C9BD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8D38-D486-460D-A379-178D7E7A18FF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1988640"/>
            <a:ext cx="856908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262080"/>
                <a:tab algn="l" pos="2511360"/>
                <a:tab algn="l" pos="4572000"/>
                <a:tab algn="l" pos="4935600"/>
                <a:tab algn="l" pos="770724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Quiz</a:t>
            </a:r>
            <a:br>
              <a:rPr sz="3600"/>
            </a:br>
            <a:r>
              <a:rPr b="1" i="1" lang="fr-FR" sz="3600" spc="-1" strike="noStrike">
                <a:solidFill>
                  <a:srgbClr val="333399"/>
                </a:solidFill>
                <a:latin typeface="Arial"/>
              </a:rPr>
              <a:t>Description des supports matériel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Lesquels des éléments suivants constituent des éléments fondamentaux R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type de mé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type de support 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importance matéri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éthode de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es les réponses ci-d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Bulle ronde 3"/>
          <p:cNvSpPr/>
          <p:nvPr/>
        </p:nvSpPr>
        <p:spPr>
          <a:xfrm>
            <a:off x="5364000" y="2168640"/>
            <a:ext cx="3311640" cy="1620720"/>
          </a:xfrm>
          <a:prstGeom prst="wedgeEllipseCallout">
            <a:avLst>
              <a:gd name="adj1" fmla="val -72532"/>
              <a:gd name="adj2" fmla="val 27666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Uniquement si la ressource est complète ou si l’importance matérielle totale est conn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50572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Vrai ou faux? Les termes utilisés dans les zones MARC 336, 337 et 338 proviennent de listes fermées que l’on retrouve au chapitre 3, dans RDA.</a:t>
            </a:r>
            <a:r>
              <a:rPr b="1" lang="fr-FR" sz="2800" spc="-1" strike="noStrike">
                <a:solidFill>
                  <a:srgbClr val="376092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22400" y="2606400"/>
            <a:ext cx="822960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à coins arrondis 3"/>
          <p:cNvSpPr/>
          <p:nvPr/>
        </p:nvSpPr>
        <p:spPr>
          <a:xfrm>
            <a:off x="3348000" y="2637000"/>
            <a:ext cx="4896000" cy="259236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Faux! La zone 336 est réservée à l’enregistrement du type de contenu de la ressource. Les instructions et le vocabulaire relatifs au type de contenu se trouvent au chapitre 6, “Identification des œuvres et des expressions”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" dur="indefinite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" dur="indefinite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Lesquels des éléments suivants, enregistrés dans la zone MARC 300, se rapportent au support 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9120" y="2287080"/>
            <a:ext cx="8229600" cy="33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’importance matériel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s illustr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s dimen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a coule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Toutes les réponses ci-dess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Lesquels des groupes d’éléments suivants décrivent conformément à RDA une monographie constituée d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8000" y="1422000"/>
            <a:ext cx="896472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f3f3f"/>
                </a:solidFill>
                <a:latin typeface="Arial"/>
              </a:rPr>
              <a:t>	</a:t>
            </a:r>
            <a:r>
              <a:rPr b="1" i="1" lang="fr-CA" sz="1800" spc="-1" strike="noStrike">
                <a:solidFill>
                  <a:srgbClr val="3f3f3f"/>
                </a:solidFill>
                <a:latin typeface="Arial"/>
              </a:rPr>
              <a:t>21 pages numérotées de texte, suivies de 18 pages de planches de portraits non numérotées et de 18 feuillets numérotés. Le volume mesure 25,2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[18] pages de planches, 18 feuillets : $b illustrations ; $c 26 centimèt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a image fix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volum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18 pages de planches non numérotées, 18 feuillets : $b illustrations ; $c 26 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volum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18 pages de planches non numérotées, 18 feuillets : $b portraits ; $c 26 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image fix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volum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18 pages de planches non numérotées, 18 feuillets : $b portraits ; $c 25,2 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image fix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monographi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16:22:24Z</dcterms:created>
  <dc:creator>BANQ</dc:creator>
  <dc:description/>
  <dc:language>en-US</dc:language>
  <cp:lastModifiedBy>Daniel Paradis</cp:lastModifiedBy>
  <dcterms:modified xsi:type="dcterms:W3CDTF">2013-11-13T16:57:28Z</dcterms:modified>
  <cp:revision>33</cp:revision>
  <dc:subject/>
  <dc:title>Diapositive 1</dc:title>
</cp:coreProperties>
</file>