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B36A-8018-4D9C-8044-50A6E3BB9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90BC-84E8-43B9-9DF2-04C32A249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A013-4D55-4609-ADC2-2858E5694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4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AB81-47E4-4582-952E-74F63E69E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38CB-6D35-42B8-A5C0-8DD9D291F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7934-9756-4363-ADE7-9F73E1A15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C8F1-8F5D-47FE-B002-8EF9A6BBF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4766-B92C-4DC0-906A-E48F37888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4120" y="202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4768-5897-474E-9063-C46C7DB0A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DE10-4C43-4CBA-9874-A30337596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1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6130-BA8D-44F9-B2D6-CFE076F4D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1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4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1C85-6EB8-458E-BAF9-A6DFFBA54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bandeauux ppt9.jp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28600">
              <a:spcBef>
                <a:spcPts val="700"/>
              </a:spcBef>
              <a:buClr>
                <a:srgbClr val="5f5f5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6080" y="6441840"/>
            <a:ext cx="3243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r>
              <a:rPr b="0" lang="fr-CA" sz="900" spc="-1" strike="noStrike">
                <a:solidFill>
                  <a:srgbClr val="4d4d4d"/>
                </a:solidFill>
                <a:latin typeface="Verdana"/>
              </a:rPr>
              <a:t>Bibliothèque et Archives nationales du Québec</a:t>
            </a:r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384360" y="6447960"/>
            <a:ext cx="2261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fr-CA" sz="9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900" spc="-1" strike="noStrike">
                <a:solidFill>
                  <a:srgbClr val="4d4d4d"/>
                </a:solidFill>
                <a:latin typeface="Verdana"/>
              </a:rPr>
              <a:t>▪ </a:t>
            </a:r>
            <a:fld id="{C867115F-86FD-48C2-949C-61472C3256CF}" type="slidenum">
              <a:rPr b="0" lang="fr-CA" sz="9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expressions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99ED-C8A8-41CB-ADB1-CD5E9C595F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umé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 de la notation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 supplémenta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de bibliographie e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3C65-D1FE-41F9-B063-53D7F82732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u contenu enregistrés dans la zone 300 du format M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œuv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ttributs de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F82F-6994-4BB4-8152-7FCB2A7EE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nes directrices général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on du conten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endre l’information utilisée pour la description du contenu de la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ressource elle-mê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ans certains cas, l’information peut également être prise de sources 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extérieures à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BDEC-747D-43C0-9800-A058E78D29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u contenu enregistrés dans la zone 300 du format MA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s associés au contenu, ils se retrouvent au chapitr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des RDA (et non au chapitr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illustratif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tenu de couleur (</a:t>
            </a:r>
            <a:r>
              <a:rPr b="0" lang="fr-CA" sz="2400" spc="-1" strike="noStrike">
                <a:solidFill>
                  <a:srgbClr val="008093"/>
                </a:solidFill>
                <a:latin typeface="Arial"/>
              </a:rPr>
              <a:t>7.17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Support matériel et contenu dans la zone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B678-DA69-4701-BD4B-B9CCF9FD66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illustratif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ément fondamental LC pour les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ressources destinées à la jeu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7.15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Enregistre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illustrations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selon le 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LC-PCC PS </a:t>
            </a:r>
            <a:r>
              <a:rPr b="0" lang="fr-CA" sz="2700" spc="-1" strike="noStrike">
                <a:solidFill>
                  <a:srgbClr val="008093"/>
                </a:solidFill>
                <a:latin typeface="Arial"/>
              </a:rPr>
              <a:t>7.15.1.3</a:t>
            </a:r>
            <a:r>
              <a:rPr b="0" lang="fr-CA" sz="2700" spc="-1" strike="noStrike">
                <a:solidFill>
                  <a:srgbClr val="000000"/>
                </a:solidFill>
                <a:latin typeface="Arial"/>
              </a:rPr>
              <a:t> : Généralement, ne pas appliquer l’alternative (ajout du type d’illust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registrer dans la zone MARC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008/18-21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et dans la zone </a:t>
            </a:r>
            <a:r>
              <a:rPr b="0" lang="fr-CA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4DB7-18B0-4A5C-9106-420757EC9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de coul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un élément fondamental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MARC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300 $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72000"/>
            <a:ext cx="8305920" cy="94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eu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es illustrations sont en couleur) 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partie en couleu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0 cartes, dont certaines so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cipalement en couleur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llustrations, majoritairement en couleur)</a:t>
            </a:r>
            <a:endParaRPr b="1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87F7-B857-41DB-A103-D1812F2F4E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– 30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important par rapport aux RCAA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as d’abré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uleur (pas « cou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c-similés (pas « fac-sim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228600">
              <a:spcBef>
                <a:spcPts val="575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lustrations (pas « ill.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24C3-38E2-4F69-9CE8-7E129BE2AE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Contenu – </a:t>
            </a:r>
            <a:br>
              <a:rPr sz="2800"/>
            </a:br>
            <a:r>
              <a:rPr b="1" i="1" lang="en-US" sz="2800" spc="-1" strike="noStrike">
                <a:solidFill>
                  <a:srgbClr val="006666"/>
                </a:solidFill>
                <a:latin typeface="Arial"/>
                <a:ea typeface="ＭＳ Ｐゴシック"/>
              </a:rPr>
              <a:t>Attributs des œuvres 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247C-5F88-47EC-8F75-030293472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412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ributs des œuv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4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verture du contenu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ibl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ur la thèse ou le mémoire (RDA </a:t>
            </a:r>
            <a:r>
              <a:rPr b="0" lang="en-US" sz="2800" spc="-1" strike="noStrike">
                <a:solidFill>
                  <a:srgbClr val="008093"/>
                </a:solidFill>
                <a:latin typeface="Arial"/>
              </a:rPr>
              <a:t>7.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F61C-E74D-4FAF-B5C5-0F9261320A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0:24:45Z</dcterms:created>
  <dc:creator>Louise Lecavalier</dc:creator>
  <dc:description/>
  <dc:language>en-US</dc:language>
  <cp:lastModifiedBy>Mylène Robichaud</cp:lastModifiedBy>
  <cp:lastPrinted>2010-10-18T15:40:26Z</cp:lastPrinted>
  <dcterms:modified xsi:type="dcterms:W3CDTF">2013-04-04T12:46:10Z</dcterms:modified>
  <cp:revision>251</cp:revision>
  <dc:subject/>
  <dc:title>Diapositive 1</dc:title>
</cp:coreProperties>
</file>