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CA7DC-52E6-456A-ADFE-EF7F222F4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E1837-629A-45AA-9C08-262CB9DD2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6E98A-EDDC-4DF9-A43F-DAEB88F10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A5BC7-6E93-4BE5-B951-F34778FC80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F88C0-2EC2-4A33-A3F4-79E328EAEE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00345-5831-49AD-B67E-97937FA2C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094E4-260E-4CEE-9A55-204F01231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37A5C-D7EE-4A38-B127-ED1898792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0967A-8C50-49D9-8638-1456ADDBC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10720-55A8-41D2-80C4-EFD281654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98A01-EF08-4898-B46F-9E5F3242D0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EAA80-EFAD-4C09-BBD4-C36006B81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1C18701-9D32-4697-895A-181793BAC25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DC7FB-1B39-4E19-A173-0BBC1109B8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sumé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 de la nota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u supplémenta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de bibliographie et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5B80-930E-46B9-BE60-305D1884FF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E1ED1-94DA-40BF-A455-597FD0C3F6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4CBA1-DFAF-4D57-A71B-386ACE2515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E8553-FD6F-49AA-B74D-C3CFB405CB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44FC2-86F0-498F-BE6B-EE4483C4A4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uleu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873DD-BDFA-40D8-86B6-34CF348C3C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6AAAD-EBD8-421C-B972-4CF094C600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87473-C0D5-495B-9C7F-B21129E0E9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ibl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ur la thèse ou le mémo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F95EB-3FC1-42B9-AE8E-7E29283FC0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04-04T12:46:10Z</dcterms:modified>
  <cp:revision>251</cp:revision>
  <dc:subject/>
  <dc:title>Diapositive 1</dc:title>
</cp:coreProperties>
</file>