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DFB90-5878-473C-ADAF-90C478915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1449F-4F98-4FA0-A82E-7D7D0D331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A93E4-37B6-473A-81A3-F39745BB8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4DA28-5DF6-4F0B-8127-9DF517A262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F48A6-81C6-443F-A4DD-30067F1BD5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41FF6-23E7-43B8-9D8A-93277DDC4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33414-5247-47CA-B00A-04A2D3A4A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23C7A-9D9F-430B-887E-DAA3C6822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05B1D-7B9B-4DCA-9D1E-5C2EF59C5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50C07-D9B7-4A7B-B582-F56BE1CF1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D2BB2-2942-4DDA-BD2D-7BEA0AFA9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C6F1F-A4E3-460D-8A17-26E2DC879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6AF89FC-408F-4C06-896B-B06A0FFEC92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C7006-87CC-487B-9AD3-B19B3D4764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en-US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E4589-4A6D-489A-BB4C-9F287DC1A6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DF17D-3FCA-4464-895B-05EB89551B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ivre avec un accompagnement (CD de conférence) : </a:t>
            </a:r>
            <a:r>
              <a:rPr b="0" lang="fr-CA" sz="20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Note :  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fr-CA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31123-270D-41D7-9871-7E0706C6BF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7A439-3E9A-447C-A94A-C125221856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8979A-6533-41B5-822B-AEE2BB3730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409AA-893B-4111-A94C-704FE12D79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8777A-D291-4296-BEC8-258EDC5AF9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en-US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34921-270D-48DE-8073-430E17F1FD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D95D1-F4AB-4277-A369-3DA71ED3E8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F22B3-9B96-4AD5-BD72-3480AEA2EC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iv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DF en lig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57073-A594-4838-8345-38D5D9CF71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A6F8B-A353-4D6E-B72A-30252D1A0B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Pat Riva</cp:lastModifiedBy>
  <cp:lastPrinted>2010-10-18T15:40:26Z</cp:lastPrinted>
  <dcterms:modified xsi:type="dcterms:W3CDTF">2013-04-11T18:54:56Z</dcterms:modified>
  <cp:revision>253</cp:revision>
  <dc:subject/>
  <dc:title>Diapositive 1</dc:title>
</cp:coreProperties>
</file>