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A561-6153-4F5A-9247-1E73C2B1C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2908-5480-4895-BA64-ADF1397E9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DE5D-5A7B-454B-84FA-6037AB7BE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6B4B-EC1C-40C6-AB71-EDEFAC42D2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31AD-4172-4085-AE24-9EBC1F087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5D84-EC91-46C8-BCD3-D813E72B5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1457-B40D-4004-B665-644418C90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7DED-57BA-4B31-A4FB-C67C14D08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E323-A72C-4055-8264-792E198F8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B4DF-1A44-4DF0-8E8F-BA1368D6A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04D1-770A-485A-A385-17C594DBF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A2AB-53F9-40FE-B861-D60F1CCC4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F4B7837-F9CB-4BA8-8F44-1A6E89243C6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FD07-1BA8-4300-88DF-9C8A69A0FF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3D4F-3675-4C27-AC66-B546FA0766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9887-E631-4DA6-9A97-938A000928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0384-7791-4BF7-A544-07131CA7C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F6F6-B6AC-4333-B154-AF88B3551E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80BC-86F5-479A-A310-6E8281647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6467-FD71-4C50-8D8A-8B66432F21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299B-4DF0-4A8E-86E2-1C66B01E88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5FC4-3425-4F27-B93B-8DE5014791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FB06-811D-4058-8B46-481DC769D6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72322-42E0-4F44-AF0C-68EB755F1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43FF-3464-441C-BB54-0F13582B20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CB1E-5BA9-481C-BAFF-ABF0674E8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4:56Z</dcterms:modified>
  <cp:revision>253</cp:revision>
  <dc:subject/>
  <dc:title>Diapositive 1</dc:title>
</cp:coreProperties>
</file>