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42975-BC74-46AB-BA7E-A2EE1490D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9392-1426-4633-BD7A-4DBAB1B11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9AFB-D3AD-4682-AA91-71F0F1095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C773-70DF-4C5A-94C3-DAE3559E4C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89CA8-0EFE-4A81-B3C5-5A451AC219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6930-DC8A-43E3-886E-B44C8403E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9304-F10E-49E0-95C5-37DDF8476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C018-25F2-4B96-B214-34825FE72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172F-7101-4B71-AC6B-B7E86C934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F3A7-41E6-40D6-AF8C-A3A2203E6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0277-B52D-4049-B046-16EAABA5E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D309-D464-497D-B02F-52AB2A6FC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AF47DC7-16AC-4E3C-885D-076FA24735A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0CA87-E993-4EA1-99E2-4EE1AE513D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D964-89C0-4F1D-938D-BB50855811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6DD5-F70D-4131-A372-03F6DDBC7A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ivre avec un accompagnement (CD de conférence) : </a:t>
            </a:r>
            <a:r>
              <a:rPr b="0" lang="fr-CA" sz="20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Note :  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3AADF-2AA3-4C94-9395-E2BC596120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BE17-4581-491E-A4D9-2ECF2F5009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96BF7-341F-43EF-9285-4E74ED5DDC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EB1B4-A9CB-46EB-9B04-3ADBCAE831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9AAD-9A83-48C8-8346-D23BABD92D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en-US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DD04B-2333-4762-B83B-5632B417AD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72E7A-F0F1-440D-8649-38FFAFF2FC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2E27-1698-4DC9-BA0F-E458D4DA66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DF en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6783B-2AD2-4866-AD1D-7FF47FF6A3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DC3BE-6692-4279-97FE-C39D46E52C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1T18:55:08Z</dcterms:modified>
  <cp:revision>253</cp:revision>
  <dc:subject/>
  <dc:title>Diapositive 1</dc:title>
</cp:coreProperties>
</file>