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manifestations et 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8F7F06-360A-4687-AF44-F7DBCB326937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manifestations et 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537722-08FA-4B6D-B66B-D974AFB3CBD1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21DC-A64E-4971-BF3F-44E1FC93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2C35-164C-49AE-ACB0-0D8E7189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6F54-6DE3-41FF-B9E5-7FA4E989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146F-2A2B-4AD5-BB71-EB38AB10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A767-6F2B-4B5B-BBA4-33814CE6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2D2C-D098-4575-8313-5DD012D3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D243-EEC7-4346-A7FB-516E3523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9E66-721C-4D49-89D3-B9DED6A4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F8D8-824C-4FB9-B875-32058D00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1EE7-8AAE-4353-A116-60E513A4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2659-D3DA-46ED-9E00-272A3B1A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CCBC-22CC-4E96-839D-9FAD458D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0765-0C67-4403-8F26-FFBABDEFB8BE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539640" y="2205000"/>
            <a:ext cx="7921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40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Identification des manifestations et des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CE04-C9DC-4442-8D46-B63385EE4287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333399"/>
                </a:solidFill>
                <a:latin typeface="Arial"/>
              </a:rPr>
              <a:t>Exerc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8580-DC0C-48C4-B793-59147D7809BE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2557440" y="1081080"/>
            <a:ext cx="4029120" cy="4695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2"/>
          <a:stretch/>
        </p:blipFill>
        <p:spPr>
          <a:xfrm>
            <a:off x="2290680" y="628560"/>
            <a:ext cx="4562640" cy="560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2286000" y="604800"/>
            <a:ext cx="457200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203A-D5E3-4CB8-8D1B-E844A6E1F6DE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Zone du titre (245) :</a:t>
            </a:r>
            <a:br>
              <a:rPr sz="2800"/>
            </a:b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Lesquelles de ces mentions sont accept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1360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5 $a Développement social et émotionnel chez l’enfant et l’adolescent : $b les bases du développement / $c sous la direction de Jean-Pascal Lemelin … [et al.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5 $a Développement social et émotionnel chez l’enfant et l’adolescent : $b les bases du développement / $c sous la direction de Jean-Pascal Lemelin, Marc A. Provost, George M. Tarabulsy, André Plamondon et Caroline Dufres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5 $a Développement social et émotionnel chez l’enfant et l’adolescent : $b les bases du développement / $c sous la direction de Jean-Pascal Lemelin [et quatre autre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5 $a DÉVELOPPEMENT SOCIAL ET ÉMOTIONNEL CHEZ L’ENFANT ET L’ADOLESCENT : $b les bases du développement / $c sous la direction de Jean-Pascal Lemelin [et quatre autre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9" dur="indefinite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0" dur="indefinite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3" dur="indefinite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4" dur="indefinite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9" dur="indefinite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0" dur="indefinite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6B53-F253-4EA2-967A-2A3EBE1A3199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rcRect l="11181" t="14386" r="9548" b="11513"/>
          <a:stretch/>
        </p:blipFill>
        <p:spPr>
          <a:xfrm>
            <a:off x="2008080" y="189000"/>
            <a:ext cx="5050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00F2-A957-4BDF-BA5D-42CE5B509A87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Zone de production, publication, etc. (264) : Lesquelles de ces mentions sont accept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$a Montréal, Québec : $b Baraka Book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eal, $c 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$a Montréal : $b Baraka Books of Montreal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c 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$a Montréal, Québec : $b Baraka Books, $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$a Montréal, Québec : $b Published by Barak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s of Montreal, $c 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ux zones 26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$a Montréal, Québec : $b Baraka Book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eal, $c 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c ©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indefinite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indefinite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5" dur="indefinite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6" dur="indefinite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indefinite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indefinite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3" dur="indefinite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4" dur="indefinite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B404-B681-4BA0-AB6B-BF865A3998A0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7848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Le terme RDA pour le concept RCAA2 de « vedette » es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63480" y="2316240"/>
            <a:ext cx="779616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) Cré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b) 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) Variante de point d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) Titre privilég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229C-FE41-4740-977A-8927ADCDB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À quels termes RDA correspondent les termes RCAA2 ci-dessou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88920"/>
            <a:ext cx="339408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uteur, composit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Vedette princip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Co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Renvoi 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780000" y="1887480"/>
            <a:ext cx="518472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Titre privilégié et, si approprié, point d’accès autorisé pour le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Description du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95280" y="4684680"/>
            <a:ext cx="85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) Auteur, compositeur, etc. = 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) Vedette principale            = b) Titre privilégié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) Collation                           = d) Description du suppor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) Renvoi voir                       = 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B863-991E-4C84-A03A-C3D78C0BF326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Le terme RCAA2 «source principale» a été remplacé par quel terme RDA?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569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a) Source principale (c.-à.-d. le terme n’a pas changé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b) Source presc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c) Source privilégié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d) Sources privilégié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0593-F173-413B-B215-84F27C47C49F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En général, vous cataloguez _____, même si une notice bibliographique contient aussi des éléments des autres entités OEM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a) L’œuv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b) L’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) La manife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) L’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2180-C398-4EF5-8A1B-E73971C93282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Quels sont les moyens de reconnaître une notice bibliographique RDA?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06 a la valeur « c 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18 a la valeur « i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1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2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31DC-85FF-471D-9B4B-FF01DEC7CF23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« Prenez ce que vous voyez et acceptez ce que vous trouvez » est le résumé de quel principe important?</a:t>
            </a: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principe FRBR des entités du groupe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principe international de catalogage de représenta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lignes directrices de l’IFLA sur la transcription des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instructions RDA sur l’exac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CEF2-2CBD-4BF1-864F-0CBE909DE92C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Faites correspondre le 2</a:t>
            </a:r>
            <a:r>
              <a:rPr b="1" lang="fr-CA" sz="3000" spc="-1" strike="noStrike" baseline="30000">
                <a:solidFill>
                  <a:srgbClr val="333399"/>
                </a:solidFill>
                <a:latin typeface="Arial"/>
              </a:rPr>
              <a:t>e</a:t>
            </a: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 indicateur de la zone 264 avec l’élément RDA qu’il doit désigner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99308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757080" y="4297320"/>
            <a:ext cx="77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1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2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3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4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2A2F-5D6A-4838-A617-4487E8ADFBD7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Vrai ou faux?</a:t>
            </a:r>
            <a:br>
              <a:rPr sz="2800"/>
            </a:b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Vous pouvez enregistrer une date de copyright, en plus d’une date de publication, mais vous n’êtes pas obligés de le f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040" y="2924280"/>
            <a:ext cx="76532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) 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b) 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8:45:44Z</dcterms:created>
  <dc:creator>BANQ</dc:creator>
  <dc:description/>
  <dc:language>en-US</dc:language>
  <cp:lastModifiedBy>Pat Riva</cp:lastModifiedBy>
  <dcterms:modified xsi:type="dcterms:W3CDTF">2013-04-08T22:55:35Z</dcterms:modified>
  <cp:revision>96</cp:revision>
  <dc:subject/>
  <dc:title>Identification des manifestations et des items</dc:title>
</cp:coreProperties>
</file>