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37C17E2-F447-4BE9-9DC6-7297E33C125F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80D4E9D1-D6BE-4C50-9005-9292E5A53752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Calibri"/>
              </a:rPr>
              <a:t>Mention d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titre propre de la collection, la numérotation au sein de la collection, le titre propre de la sous-collection, et la numérotation au sein de la sous-collection sont tous des éléments fondamentaux. Les autres sous-éléments relatifs à la mention de collection sont option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ructions sur l’enregistrement de la mention de collection se trouvent sous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.1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ant aux sources d’information, les instructions se trouvent sous chacun des sous-éléments qui constituent la mention de collection. Prenez également note que le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LC-PCC-PS 2.12.1.2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donne comme instruction de prendre la collection principale et les sous-collections d’une source contenant les deux titres à la f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’ailleurs, on se souviendra que LC n’établit plus de points d’accès autorisés aux titres des collections (en 83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C063-626A-41D8-949B-A55DBDAE5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7AB7-CB69-4162-ADFF-D753C66E7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CD34-CBC4-4837-88B3-10398F332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D0B8-0DDE-405E-82BD-D0A534C32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9405-57BF-45CD-B1E0-3E909E96E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6A44-8E7C-4787-B0C6-342641B87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254A-33E4-4F73-AAA3-258C677F9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4EF2-94AE-4616-AE51-90A411E47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955F-EFAD-425A-ABB3-EAED290B0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FE89-8974-4790-9E6A-440E41C67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46AF-0807-40A3-88D9-981976DA4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D0E1-CB44-4E94-94D5-3F551F5CD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en-US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957B9BC-BE6D-47B3-A959-D1DA7758560A}" type="slidenum">
              <a:rPr b="0" lang="en-US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Éléments fondamentaux du chapitre 2 : </a:t>
            </a:r>
            <a:br>
              <a:rPr sz="2800"/>
            </a:br>
            <a:r>
              <a:rPr b="1" i="1" lang="en-US" sz="2800" spc="-1" strike="noStrike">
                <a:solidFill>
                  <a:srgbClr val="008080"/>
                </a:solidFill>
                <a:latin typeface="Arial"/>
              </a:rPr>
              <a:t>« Identification des manifestations et des items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p d’application = « l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titre principal d’une res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’est-à-dire le titre normalement utilisé pour citer la ressource) » = le titre de ce qui est catalo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représentativ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3.1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e pas corriger les err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mon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’y aura plus de « [sic] » ou « [i.e. ____ ]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99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une note pour ex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DEE4-7555-4098-AA67-C2C5D052D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eur dans le titre prop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11600" y="3124080"/>
            <a:ext cx="751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ette</a:t>
            </a:r>
            <a:r>
              <a:rPr b="0" lang="fr-CA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corrigé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$a Tuesday’s task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320" y="4648320"/>
            <a:ext cx="90676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publication en sér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Zoology 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246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i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tre mal orthographié sur le numéro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Zooolog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ies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1905120"/>
            <a:ext cx="7772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tice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CAA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pour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e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Courier New"/>
                <a:ea typeface="ＭＳ Ｐゴシック"/>
              </a:rPr>
              <a:t>monographi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Teusday’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[i.e. Tuesday’s] tasks 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D411-1A18-4121-BCB1-7AFD6FF3A3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responsabilité relative au titre propre - Transcri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LC-PCC P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 Généralement ne pas omettre les noms dans une mention de responsabilité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3432240"/>
            <a:ext cx="83059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by Susan Brown, Melanie Carlson, Stephen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ndell, Kevin Ott, and Janet Wilson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 2.4.1.5</a:t>
            </a:r>
            <a:r>
              <a:rPr b="1" lang="fr-CA" sz="18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 </a:t>
            </a:r>
            <a:r>
              <a:rPr b="1" i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permet 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5 $a … / $c by Susan Brown 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[et quatre autres]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31840">
              <a:lnSpc>
                <a:spcPct val="100000"/>
              </a:lnSpc>
              <a:tabLst>
                <a:tab algn="l" pos="0"/>
                <a:tab algn="l" pos="1481040"/>
                <a:tab algn="l" pos="268452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/LC-PCC PS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245 $a … / $c by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Susan Brown,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Melanie Carlson, Stephen Lindell, Kevin 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Ott, and Janet Wils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68240" y="6019920"/>
            <a:ext cx="7633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45 $a … / $c by Susan Brown … [et al.]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62120" y="2547360"/>
            <a:ext cx="812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« Règle de trois » -- Changement par rapport aux RCAA2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752480" y="5791320"/>
            <a:ext cx="56390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76520" y="5791320"/>
            <a:ext cx="579096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CAAF-091B-46BF-A623-B2287FE0A7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plusieurs mention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e l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iè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egistrée est req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dans l’ordre indiqué par la séquence, la disposition ou la typographie sur la source d’information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outes les mentions de responsabilité ne sont pas indiquées, donner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préfé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celles identifiant les créateurs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intellectuel ou artis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4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4572000"/>
            <a:ext cx="780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sour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“introduction par _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’il y a uniquement une mention transcrite dans 245 $c, donner “rédigé par _____”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E6D8-A6E9-4CCA-B054-8C48BBEDA2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on de l’édition et indication d’u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évision nommée d’une é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tel que trouvé (sous la ligne directrice générale dans 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Pour les éléments transcrits, utiliser uniquement les abréviations trouvées dans les sources d’information pour l’élément » (Annex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B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68480" y="4008960"/>
            <a:ext cx="644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Third revised edi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3rd rev. 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50 $a Third revised edition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976400" y="5237640"/>
            <a:ext cx="658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2nd enlarged ed., revised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CAA2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250 $a 2nd enl. ed., rev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93"/>
                </a:solidFill>
                <a:latin typeface="Courier New"/>
                <a:ea typeface="ＭＳ Ｐゴシック"/>
              </a:rPr>
              <a:t>RDA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  250 $a 2nd enlarged ed., revised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BDD0-DBB3-4CE8-88F0-E557A4AF7B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ieurs éléments RDA dans MARC 26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roduc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publ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diffusion ou de distribu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ion de fabrication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de copyright - 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.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élément distinct de la date de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ment dans le format bibliographique MARC : zon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D547-BAB2-44C1-AB57-3A7D8B7EF4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'est jamais utilisé en RD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placé pa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pé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ur 2 précise la fonction de la m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659040"/>
            <a:ext cx="821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 Production (document n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ublié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 = Publica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 = Diffus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= Fabricatio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nufacture (impression)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 = Date de copyrigh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5209-6A8A-4FD7-A439-20A274B10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s-zones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Lie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Nom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terprétées selon la valeur dans ind. 2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lieu d'édition :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nom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'éditeur,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publication.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264 #</a:t>
            </a:r>
            <a:r>
              <a:rPr b="1" lang="fr-CA" sz="2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c 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date de copyright </a:t>
            </a:r>
            <a:br>
              <a:rPr sz="2800"/>
            </a:b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(pas d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 ou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DAF7-B65F-478E-B726-584FA12896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4 Production, Public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our les PES et ressources intégr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dicateur 1 (séquence des mentions)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# = Aucune information fournie / Premier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 = Intermédiaire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 = Courant / Plus 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#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Paris ;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New York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,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6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980-mai 199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64 </a:t>
            </a:r>
            <a:r>
              <a:rPr b="1" lang="fr-CA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3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juin 1993-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London :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C2CD-468A-4DA2-9671-D38573ACF7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manifestations et l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les notices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sont les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détaillée des élé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EB15-6D20-4372-8F54-F484656926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les ressources pub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– « une mention identifiant le ou les lieux de publication, le ou les éditeurs, et la ou les dates de publication d’une ressource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64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ond indicateur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F8F2-D44A-4836-B1E2-F67C232E8D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: si plus d’un lieu, seul le premier enregistré est re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2.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lieux de publication selon la forme qui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re à la fois le nom de lieu et les noms des juridictions plus vastes s’ils sont pré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d’ajouter une juridiction plus vaste si elle n’est pas déjà sur la ressource – jugement du catalo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8374-6893-4161-A5D6-C15B93F92E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s d’un lieu de pub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lus d’un lieu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ul le prem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registré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cun « pays d’origine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besoin de chercher un lieu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B94A-FB8C-4359-9B01-D09ACC0E6D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lieu de publication ou le lieu de publication probable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utant que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le bénéfice des utilisateurs et des catalogueurs si le lieu de publication n’est pas identifi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2.8.2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que aux catalogueurs de fournir si possible un lieu de publication au lieu d’enregistr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u de publication non iden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F4F9-A175-416F-8274-B038E24AA2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jout d’un li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4400" y="4610160"/>
            <a:ext cx="796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  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Courier New"/>
              </a:rPr>
              <a:t>[Canada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s, province, etc. probable :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</a:t>
            </a:r>
            <a:r>
              <a:rPr b="1" lang="fr-CA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Espagne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93840" y="1600200"/>
            <a:ext cx="84898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connu :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Toronto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 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unich?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ieu probable, mais pays, 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ovince, etc. connu :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Montréal?, Québec]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6836-63F4-4C3A-9246-0BB4F71FD9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u de publication : Changement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 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emier lie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publication est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[S.l.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lus autor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Ne pas corri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fictive ou erronée; faire une note pour 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235160" y="2318040"/>
            <a:ext cx="719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ur la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sour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  London - New York –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u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$a London ; $a New York ; $a Bost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000080" y="5099040"/>
            <a:ext cx="739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$a Red Oak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[Iowa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ajout correct mais non requis)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4E2F-0C3B-47CA-973E-6041BE93B0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– si plus d’un nom,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eul le premier enregistr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requ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gistrer le nom de l’éditeur selon la forme qui  figure sur la source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tout mot ou toute expression indiquant la fonction (autre que celle de publ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LC-PCC PS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pas omettre les niveaux dans la hiérarchie de colle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695B-787D-436E-8412-01998D58D2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 non identifi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ucun éditeur n’est identifié dans la ressource ou dans d’autres sources, enregistrer </a:t>
            </a:r>
            <a:br>
              <a:rPr sz="2800"/>
            </a:b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« [éditeur non identifié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 plus utili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 [s.n.]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E8F1-7856-407A-828F-CF6510AD18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 de l’édit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46000" y="150804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New York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J.J. Wilson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Publishing Company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37952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Pas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:</a:t>
            </a: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b Wils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46000" y="3032280"/>
            <a:ext cx="72392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: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Humanities Association, Literature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vision, Renaissance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Chicag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Humanities Association,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Division,</a:t>
            </a:r>
            <a:r>
              <a:rPr b="0" lang="fr-CA" sz="18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Renaissance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Literature Section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846000" y="4861080"/>
            <a:ext cx="7239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ource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 Toronto -- Pilkington Pub. Co.       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ouston -- Davidson Publishers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174600" indent="-115920">
              <a:lnSpc>
                <a:spcPct val="100000"/>
              </a:lnSpc>
              <a:tabLst>
                <a:tab algn="l" pos="0"/>
                <a:tab algn="l" pos="1030320"/>
                <a:tab algn="l" pos="1538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$a Toronto : </a:t>
            </a:r>
            <a:r>
              <a:rPr b="1" lang="fr-CA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Pilkington Pub. Co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846000" y="608004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64 #1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$b [éditeur non identifié]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6B09-8DDC-4AFB-B620-80C44BA157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egistrer la date telle qu’elle figure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1.8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mière alternative), transcrire les chiffres romains pour les dates de publication; ne pas convertir en chiffres ara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dates du calendrier grégorien ou julien entre crochets si elles ne sont pas déjà sur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E0A8-269B-44C0-AA5C-3E098BCD9A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er les notices R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Guide/18 contient le code « i » (ponctuation ISBD comprise) ; peut aussi contenir « c » (ponctuation ISBD om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rdre des sous-zones recommandé par OCLC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040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fr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da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06CC-148B-4A4F-A264-7558E1BF4E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publication : Changements RDA (ressource en une part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n’y a aucune date de publication sur la ressource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ur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e date probabl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orsque c’est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C-PCC PS 2.8.6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 l’ajout d’une date de publication probable au lieu de donn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 [date de publication non identifiée]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CD91-7B3C-415B-8CC0-7E368CCD5A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s fournies -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atégories dans RDA 1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réelle con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une ou l’autre de deux années consé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09 ou 2010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ée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2010?]</a:t>
            </a:r>
            <a:r>
              <a:rPr b="0" lang="en-US" sz="2400" spc="-1" strike="noStrike">
                <a:solidFill>
                  <a:srgbClr val="00808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cart probable d’années (« entre ___ et ___?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2008 et 2010?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970 et 197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entre 1800 et 1899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ncienne et/ou plus récente date possible connue (« pas avant », « pas après » ou « entre ___ et ___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264  … $c [pas avant le 15 janvier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8595-E7C5-440E-8123-C8356FBF28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e de copy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Élément fondamenta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i les dates de publication ou de diffusion ou de distribution ne sont pas identifiées pour une ressource en une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LC-PCC PS :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dates de copyright ne sont pas requises pour les monographies en plusieurs parties, les publications en série et les ressources intégrat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céder du symbole de copyright (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©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ou du symbole de phonogramme (</a:t>
            </a:r>
            <a:r>
              <a:rPr b="0" lang="en-US" sz="24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(ou des termes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phonogram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264, second indicateur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fr-CA" sz="2400" spc="-1" strike="noStrike">
                <a:solidFill>
                  <a:srgbClr val="008080"/>
                </a:solidFill>
                <a:latin typeface="Arial"/>
              </a:rPr>
              <a:t>$c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est la seule sous-zone utilisée; pas de poin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523880" y="5545080"/>
            <a:ext cx="6096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xemples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©200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1288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	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  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264 #4 $c </a:t>
            </a:r>
            <a:r>
              <a:rPr b="1" lang="en-US" sz="2000" spc="-1" strike="noStrike">
                <a:solidFill>
                  <a:srgbClr val="008080"/>
                </a:solidFill>
                <a:latin typeface="Webdings"/>
                <a:ea typeface="Webdings"/>
              </a:rPr>
              <a:t></a:t>
            </a:r>
            <a:r>
              <a:rPr b="1" lang="fr-FR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1983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9147-E307-43B9-9D90-3F65A25840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ion de 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Élément fonda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Sous-éléments fondamenta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re propre de la sous-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érotation au sein de la sous-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FB35-6386-4201-ACCC-8045901D35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érotation à l’intérieur de la collection et à l’intérieur de la sous-coll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2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2.1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490 $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re les termes et les chiff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ls que s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Utiliser l’annexe B (abréviations) seulement pour le point d’accès en 8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ignes directrices sont généralement les mêmes que celles pour la numérotation des publications en série (RDA 2.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81480" y="5227560"/>
            <a:ext cx="471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volu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32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81480" y="5927760"/>
            <a:ext cx="475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490 $a … $v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  <a:ea typeface="ＭＳ Ｐゴシック"/>
              </a:rPr>
              <a:t>Band LXXXVIII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ED0F-890D-40C3-B6CD-CFA5518573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 = « une chaîne de caractères associée à une manifestation et qui sert à distinguer cette manifestation d’autres manifestations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l y a plus d’un identifiant pour la manifestation,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rivilégier un identifiant reconnu à l’échelle internat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4B70-4A4E-458C-8150-FC7D128B09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ant de la manife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80"/>
                </a:solidFill>
                <a:latin typeface="Arial"/>
              </a:rPr>
              <a:t>Catégori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’identifi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SBN, ISSN et autres identifiants enregistrés selon des schémas reconnus à l’échelle internationa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dentifiants attribués par des éditeurs, des diffuseurs ou des distributeurs, des centres d’information, etc., selon des schémas conçus à l’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les numéros d’éditeur pour la musique et les cot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808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pas les URL, ce sont des localisation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(voir RDA </a:t>
            </a:r>
            <a:r>
              <a:rPr b="0" lang="fr-CA" sz="2600" spc="-1" strike="noStrike">
                <a:solidFill>
                  <a:srgbClr val="008080"/>
                </a:solidFill>
                <a:latin typeface="Arial"/>
              </a:rPr>
              <a:t>4.6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0BD6-7FF5-466B-85E0-032DFDAFF3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relative à la manifes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 à l’i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s fondamentaux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au ti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relative à la livraison, la partie ou l’itération servant de base pour l’identification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3F37-96B0-4191-9215-D3F946A595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rivilégié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ource du titre pro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Plu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s pour l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ource dans son intégralité, avec un ordre de pri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ite, toute autr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Croch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 l’information est puisée d’une source extéri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D : Les crochets doivent être répétés pour les éléments successifs d’une même zone, p. ex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lnSpc>
                <a:spcPct val="10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ntréal] : [éditeur non identifié], [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C5BE-D5E2-47E8-AA1A-DFE8A4D4F4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‘Prenez ce que vous voyez et acceptez ce que vous trouvez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 représentativité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es internationaux de catalog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ne pas modifier ce qui est sur la res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ésentation exa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se la réutilisation des données trou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A68D-DE05-45E4-906A-50B5D479F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usc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54120" y="1547640"/>
            <a:ext cx="8229600" cy="228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Accept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4120" y="3828960"/>
            <a:ext cx="8229600" cy="1827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8093"/>
                </a:solidFill>
                <a:latin typeface="Arial"/>
              </a:rPr>
              <a:t>Change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les majuscules trouvées :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45 10 $a Cairo : $b the city victorious /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$c Max Rodenbeck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1066680" indent="-1066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ourier New"/>
              </a:rPr>
              <a:t>250 ## $a First Vintage Departures edi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752480" y="5656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93"/>
                </a:solidFill>
                <a:latin typeface="Arial"/>
                <a:ea typeface="ＭＳ Ｐゴシック"/>
              </a:rPr>
              <a:t>Ces deux transcriptions sont aussi acceptables l’une que l’autre!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A107-AE92-4938-A4B9-16352287A3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 Éléments transcrits vs Éléments enregist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entre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transcr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les éléments </a:t>
            </a:r>
            <a:r>
              <a:rPr b="0" i="1" lang="en-US" sz="2800" spc="-1" strike="noStrike">
                <a:solidFill>
                  <a:srgbClr val="008093"/>
                </a:solidFill>
                <a:latin typeface="Arial"/>
              </a:rPr>
              <a:t>enregi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transcr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énéralement accepter les données telles qu’elles sont trouvées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les éléments </a:t>
            </a:r>
            <a:r>
              <a:rPr b="0" i="1" lang="en-US" sz="2400" spc="-1" strike="noStrike">
                <a:solidFill>
                  <a:srgbClr val="008093"/>
                </a:solidFill>
                <a:latin typeface="Arial"/>
              </a:rPr>
              <a:t>enregistré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nformation trouvée est souvent adaptée (par exemple, les tirets dans un ISBN sont om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6E4A-1A3A-49E5-83B7-D0CEB986F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cription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e et écr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Transcr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dans la langue et l’écriture utilisées dans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 des éléments transc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Éléments non transcr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enregist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autres éléments (par exemple, importance matérielle, notes), les enregistr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 de donné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à l’intérieur d’un élément, les enregistrer dans la langue et l’écriture de l’élément auquel elles sont ajou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-226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</a:t>
            </a:r>
            <a:r>
              <a:rPr b="0" i="1" lang="en-US" sz="2000" spc="-1" strike="noStrike">
                <a:solidFill>
                  <a:srgbClr val="008093"/>
                </a:solidFill>
                <a:latin typeface="Arial"/>
              </a:rPr>
              <a:t>l’aj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’un élément, généralement l’ajouter en franç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e qui a trait aux écritures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non la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politique de LC dit de translittérer l’information ou de donner les deux formes (en utilisant des zones MARC 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9F93-3809-4F63-A31A-ED07CF6AE6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est-ce que je catalogu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 rot="218400">
            <a:off x="1910880" y="2352600"/>
            <a:ext cx="599292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93"/>
                </a:solidFill>
                <a:latin typeface="Impact"/>
              </a:rPr>
              <a:t>Manifestation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93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4397-144D-47AF-B2B8-D1AC8CC751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11-28T22:21:09Z</dcterms:modified>
  <cp:revision>294</cp:revision>
  <dc:subject/>
  <dc:title>Diapositive 1</dc:title>
</cp:coreProperties>
</file>