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header&gt;</a:t>
            </a:r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618FE337-3292-4C6A-B082-28B491BEDB0F}" type="datetime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6-07-29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footer&gt;</a:t>
            </a:r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B1C5528B-B852-4E55-93F8-27002C583DA9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1200" spc="-1" strike="noStrike" u="sng">
                <a:solidFill>
                  <a:srgbClr val="000000"/>
                </a:solidFill>
                <a:uFillTx/>
                <a:latin typeface="Calibri"/>
              </a:rPr>
              <a:t>Mention de col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e titre propre de la collection, la numérotation au sein de la collection, le titre propre de la sous-collection, et la numérotation au sein de la sous-collection sont tous des éléments fondamentaux. Les autres sous-éléments relatifs à la mention de collection sont optionn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es instructions sur l’enregistrement de la mention de collection se trouvent sous 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2.12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Quant aux sources d’information, les instructions se trouvent sous chacun des sous-éléments qui constituent la mention de collection. Prenez également note que le 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LC-PCC-PS 2.12.1.2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donne comme instruction de prendre la collection principale et les sous-collections d’une source contenant les deux titres à la fo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’ailleurs, on se souviendra que LC n’établit plus de points d’accès autorisés aux titres des collections (en 830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64022-838D-4E8A-915E-701D70B1FE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39E68-85C3-4EDC-B522-E93C071981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D9F64-5FF8-4420-9DED-A82A016994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19E21-47A9-4DED-B9BE-3F809B7AEF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E7A1A-F7DD-4DBD-A350-487B4BC73A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6698D-9CA7-474A-BBF3-6F0E3AD4F3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CAD38-DC64-4469-9386-C3A4AD376E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EAFF5-736B-421E-B24C-1498D05483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DC313-4DAF-4117-B473-3408A3B66C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30F81-1A31-44AE-ACD8-BF4BE37FB4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0A7B2-DBA5-4C16-8C97-AB503CE47E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DB7A7-FD00-4DA5-8848-05B4D67F83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A9BB30AA-2CC4-4C5D-8296-2B052CDDCEB0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ier les manifestations et les ite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80"/>
                </a:solidFill>
                <a:latin typeface="Arial"/>
              </a:rPr>
              <a:t>Éléments fondamentaux du chapitre 2 : </a:t>
            </a:r>
            <a:br>
              <a:rPr sz="2800"/>
            </a:br>
            <a:r>
              <a:rPr b="1" i="1" lang="en-US" sz="2800" spc="-1" strike="noStrike">
                <a:solidFill>
                  <a:srgbClr val="008080"/>
                </a:solidFill>
                <a:latin typeface="Arial"/>
              </a:rPr>
              <a:t>« Identification des manifestations et des items »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tre prop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3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mp d’application = « l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titre principal d’une ressour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c’est-à-dire le titre normalement utilisé pour citer la ressource) » = le titre de ce qui est catalogu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e d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représentativit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3.1.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e pas corriger les erreu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ur les monograph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499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 n’y aura plus de « [sic] » ou « [i.e. ____ ] 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499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ner une note pour expliqu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6B0D2-2AD1-47DC-8087-BAAE76BCD4F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 :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rreur dans le titre prop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011600" y="3124080"/>
            <a:ext cx="75142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otice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pour 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cette</a:t>
            </a:r>
            <a:r>
              <a:rPr b="0" lang="fr-CA" sz="24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Courier New"/>
                <a:ea typeface="ＭＳ Ｐゴシック"/>
              </a:rPr>
              <a:t>monographi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$a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Teusday’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task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246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i 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Titre corrigé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$a Tuesday’s task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76320" y="4648320"/>
            <a:ext cx="906768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otice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pour 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une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Courier New"/>
                <a:ea typeface="ＭＳ Ｐゴシック"/>
              </a:rPr>
              <a:t>publication en séri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$a Zoology studie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246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i 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Titre mal orthographié sur le numéro 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a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Zooolog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tudie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914400" y="1905120"/>
            <a:ext cx="77724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otice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CAA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pour 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une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Courier New"/>
                <a:ea typeface="ＭＳ Ｐゴシック"/>
              </a:rPr>
              <a:t>monographi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: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$a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Teusday’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[i.e. Tuesday’s] tasks 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31EF1-0538-4105-BD42-02B1A25DE56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ntion de responsabilité relative au titre propre - Transcrip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LC-PCC PS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« Généralement ne pas omettre les noms dans une mention de responsabilité.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457200" y="3432240"/>
            <a:ext cx="8305920" cy="222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31840">
              <a:lnSpc>
                <a:spcPct val="100000"/>
              </a:lnSpc>
              <a:tabLst>
                <a:tab algn="l" pos="0"/>
                <a:tab algn="l" pos="1481040"/>
                <a:tab algn="l" pos="2684520"/>
                <a:tab algn="l" pos="303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ourc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by Susan Brown, Melanie Carlson, Stephen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Lindell, Kevin Ott, and Janet Wilson.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31840">
              <a:lnSpc>
                <a:spcPct val="100000"/>
              </a:lnSpc>
              <a:tabLst>
                <a:tab algn="l" pos="0"/>
                <a:tab algn="l" pos="1481040"/>
                <a:tab algn="l" pos="2684520"/>
                <a:tab algn="l" pos="303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DA 2.4.1.5</a:t>
            </a:r>
            <a:r>
              <a:rPr b="1" lang="fr-CA" sz="18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 </a:t>
            </a:r>
            <a:r>
              <a:rPr b="1" i="1" lang="fr-CA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permet </a:t>
            </a:r>
            <a:r>
              <a:rPr b="1" lang="fr-CA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:</a:t>
            </a:r>
            <a:r>
              <a:rPr b="0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$a … / $c by Susan Brown </a:t>
            </a:r>
            <a:r>
              <a:rPr b="0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[et quatre autres]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31840">
              <a:lnSpc>
                <a:spcPct val="100000"/>
              </a:lnSpc>
              <a:tabLst>
                <a:tab algn="l" pos="0"/>
                <a:tab algn="l" pos="1481040"/>
                <a:tab algn="l" pos="2684520"/>
                <a:tab algn="l" pos="303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DA/LC-PCC PS </a:t>
            </a:r>
            <a:r>
              <a:rPr b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245 $a … / $c by </a:t>
            </a:r>
            <a:r>
              <a:rPr b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Susan Brown, </a:t>
            </a:r>
            <a:r>
              <a:rPr b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Melanie Carlson, Stephen Lindell, Kevin </a:t>
            </a:r>
            <a:r>
              <a:rPr b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Ott, and Janet Wilson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768240" y="6019920"/>
            <a:ext cx="7633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CAA2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245 $a … / $c by Susan Brown … [et al.].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762120" y="2547360"/>
            <a:ext cx="8121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8093"/>
                </a:solidFill>
                <a:latin typeface="Arial"/>
                <a:ea typeface="ＭＳ Ｐゴシック"/>
              </a:rPr>
              <a:t>« Règle de trois » -- Changement par rapport aux RCAA2!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Line 9"/>
          <p:cNvSpPr/>
          <p:nvPr/>
        </p:nvSpPr>
        <p:spPr>
          <a:xfrm>
            <a:off x="1752480" y="5791320"/>
            <a:ext cx="5639040" cy="91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Line 10"/>
          <p:cNvSpPr/>
          <p:nvPr/>
        </p:nvSpPr>
        <p:spPr>
          <a:xfrm flipV="1">
            <a:off x="1676520" y="5791320"/>
            <a:ext cx="5790960" cy="91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CED3D-0CEF-4054-9405-C2F892AA557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 plusieurs mentions 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ule l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miè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registrée est requ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registrer dans l’ordre indiqué par la séquence, la disposition ou la typographie sur la source d’information (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2.4.1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toutes les mentions de responsabilité ne sont pas indiquées, donner l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préfér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à celles identifiant les créateurs du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onten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intellectuel ou artistiq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2.4.2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838080" y="4572000"/>
            <a:ext cx="7804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60640" indent="-2060640">
              <a:lnSpc>
                <a:spcPct val="100000"/>
              </a:lnSpc>
              <a:tabLst>
                <a:tab algn="l" pos="0"/>
                <a:tab algn="l" pos="2060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ur la sourc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“introduction par ______”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060640" indent="-2060640">
              <a:lnSpc>
                <a:spcPct val="100000"/>
              </a:lnSpc>
              <a:tabLst>
                <a:tab algn="l" pos="0"/>
                <a:tab algn="l" pos="2060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édigé par _____”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060640" indent="-2060640">
              <a:lnSpc>
                <a:spcPct val="100000"/>
              </a:lnSpc>
              <a:tabLst>
                <a:tab algn="l" pos="0"/>
                <a:tab algn="l" pos="2060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’il y a uniquement une mention transcrite dans 245 $c, donner “rédigé par _____”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74925-79B9-449F-8DF3-79774016E70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dication de l’édition et indication d’un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évision nommée d’une édi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crire tel que trouvé (sous la ligne directrice générale dans 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1.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 Pour les éléments transcrits, utiliser uniquement les abréviations trouvées dans les sources d’information pour l’élément » (Annex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B.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1968480" y="4008960"/>
            <a:ext cx="644364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ource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Third revised edition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CAA2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50 $a 3rd rev. ed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DA</a:t>
            </a:r>
            <a:r>
              <a:rPr b="0" i="1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50 $a Third revised edition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1976400" y="5237640"/>
            <a:ext cx="642888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ourc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2nd enlarged ed., revised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CAA2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 250 $a 2nd enl. ed., rev.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DA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   250 $a 2nd enlarged ed., revised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E26C0-BD54-4DA1-999B-E2623CF9BA8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usieurs éléments RDA dans MARC 264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tion de production - 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tion de publication - 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tion de diffusion ou de distribution - 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tion de fabrication - 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 de copyright - 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élément distinct de la date de pub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ment dans le format bibliographique MARC : zon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6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5BF3B-99AA-4D4E-B6DF-A56E62112C8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64 Production, Publication, et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6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'est jamais utilisé en RDA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placé par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26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épé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teur 2 précise la fonction de la m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5960" y="3659040"/>
            <a:ext cx="8218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= Production (document non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ublié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1 = Publication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2 = Diffusion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distribution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3 = Fabrication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manufacture (impression)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4 = Date de copyright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300AB-3E5D-4F1E-B0F9-3B617F78055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64 Production, Publication, et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ous-zones</a:t>
            </a:r>
            <a:br>
              <a:rPr sz="2800"/>
            </a:b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a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 Lieu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b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 Nom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c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Interprétées selon la valeur dans ind.2</a:t>
            </a:r>
            <a:br>
              <a:rPr sz="2800"/>
            </a:b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264 #</a:t>
            </a:r>
            <a:r>
              <a:rPr b="1" lang="fr-CA" sz="28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lieu d'édition :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b 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nom</a:t>
            </a:r>
            <a:br>
              <a:rPr sz="2800"/>
            </a:b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d'éditeur,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c 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date de</a:t>
            </a:r>
            <a:br>
              <a:rPr sz="2800"/>
            </a:b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publication</a:t>
            </a:r>
            <a:br>
              <a:rPr sz="2800"/>
            </a:b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264 #</a:t>
            </a:r>
            <a:r>
              <a:rPr b="1" lang="fr-CA" sz="28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c 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date de copyright </a:t>
            </a:r>
            <a:br>
              <a:rPr sz="2800"/>
            </a:b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(pas de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a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 ou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b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B17A8-2772-4706-BB56-FAD43902ED7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64 Production, Publication, et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3760" y="1600200"/>
            <a:ext cx="848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our les PES et ressources intégratr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ndicateur 1 (séquence des mentions)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# = Aucune information fournie / Premier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2 = Intermédiaire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 = Courant / Plus réc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64 </a:t>
            </a:r>
            <a:r>
              <a:rPr b="1" lang="fr-CA" sz="2400" spc="-1" strike="noStrike">
                <a:solidFill>
                  <a:srgbClr val="0000ff"/>
                </a:solidFill>
                <a:latin typeface="Courier New"/>
              </a:rPr>
              <a:t>#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1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Paris ;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New York :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b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Vogue,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c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1964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64 </a:t>
            </a:r>
            <a:r>
              <a:rPr b="1" lang="fr-CA" sz="2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1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3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1980-mai 1993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London :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b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Vo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64 </a:t>
            </a:r>
            <a:r>
              <a:rPr b="1" lang="fr-CA" sz="2400" spc="-1" strike="noStrike">
                <a:solidFill>
                  <a:srgbClr val="0000ff"/>
                </a:solidFill>
                <a:latin typeface="Courier New"/>
              </a:rPr>
              <a:t>3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1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3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juin 1993-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London :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b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73479-0590-4548-A3C4-FD9E1A78810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ier les manifestations et les ite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r les notices 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ù sont les instru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ésentation détaillée des élé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15C6D-6D0B-455B-AF3B-D1F2ACD23B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ntion de public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ur les ressources publi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2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mp d’application – « une mention identifiant le ou les lieux de publication, le ou les éditeurs, et la ou les dates de publication d’une ressource 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264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cond indicateur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5322F-C27C-4BF4-8F66-E12EC6A925C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eu de public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 fondamental : si plus d’un lieu, seul le premier enregistré est requ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2.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crire les lieux de publication selon la forme qui figure sur la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re à la fois le nom de lieu et les noms des juridictions plus vastes s’ils sont prés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 d’ajouter une juridiction plus vaste si elle n’est pas déjà sur la ressource – jugement du catalogu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48B92-938D-4C8D-87F3-5D0BC358A86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us d’un lieu de public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plus d’un lieu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eul le premi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registré est requ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Aucun « pays d’origine 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 besoin de chercher un lieu au Ca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D6632-1786-4914-96BF-E4C5A47FD75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eu de publication non identifié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Fourni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 lieu de publication ou le lieu de publication probable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autant que possi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le bénéfice des utilisateurs et des catalogueurs si le lieu de publication n’est pas identifi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LC-PCC PS 2.8.2.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ique aux catalogueurs de fournir si possible un lieu de publication au lieu d’enregistre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 [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ieu de publication non identifi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D9DB3-3F55-44CC-AF8A-A52FC2DA446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 d’un lie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914400" y="4610160"/>
            <a:ext cx="79693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ys, province, etc.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nu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:   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Courier New"/>
              </a:rPr>
              <a:t>[Canada]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ys, province, etc. probable :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[</a:t>
            </a:r>
            <a:r>
              <a:rPr b="1" lang="fr-CA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Espagne?]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393840" y="1600200"/>
            <a:ext cx="8489880" cy="26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Lieu connu :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[Toronto]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Lieu probable 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[Munich?]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Lieu probable, mais pays,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province, etc. connu :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[Montréal?, Québec]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D82B1-AE9A-466C-87A4-08214195027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eu de publication : Changements RD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ul le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premier lie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 publication est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fondamen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[S.l.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’est plus autoris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Ne pas corri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’information fictive ou erronée; faire une note pour expliq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1235160" y="2318040"/>
            <a:ext cx="719100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ur la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essourc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:  London - New York – Boston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264 #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a Lond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ou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264 #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a London ; $a New York ; $a Boston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1" name="Rectangle 19"/>
          <p:cNvSpPr/>
          <p:nvPr/>
        </p:nvSpPr>
        <p:spPr>
          <a:xfrm>
            <a:off x="1000080" y="5099040"/>
            <a:ext cx="739152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264 #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$a Red Oak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[Iowa]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          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(ajout correct mais non requis)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51D24-4BB8-462F-A259-26EA21E21D6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m de l’édit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lément fondamental – si plus d’un nom,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seul le premier enregistr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st requ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2.8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le nom de l’éditeur selon la forme qui  figure sur la source d’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LC-PCC PS 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e pas omettre les niveaux dans la hiérarchie de collectiv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CA826-3645-4144-A59C-16C52FCEB07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m de l’éditeur non identifié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aucun éditeur n’est identifié dans la ressource ou dans d’autres sources, enregistrer </a:t>
            </a:r>
            <a:br>
              <a:rPr sz="2800"/>
            </a:b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« [éditeur non identifié] 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e plus utilis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« [s.n.] 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B9BAF-6ED8-4B0F-A531-ADB29CCEE9A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m de l’édit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846000" y="1508040"/>
            <a:ext cx="723924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379520"/>
                <a:tab algn="l" pos="142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64 #1 $a New York :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$b J.J. Wilson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  Publishing Company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379520"/>
                <a:tab algn="l" pos="142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379520"/>
                <a:tab algn="l" pos="142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Pas</a:t>
            </a:r>
            <a:r>
              <a:rPr b="1" i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:</a:t>
            </a:r>
            <a:r>
              <a:rPr b="1" i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64 #1 $b Wilson Pub. Co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846000" y="3032280"/>
            <a:ext cx="723924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42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ource :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Humanities Association, Literature   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42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Division, Renaissance Literature Section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42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64 #1 $a Chicago :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$b Humanities Association,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 Literature Division,</a:t>
            </a:r>
            <a:r>
              <a:rPr b="0" lang="fr-CA" sz="18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Renaissance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 Literature Section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9" name="Text Box 15"/>
          <p:cNvSpPr/>
          <p:nvPr/>
        </p:nvSpPr>
        <p:spPr>
          <a:xfrm>
            <a:off x="846000" y="4861080"/>
            <a:ext cx="723924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15920">
              <a:lnSpc>
                <a:spcPct val="100000"/>
              </a:lnSpc>
              <a:tabLst>
                <a:tab algn="l" pos="0"/>
                <a:tab algn="l" pos="1030320"/>
                <a:tab algn="l" pos="1538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ource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 Toronto -- Pilkington Pub. Co.       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174600" indent="-115920">
              <a:lnSpc>
                <a:spcPct val="100000"/>
              </a:lnSpc>
              <a:tabLst>
                <a:tab algn="l" pos="0"/>
                <a:tab algn="l" pos="1030320"/>
                <a:tab algn="l" pos="1538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  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ouston -- Davidson Publishers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174600" indent="-115920">
              <a:lnSpc>
                <a:spcPct val="100000"/>
              </a:lnSpc>
              <a:tabLst>
                <a:tab algn="l" pos="0"/>
                <a:tab algn="l" pos="1030320"/>
                <a:tab algn="l" pos="1538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64 #1 $a Toronto :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$b Pilkington Pub. Co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0" name="Text Box 16"/>
          <p:cNvSpPr/>
          <p:nvPr/>
        </p:nvSpPr>
        <p:spPr>
          <a:xfrm>
            <a:off x="846000" y="6080040"/>
            <a:ext cx="72392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64 #1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$b [éditeur non identifié]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EB6A8-5463-4625-8754-AC10C129EE9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te de publication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2.8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registrer la date telle qu’elle figure sur la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C-PCC PS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1.8.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remière alternative), transcrire les chiffres romains pour les dates de publication; ne pas convertir en chiffres arab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outer les dates du calendrier grégorien ou julien si elles ne sont pas déjà sur la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373A7-45E6-4260-B410-3CF641AB865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ier les notices RD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Guide/18 contient le code « i » (ponctuation ISBD comprise) ; peut aussi contenir « c » (ponctuation ISBD omi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040 $e contient le code « rda 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Ordre des sous-zones recommandé par OCLC 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040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QMBN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fre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rda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c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QMBN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d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Q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92E30-6948-45A7-AE4A-3AA717C935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te de publication : Changements RDA (ressource en une parti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’il n’y a aucune date de publication sur la ressource,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fourn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e date probable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lorsque c’est possi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ivre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LC-PCC PS 2.8.6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r l’ajout d’une date de publication probable au lieu de donn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 [date de publication non identifiée]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59DDC-0C88-434C-A3FC-35BC205BF39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tes fournies - 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catégories dans RDA 1.9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née réelle con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264  … $c [2010]</a:t>
            </a:r>
            <a:r>
              <a:rPr b="0" lang="en-US" sz="2400" spc="-1" strike="noStrike">
                <a:solidFill>
                  <a:srgbClr val="00808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une ou l’autre de deux années consécu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264  … $c [2009 ou 2010]</a:t>
            </a:r>
            <a:r>
              <a:rPr b="0" lang="en-US" sz="2400" spc="-1" strike="noStrike">
                <a:solidFill>
                  <a:srgbClr val="00808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née prob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264  … $c [2010?]</a:t>
            </a:r>
            <a:r>
              <a:rPr b="0" lang="en-US" sz="2400" spc="-1" strike="noStrike">
                <a:solidFill>
                  <a:srgbClr val="00808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Écart probable d’années (« entre ___ et ___? 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264  … $c [entre 2008 et 2010?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us ancienne et/ou plus récente date possible connue (« pas avant », « pas après » ou « entre ___ et ___ 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264  … $c [pas avant le 15 janvier 20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8CF02-BF73-4C4D-8AB3-D922F04A8F4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te de copyrigh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Élément fondamental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si les dates de publication ou de diffusion ou de distribution ne sont pas identifiées pour une ressource en une par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es dates de copyright ne sont pas requises pour les monographies en plusieurs parties, les publications en série et les ressources intégratr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2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écéder du symbole de copyright (</a:t>
            </a: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©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 ou du symbole de phonogramme (</a:t>
            </a:r>
            <a:r>
              <a:rPr b="0" lang="en-US" sz="2300" spc="-1" strike="noStrike">
                <a:solidFill>
                  <a:srgbClr val="008080"/>
                </a:solidFill>
                <a:latin typeface="Webdings"/>
                <a:ea typeface="Webdings"/>
              </a:rPr>
              <a:t>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Zone MARC 264, second indicateur </a:t>
            </a: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4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$c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st la seule sous-zone utilisée; pas de point f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1523880" y="5337000"/>
            <a:ext cx="60962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712880"/>
                <a:tab algn="l" pos="2801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Exemples </a:t>
            </a:r>
            <a:r>
              <a:rPr b="1" lang="fr-FR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</a:t>
            </a:r>
            <a:r>
              <a:rPr b="1" lang="fr-FR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264 #4 $c ©2002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712880"/>
                <a:tab algn="l" pos="2801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FR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  </a:t>
            </a:r>
            <a:r>
              <a:rPr b="1" lang="fr-FR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264 #4 $c </a:t>
            </a:r>
            <a:r>
              <a:rPr b="1" lang="en-US" sz="2000" spc="-1" strike="noStrike">
                <a:solidFill>
                  <a:srgbClr val="008080"/>
                </a:solidFill>
                <a:latin typeface="Webdings"/>
                <a:ea typeface="Webdings"/>
              </a:rPr>
              <a:t></a:t>
            </a:r>
            <a:r>
              <a:rPr b="1" lang="fr-FR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1983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47E14-6078-4F6F-AF19-0AAF814B93B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ntion de colle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Élément fondament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Sous-éléments fondamentau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re propre de la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érotation au sein de la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re propre de la sous-coll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érotation au sein de la sous-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4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A322A-9177-4E81-A1B6-2C5570F2609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érotation à l’intérieur de la collection et à l’intérieur de la sous-colle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0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2.12.9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t</a:t>
            </a: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 2.12.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ARC </a:t>
            </a: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490 $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ranscrire les termes et les chiffres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tels que su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808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Utiliser l’annexe B (abréviations) seulement pour le point d’accès en 8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es lignes directrices sont généralement les mêmes que celles pour la numérotation des publications en série (RDA 2.6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381480" y="5227560"/>
            <a:ext cx="47131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490 $a … $v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volum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32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3381480" y="5927760"/>
            <a:ext cx="47577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490 $a … $v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Band LXXXVIII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BCB12-75A6-469C-95B8-687BEA95B86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iant de la manifes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 fondamen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2.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mp d’application = « une chaîne de caractères associée à une manifestation et qui sert à distinguer cette manifestation d’autres manifestations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’il y a plus d’un identifiant pour la manifestation,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privilégier un identifiant reconnu à l’échelle internationa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i cela s’appl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3663F-A77F-4206-85CB-1C2C00EED24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iant de la manifes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80"/>
                </a:solidFill>
                <a:latin typeface="Arial"/>
              </a:rPr>
              <a:t>Catégorie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’identifiant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ISBN, ISSN et autres identifiants enregistrés selon des schémas reconnus à l’échelle internationa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identifiants attribués par des éditeurs, des diffuseurs ou des distributeurs, des centres d’information, etc., selon des schémas conçus à l’inter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les numéros d’éditeur pour la musique et les cotag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808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8080"/>
                </a:solidFill>
                <a:latin typeface="Arial"/>
              </a:rPr>
              <a:t>pas les URL, ce sont des localisations</a:t>
            </a: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 (voir RDA </a:t>
            </a:r>
            <a:r>
              <a:rPr b="0" lang="fr-CA" sz="2600" spc="-1" strike="noStrike">
                <a:solidFill>
                  <a:srgbClr val="008080"/>
                </a:solidFill>
                <a:latin typeface="Arial"/>
              </a:rPr>
              <a:t>4.6</a:t>
            </a: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0D29A-D30B-424A-B1C2-BCD13A86E93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e relative à la manifestat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 à l’it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léments fondamentaux L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relative au tit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relative à la livraison, à la partie servant de base pour l’identification de la ressour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2.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97F9B-6DA8-45B2-8751-4575C98AB95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ur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rivilégié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source du titre prop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lus 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urces pour l’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source dans son intégralité, avec un ordre de prior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ite, toute autre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roche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 l’information est puisée d’une source extérie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17007-6CEB-48B5-95C8-A2A8214B7F4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cription : ‘Prenez ce que vous voyez et acceptez ce que vous trouvez’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e de représentativité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incipes internationaux de catalog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général, ne pas modifier ce qui est sur la res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ésentation exac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vorise la réutilisation des données trouv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36FC3-4468-4F80-B2E9-111F0C24C9A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cription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juscu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654120" y="1547640"/>
            <a:ext cx="8229600" cy="2281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8093"/>
                </a:solidFill>
                <a:latin typeface="Arial"/>
              </a:rPr>
              <a:t>Accepte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les majuscules trouvées 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1066680" indent="-1066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45 10 $a Cairo : $b THE CITY VICTORIOUS /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$c Max Rodenbeck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50 ## $a FIRST VINTAGE DEPARTURES EDITION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654120" y="3828960"/>
            <a:ext cx="8229600" cy="1827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8093"/>
                </a:solidFill>
                <a:latin typeface="Arial"/>
              </a:rPr>
              <a:t>Change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les majuscules trouvées 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45 10 $a Cairo : $b the city victorious /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$c Max Rodenbeck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50 ## $a First Vintage Departures edition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1752480" y="5656320"/>
            <a:ext cx="632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93"/>
                </a:solidFill>
                <a:latin typeface="Arial"/>
                <a:ea typeface="ＭＳ Ｐゴシック"/>
              </a:rPr>
              <a:t>Ces deux transcriptions sont aussi acceptables l’une que l’autre!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563E2-7B08-4387-8763-2501385BA03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cription : Éléments transcrits vs Éléments enregistré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inction entre les éléments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transcri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les éléments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enregistr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les éléments </a:t>
            </a: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transcrits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énéralement accepter les données telles qu’elles sont trouvées sur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les éléments </a:t>
            </a: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enregistrés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’information trouvée est souvent adaptée (par exemple, les tirets dans un ISBN sont omi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2D831-6BCF-4807-9D66-33AD06B1C8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cription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ngue et écritu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-226080">
              <a:lnSpc>
                <a:spcPct val="80000"/>
              </a:lnSpc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Transcri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… dans la langue et l’écriture utilisées dans la res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-226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e des éléments transcr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Éléments non transcr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-226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rs de </a:t>
            </a:r>
            <a:r>
              <a:rPr b="0" i="1" lang="en-US" sz="2000" spc="-1" strike="noStrike">
                <a:solidFill>
                  <a:srgbClr val="008093"/>
                </a:solidFill>
                <a:latin typeface="Arial"/>
              </a:rPr>
              <a:t>l’enregistr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’autres éléments (par exemple, importance matérielle, notes), les enregistrer en franç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-226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rs de </a:t>
            </a:r>
            <a:r>
              <a:rPr b="0" i="1" lang="en-US" sz="2000" spc="-1" strike="noStrike">
                <a:solidFill>
                  <a:srgbClr val="008093"/>
                </a:solidFill>
                <a:latin typeface="Arial"/>
              </a:rPr>
              <a:t>l’ajout de donné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à l’intérieur d’un élément, les enregistrer dans la langue et l’écriture de l’élément auquel elles sont ajout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-226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rs de </a:t>
            </a:r>
            <a:r>
              <a:rPr b="0" i="1" lang="en-US" sz="2000" spc="-1" strike="noStrike">
                <a:solidFill>
                  <a:srgbClr val="008093"/>
                </a:solidFill>
                <a:latin typeface="Arial"/>
              </a:rPr>
              <a:t>l’aj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’un élément, généralement l’ajouter en franç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ce qui a trait aux écriture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on latin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la politique de LC dit de translittérer l’information ou de donner les deux formes (en utilisant des zones MARC 88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D74D7-8893-4376-B8F5-B764347594A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’est-ce que je catalogue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WordArt 3"/>
          <p:cNvSpPr txBox="1"/>
          <p:nvPr/>
        </p:nvSpPr>
        <p:spPr>
          <a:xfrm rot="218400">
            <a:off x="1910880" y="2352600"/>
            <a:ext cx="5992920" cy="30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93"/>
                </a:solidFill>
                <a:latin typeface="Impact"/>
              </a:rPr>
              <a:t>Manifestation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93"/>
              </a:solidFill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D5DF6-E893-4C8C-936E-64531330889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Pat Riva</cp:lastModifiedBy>
  <cp:lastPrinted>2010-10-18T15:40:26Z</cp:lastPrinted>
  <dcterms:modified xsi:type="dcterms:W3CDTF">2013-04-19T22:25:31Z</dcterms:modified>
  <cp:revision>284</cp:revision>
  <dc:subject/>
  <dc:title>Diapositive 1</dc:title>
</cp:coreProperties>
</file>