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header&gt;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B850F723-15B4-4409-90B2-26EE94B0460C}" type="datetime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-07-30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footer&gt;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BF5E125F-20DD-4DA1-B65C-893DC0B9F6A3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200" spc="-1" strike="noStrike" u="sng">
                <a:solidFill>
                  <a:srgbClr val="000000"/>
                </a:solidFill>
                <a:uFillTx/>
                <a:latin typeface="Calibri"/>
              </a:rPr>
              <a:t>Mention de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 titre propre de la collection, la numérotation au sein de la collection, le titre propre de la sous-collection, et la numérotation au sein de la sous-collection sont tous des éléments fondamentaux. Les autres sous-éléments relatifs à la mention de collection sont optionn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s instructions sur l’enregistrement de la mention de collection se trouvent sous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2.12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uant aux sources d’information, les instructions se trouvent sous chacun des sous-éléments qui constituent la mention de collection. Prenez également note que le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LC-PCC-PS 2.12.1.2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donne comme instruction de prendre la collection principale et les sous-collections d’une source contenant les deux titres à la fo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’ailleurs, on se souviendra que LC n’établit plus de points d’accès autorisés aux titres des collections (en 830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F4BCF-ADE0-4CF7-801A-F5942B4966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57812-1A5F-4757-A6AE-D232D821FA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9532E-46EF-4EFC-85DA-F6EDBBA94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B258C-9976-4803-959A-97C2353A65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F56A9-0094-4C6E-B4A3-C3A4D50421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67929-A650-4E5E-B7B4-FC0AEB031E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2C9E1-F15D-4A04-94C1-DE5D1D1B1D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89B36-D62B-419F-944D-2000908FAF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986F0-9C82-4916-944E-1C7A5A8E0B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CDDBD-15FD-415E-A502-1E888A1E07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217BC-08E0-4BE1-861C-363BEC3AD9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9B071-21BD-4A5C-A4CD-0CBE8FC3D6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7D04DC8-BA07-4C86-BC71-857A9BB487F9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ier les manifestations et l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80"/>
                </a:solidFill>
                <a:latin typeface="Arial"/>
              </a:rPr>
              <a:t>Éléments fondamentaux du chapitre 2 : </a:t>
            </a:r>
            <a:br>
              <a:rPr sz="2800"/>
            </a:br>
            <a:r>
              <a:rPr b="1" i="1" lang="en-US" sz="2800" spc="-1" strike="noStrike">
                <a:solidFill>
                  <a:srgbClr val="008080"/>
                </a:solidFill>
                <a:latin typeface="Arial"/>
              </a:rPr>
              <a:t>« Identification des manifestations et des items 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 prop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mp d’application = «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itre principal d’une ressou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’est-à-dire le titre normalement utilisé pour citer la ressource) » = le titre de ce qui est catalogu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e d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eprésentativit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3.1.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e pas corriger les erre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es monograph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99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n’y aura plus de « [sic] » ou « [i.e. ____ ] 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99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ner une note pour expliqu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07D1E-B74E-4760-9D90-9A519BB5AD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reur dans le titre prop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011600" y="3124080"/>
            <a:ext cx="75142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ti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pour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ette</a:t>
            </a:r>
            <a:r>
              <a:rPr b="0" lang="fr-CA" sz="2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Courier New"/>
                <a:ea typeface="ＭＳ Ｐゴシック"/>
              </a:rPr>
              <a:t>monographi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Teusday’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task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6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itre corrigé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$a Tuesday’s task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76320" y="4648320"/>
            <a:ext cx="90676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ti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pour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ne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Courier New"/>
                <a:ea typeface="ＭＳ Ｐゴシック"/>
              </a:rPr>
              <a:t>publication en séri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Zoology studi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6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i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itre mal orthographié sur le numéro 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Zooolog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tudi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914400" y="1905120"/>
            <a:ext cx="7772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ti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CAA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pour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ne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Courier New"/>
                <a:ea typeface="ＭＳ Ｐゴシック"/>
              </a:rPr>
              <a:t>monographi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Teusday’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[i.e. Tuesday’s] tasks 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8619E-498B-43D7-AB8A-5DDE036D10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ion de responsabilité relative au titre propre - Transcrip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C-PCC PS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« Généralement ne pas omettre les noms dans une mention de responsabilité.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457200" y="3432240"/>
            <a:ext cx="830592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31840">
              <a:lnSpc>
                <a:spcPct val="100000"/>
              </a:lnSpc>
              <a:tabLst>
                <a:tab algn="l" pos="0"/>
                <a:tab algn="l" pos="1481040"/>
                <a:tab algn="l" pos="268452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by Susan Brown, Melanie Carlson, Stephen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ndell, Kevin Ott, and Janet Wilson.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31840">
              <a:lnSpc>
                <a:spcPct val="100000"/>
              </a:lnSpc>
              <a:tabLst>
                <a:tab algn="l" pos="0"/>
                <a:tab algn="l" pos="1481040"/>
                <a:tab algn="l" pos="268452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 2.4.1.5</a:t>
            </a:r>
            <a:r>
              <a:rPr b="1" lang="fr-CA" sz="18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</a:t>
            </a:r>
            <a:r>
              <a:rPr b="1" i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permet </a:t>
            </a:r>
            <a:r>
              <a:rPr b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: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… / $c by Susan Brown 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[et quatre autres]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31840">
              <a:lnSpc>
                <a:spcPct val="100000"/>
              </a:lnSpc>
              <a:tabLst>
                <a:tab algn="l" pos="0"/>
                <a:tab algn="l" pos="1481040"/>
                <a:tab algn="l" pos="268452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/LC-PCC PS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245 $a … / $c by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Susan Brown,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Melanie Carlson, Stephen Lindell, Kevin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Ott, and Janet Wilson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68240" y="6019920"/>
            <a:ext cx="7633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CAA2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245 $a … / $c by Susan Brown … [et al.]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762120" y="2547360"/>
            <a:ext cx="8121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« Règle de trois » -- Changement par rapport aux RCAA2!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Line 9"/>
          <p:cNvSpPr/>
          <p:nvPr/>
        </p:nvSpPr>
        <p:spPr>
          <a:xfrm>
            <a:off x="1752480" y="5791320"/>
            <a:ext cx="563904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Line 10"/>
          <p:cNvSpPr/>
          <p:nvPr/>
        </p:nvSpPr>
        <p:spPr>
          <a:xfrm flipV="1">
            <a:off x="1676520" y="5791320"/>
            <a:ext cx="579096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8D913-4FB7-4B0D-9CE9-5DF7F5DABF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plusieurs mentions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le l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miè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registrée est requ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dans l’ordre indiqué par la séquence, la disposition ou la typographie sur la source d’information (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4.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toutes les mentions de responsabilité ne sont pas indiquées, donner l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préfé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à celles identifiant les créateurs d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onte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intellectuel ou artistiq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4.2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838080" y="4572000"/>
            <a:ext cx="7804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60640" indent="-2060640"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ur la sourc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“introduction par ______”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édigé par _____”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’il y a uniquement une mention transcrite dans 245 $c, donner “rédigé par _____”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BD063-EFC7-446E-8954-1B38F6577D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cation de l’édition et indication d’un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évision nommée d’une éd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re tel que trouvé (sous la ligne directrice générale dans 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 Pour les éléments transcrits, utiliser uniquement les abréviations trouvées dans les sources d’information pour l’élément » (Annex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B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1968480" y="4008960"/>
            <a:ext cx="644364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Third revised edi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CAA2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50 $a 3rd rev. ed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i="1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50 $a Third revised edi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1976400" y="5237640"/>
            <a:ext cx="642888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2nd enlarged ed., revised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CAA2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 250 $a 2nd enl. ed., rev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   250 $a 2nd enlarged ed., revised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2C184-0D52-494D-A546-F6D0BB5564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ieurs éléments RDA dans MARC 26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produc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publica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diffusion ou de distribu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fabrica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de copyright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élément distinct de la date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ment dans le format bibliographique MARC : zo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6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4297D-1D7A-4E23-BDA3-7E15FD9486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4 Production, Public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6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'est jamais utilisé en RDA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placé par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6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épé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ur 2 précise la fonction de la m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5960" y="3659040"/>
            <a:ext cx="8218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= Production (document non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ublié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 = Publication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 = Diffusion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distribution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3 = Fabrication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manufacture (impression)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4 = Date de copyrigh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A5426-E496-41CE-BC84-E216A270BD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4 Production, Public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ous-zones</a:t>
            </a:r>
            <a:br>
              <a:rPr sz="2800"/>
            </a:b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Lieu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Nom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c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Interprétées selon la valeur dans ind.2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264 #</a:t>
            </a:r>
            <a:r>
              <a:rPr b="1" lang="fr-CA" sz="28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lieu d'édition :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b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nom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d'éditeur,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c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date de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publication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264 #</a:t>
            </a:r>
            <a:r>
              <a:rPr b="1" lang="fr-CA" sz="28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c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date de copyright 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(pas de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ou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BA182-1EA5-4968-B135-A557C3EF4F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4 Production, Public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ur les PES et ressources intégrat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ndicateur 1 (séquence des mentions)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# = Aucune information fournie / Premier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2 = Intermédiaire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 = Courant / Plus ré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64 </a:t>
            </a:r>
            <a:r>
              <a:rPr b="1" lang="fr-CA" sz="2400" spc="-1" strike="noStrike">
                <a:solidFill>
                  <a:srgbClr val="0000ff"/>
                </a:solidFill>
                <a:latin typeface="Courier New"/>
              </a:rPr>
              <a:t>#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Paris ;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New York :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Vogue,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c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964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64 </a:t>
            </a:r>
            <a:r>
              <a:rPr b="1" lang="fr-CA" sz="2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3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980-mai 1993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London :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V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64 </a:t>
            </a:r>
            <a:r>
              <a:rPr b="1" lang="fr-CA" sz="2400" spc="-1" strike="noStrike">
                <a:solidFill>
                  <a:srgbClr val="0000ff"/>
                </a:solidFill>
                <a:latin typeface="Courier New"/>
              </a:rPr>
              <a:t>3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3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juin 1993-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London :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774A1-D6C7-46EE-8464-7248C3F00D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les manifestations et l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les notices 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ù sont les instru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ésentation détaillée des élé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13145-BC9E-4782-B7E4-1D6624A6C9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ion de pub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es ressources publi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mp d’application – « une mention identifiant le ou les lieux de publication, le ou les éditeurs, et la ou les dates de publication d’une ressource 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64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cond indicateur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4A5C9-7993-48B5-BC81-1B64BC1030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u de pub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: si plus d’un lieu, seul le premier enregistré est req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re les lieux de publication selon la forme qui figure sur l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re à la fois le nom de lieu et les noms des juridictions plus vastes s’ils sont prés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d’ajouter une juridiction plus vaste si elle n’est pas déjà sur la ressource – jugement du catalogu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A5ED0-852D-4D47-9B10-DE0EB46707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 d’un lieu de pub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plus d’un lieu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ul le premi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registré est requ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Aucun « pays d’origine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 besoin de chercher un lieu au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FF0DF-5AD3-4A25-AE8E-39792354F6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u de publication non identifi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Fourn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lieu de publication ou le lieu de publication probable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autant que poss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e bénéfice des utilisateurs et des catalogueurs si le lieu de publication n’est pas identifi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C-PCC PS 2.8.2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ique aux catalogueurs de fournir si possible un lieu de publication au lieu d’enregistr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eu de publication non identifi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3ADD5-834D-427E-8A61-82A3C089CD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 d’un lie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914400" y="4610160"/>
            <a:ext cx="79693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ys, province, etc.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nu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: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Courier New"/>
              </a:rPr>
              <a:t>[Canada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ys, province, etc. probable :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</a:t>
            </a:r>
            <a:r>
              <a:rPr b="1" lang="fr-CA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Espagne?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93840" y="1600200"/>
            <a:ext cx="848988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eu connu :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Toronto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eu probable 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Munich?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eu probable, mais pays,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rovince, etc. connu :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Montréal?, Québec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BED4F-2B8B-4ECC-AD8A-BAA890693C2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u de publication : Changements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l le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premier lie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publication est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fonda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[S.l.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’est plus 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Ne pas corri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’information fictive ou erronée; faire une note pour expliq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235160" y="2318040"/>
            <a:ext cx="71910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ur la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essour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  London - New York – Bost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Lond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u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London ; $a New York ; $a Bost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1000080" y="5099040"/>
            <a:ext cx="73915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$a Red Oak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Iowa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       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(ajout correct mais non requis)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C1859-CF36-4E01-AD25-79E0DDD4E1D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m de l’édi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ément fondamental – si plus d’un nom,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seul le premier enregistr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 requ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2.8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le nom de l’éditeur selon la forme qui  figure sur la source d’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C-PCC PS 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 pas omettre les niveaux dans la hiérarchie de collectiv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1D771-0E3D-4CD1-AEC8-4BA12737EE3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m de l’éditeur non identifi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aucun éditeur n’est identifié dans la ressource ou dans d’autres sources, enregistrer </a:t>
            </a:r>
            <a:br>
              <a:rPr sz="2800"/>
            </a:b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« [éditeur non identifié]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 plus utilis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« [s.n.]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71506-7EE9-4290-BE2C-C4B83786890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m de l’édi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846000" y="1508040"/>
            <a:ext cx="723924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37952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a New York :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J.J. Wilson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 Publishing Company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37952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37952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Pas</a:t>
            </a: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</a:t>
            </a: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b Wilson Pub. Co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846000" y="3032280"/>
            <a:ext cx="723924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: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Humanities Association, Literature   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ivision, Renaissance Literature Sec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a Chicago :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Humanities Association,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Literature Division,</a:t>
            </a:r>
            <a:r>
              <a:rPr b="0" lang="fr-CA" sz="18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Renaissance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Literature Sec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846000" y="4861080"/>
            <a:ext cx="723924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15920">
              <a:lnSpc>
                <a:spcPct val="100000"/>
              </a:lnSpc>
              <a:tabLst>
                <a:tab algn="l" pos="0"/>
                <a:tab algn="l" pos="1030320"/>
                <a:tab algn="l" pos="15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 Toronto -- Pilkington Pub. Co.       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174600" indent="-115920">
              <a:lnSpc>
                <a:spcPct val="100000"/>
              </a:lnSpc>
              <a:tabLst>
                <a:tab algn="l" pos="0"/>
                <a:tab algn="l" pos="1030320"/>
                <a:tab algn="l" pos="15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ouston -- Davidson Publishers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174600" indent="-115920">
              <a:lnSpc>
                <a:spcPct val="100000"/>
              </a:lnSpc>
              <a:tabLst>
                <a:tab algn="l" pos="0"/>
                <a:tab algn="l" pos="1030320"/>
                <a:tab algn="l" pos="15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a Toronto :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Pilkington Pub. Co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846000" y="6080040"/>
            <a:ext cx="7239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[éditeur non identifié]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DCAA2-0606-407A-8D29-094880C4E35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 de publica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2.8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la date telle qu’elle figure sur l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1.8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emière alternative), transcrire les chiffres romains pour les dates de publication; ne pas convertir en chiffres arab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les dates du calendrier grégorien ou julien si elles ne sont pas déjà sur l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12C90-64F9-4662-A6D6-7D798C78957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les notices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Guide/18 contient le code « i » (ponctuation ISBD comprise) ; peut aussi contenir « c » (ponctuation ISBD omi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040 $e contient le code « rda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rdre des sous-zones recommandé par OCLC 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40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QMBN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fre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d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QMBN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Q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925D1-7BE8-4197-8491-97E843192F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 de publication : Changements RDA (ressource en une parti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il n’y a aucune date de publication sur la ressource,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fourn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e date probable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orsque c’est pos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vre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C-PCC PS 2.8.6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r l’ajout d’une date de publication probable au lieu de donn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 [date de publication non identifiée]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8C394-923D-440B-B88D-9F46384DB83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s fournies - 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catégories dans RDA 1.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ée réelle con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2010]</a:t>
            </a:r>
            <a:r>
              <a:rPr b="0" lang="en-US" sz="24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une ou l’autre de deux années consécu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2009 ou 2010]</a:t>
            </a:r>
            <a:r>
              <a:rPr b="0" lang="en-US" sz="24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ée prob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2010?]</a:t>
            </a:r>
            <a:r>
              <a:rPr b="0" lang="en-US" sz="24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cart probable d’années (« entre ___ et ___?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entre 2008 et 2010?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s ancienne et/ou plus récente date possible connue (« pas avant », « pas après » ou « entre ___ et ___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pas avant le 15 janvier 20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92538-E671-49E6-971B-BA2D49E89A9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 de copyr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i les dates de publication ou de diffusion ou de distribution ne sont pas identifiées pour une ressource en une par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dates de copyright ne sont pas requises pour les monographies en plusieurs parties, les publications en série et les ressources intégratr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2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écéder du symbole de copyright (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©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ou du symbole de phonogramme (</a:t>
            </a:r>
            <a:r>
              <a:rPr b="0" lang="en-US" sz="2300" spc="-1" strike="noStrike">
                <a:solidFill>
                  <a:srgbClr val="008080"/>
                </a:solidFill>
                <a:latin typeface="Webdings"/>
                <a:ea typeface="Webdings"/>
              </a:rPr>
              <a:t>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264, second indicateur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4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$c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st la seule sous-zone utilisée; pas de point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523880" y="5337000"/>
            <a:ext cx="60962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712880"/>
                <a:tab algn="l" pos="2801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xemples </a:t>
            </a:r>
            <a:r>
              <a:rPr b="1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4 $c ©2002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712880"/>
                <a:tab algn="l" pos="2801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 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4 $c </a:t>
            </a:r>
            <a:r>
              <a:rPr b="1" lang="en-US" sz="2000" spc="-1" strike="noStrike">
                <a:solidFill>
                  <a:srgbClr val="008080"/>
                </a:solidFill>
                <a:latin typeface="Webdings"/>
                <a:ea typeface="Webdings"/>
              </a:rPr>
              <a:t>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1983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CC43C-6B36-4E7A-A20C-531A5477DC6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ion de coll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Sous-éléments fondamentau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propre de l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érotation au sein de l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propre de la sous-coll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érotation au sein de la sous-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4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DD243-03FE-4902-BBC8-B49BC9D19D5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érotation à l’intérieur de la collection et à l’intérieur de la sous-coll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2.12.9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t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 2.12.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490 $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ranscrire les termes et les chiffres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tels que su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Utiliser l’annexe B (abréviations) seulement pour le point d’accès en 8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lignes directrices sont généralement les mêmes que celles pour la numérotation des publications en série (RDA 2.6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381480" y="5227560"/>
            <a:ext cx="4713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490 $a … $v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volum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32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381480" y="5927760"/>
            <a:ext cx="4757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490 $a … $v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Band LXXXVIII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A1A61-A87F-4881-A999-F5193CC481A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ant de la manifes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2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mp d’application = « une chaîne de caractères associée à une manifestation et qui sert à distinguer cette manifestation d’autres manifestations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il y a plus d’un identifiant pour la manifestation,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privilégier un identifiant reconnu à l’échelle internation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cela s’app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4867B-B141-4572-AC20-26EC3B48529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ant de la manifes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80"/>
                </a:solidFill>
                <a:latin typeface="Arial"/>
              </a:rPr>
              <a:t>Catégori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’identifiant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ISBN, ISSN et autres identifiants enregistrés selon des schémas reconnus à l’échelle internationa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identifiants attribués par des éditeurs, des diffuseurs ou des distributeurs, des centres d’information, etc., selon des schémas conçus à l’inter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les numéros d’éditeur pour la musique et les cotag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8080"/>
                </a:solidFill>
                <a:latin typeface="Arial"/>
              </a:rPr>
              <a:t>pas les URL, ce sont des localisations</a:t>
            </a: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 (voir RDA </a:t>
            </a:r>
            <a:r>
              <a:rPr b="0" lang="fr-CA" sz="2600" spc="-1" strike="noStrike">
                <a:solidFill>
                  <a:srgbClr val="008080"/>
                </a:solidFill>
                <a:latin typeface="Arial"/>
              </a:rPr>
              <a:t>4.6</a:t>
            </a: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835DF-E16A-47F0-A3EF-2239086F8F9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e relative à la manifest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 à l’it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éments fondamentaux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relative au tit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relative à la livraison, à la partie servant de base pour l’identification de la res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2.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B2D49-1171-4D69-8A57-C607F4B373E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rivilégié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source du titre prop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lus 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urces pour l’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source dans son intégralité, avec un ordre de prio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ite, toute autr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roche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 l’information est puisée d’une source extérie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20E7B-21BD-4950-B2C3-7D7A29AAE7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 ‘Prenez ce que vous voyez et acceptez ce que vous trouvez’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e de représentativité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incipes internationaux de catalog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général, ne pas modifier ce qui est sur la res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ésentation exac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vorise la réutilisation des données trouv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2B5C1-B86B-4B1E-ADF8-F4DFEE5F26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juscu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654120" y="1547640"/>
            <a:ext cx="8229600" cy="2281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8093"/>
                </a:solidFill>
                <a:latin typeface="Arial"/>
              </a:rPr>
              <a:t>Accept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es majuscules trouvées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45 10 $a Cairo : $b THE CITY VICTORIOUS /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$c Max Rodenbe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50 ## $a FIRST VINTAGE DEPARTURES EDI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654120" y="3828960"/>
            <a:ext cx="8229600" cy="1827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8093"/>
                </a:solidFill>
                <a:latin typeface="Arial"/>
              </a:rPr>
              <a:t>Chang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es majuscules trouvées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45 10 $a Cairo : $b the city victorious /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$c Max Rodenbe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50 ## $a First Vintage Departures edi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1752480" y="5656320"/>
            <a:ext cx="632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Ces deux transcriptions sont aussi acceptables l’une que l’autre!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EB266-9867-4BC6-89D1-DE88FFD231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 Éléments transcrits vs Éléments enregistr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ction entre les éléments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transcr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les éléments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enregistr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les éléments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transcrit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énéralement accepter les données telles qu’elles sont trouvées sur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les éléments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enregistré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’information trouvée est souvent adaptée (par exemple, les tirets dans un ISBN sont omi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A3977-7EC3-41C9-B214-0915CBCCD7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ngue et écri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Transcri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dans la langue et l’écriture utilisées dans la res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e des éléments transcr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Éléments non transcr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</a:t>
            </a:r>
            <a:r>
              <a:rPr b="0" i="1" lang="en-US" sz="2000" spc="-1" strike="noStrike">
                <a:solidFill>
                  <a:srgbClr val="008093"/>
                </a:solidFill>
                <a:latin typeface="Arial"/>
              </a:rPr>
              <a:t>l’enregistr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’autres éléments (par exemple, importance matérielle, notes), les enregistrer en franç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</a:t>
            </a:r>
            <a:r>
              <a:rPr b="0" i="1" lang="en-US" sz="2000" spc="-1" strike="noStrike">
                <a:solidFill>
                  <a:srgbClr val="008093"/>
                </a:solidFill>
                <a:latin typeface="Arial"/>
              </a:rPr>
              <a:t>l’ajout de donné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à l’intérieur d’un élément, les enregistrer dans la langue et l’écriture de l’élément auquel elles sont ajou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</a:t>
            </a:r>
            <a:r>
              <a:rPr b="0" i="1" lang="en-US" sz="2000" spc="-1" strike="noStrike">
                <a:solidFill>
                  <a:srgbClr val="008093"/>
                </a:solidFill>
                <a:latin typeface="Arial"/>
              </a:rPr>
              <a:t>l’aj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’un élément, généralement l’ajouter en franç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ce qui a trait aux écriture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n lati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la politique de LC dit de translittérer l’information ou de donner les deux formes (en utilisant des zones MARC 8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AF061-4516-46FA-BA84-DC6BF64257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’est-ce que je catalogu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WordArt 3"/>
          <p:cNvSpPr txBox="1"/>
          <p:nvPr/>
        </p:nvSpPr>
        <p:spPr>
          <a:xfrm rot="218400">
            <a:off x="1910880" y="2352600"/>
            <a:ext cx="5992920" cy="30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93"/>
                </a:solidFill>
                <a:latin typeface="Impact"/>
              </a:rPr>
              <a:t>Manifestation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93"/>
              </a:soli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34E7E-029F-410D-A5E3-6694BDCF59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04-19T22:25:31Z</dcterms:modified>
  <cp:revision>284</cp:revision>
  <dc:subject/>
  <dc:title>Diapositive 1</dc:title>
</cp:coreProperties>
</file>