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4A6ABA1-2FB7-447F-B318-B167D42518C6}"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F7C81CE-667C-4F6B-B5CB-FD3A350E45A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67B6E1-8C09-4353-99F8-9571AD0F2F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41F518-297B-47F5-B435-73D5F89BCF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4D4F01-1B08-4ECF-B8CB-7729851449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8C103C-1268-4B0B-AC61-E36CA54A8F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F9A1FC-CA1D-4DEC-8464-724DB7B26E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0FD29E-69E4-4336-8550-5698A1577E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FB1EDC-2722-4E66-9D19-13480169D0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7903A5-14D1-4028-ACB6-76683B3300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963867-147D-4ECC-9A39-CDD1F6157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DA2D64-0055-4344-8DD9-0BA4A01884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F1E0D-8992-4885-8565-552A989815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520C56-28B6-4172-88AF-1A8CA702AB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2965F1-D655-44F1-9C84-34B6AF780D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62477D-6BFD-4D90-A3CE-8712DBB926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219AA4-5381-4D61-AFB4-20F00061A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78"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79"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0"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1"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2"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3"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4"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5"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6"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7"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88"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89"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0"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0E63D57F-01F4-47B2-9704-F02B6D1914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4"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5"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6"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7"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98"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99"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0"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1"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3" name=""/>
          <p:cNvGrpSpPr/>
          <p:nvPr/>
        </p:nvGrpSpPr>
        <p:grpSpPr>
          <a:xfrm>
            <a:off x="5984640" y="4267080"/>
            <a:ext cx="2012760" cy="1694520"/>
            <a:chOff x="5984640" y="4267080"/>
            <a:chExt cx="2012760" cy="1694520"/>
          </a:xfrm>
        </p:grpSpPr>
        <p:sp>
          <p:nvSpPr>
            <p:cNvPr id="104"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5"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6"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7"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08"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09"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0"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3"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4"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52BDED02-8825-4AD5-9DCC-851F3B7DB6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470DCD6D-71CC-4E81-9D46-39827CDDB0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18"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238E4B7A-9CAB-4181-A193-4CB4B7D1D3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E5E1C5AF-06BD-43DE-848D-F24C340FE8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AF003166-72BF-4FC3-BBDD-E5FB3455C9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30F4009C-FFE5-4B71-862B-2DDAD0278F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7B1D18FC-1060-49B5-B5B3-23FDD26B6F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F0CF0F-0E89-473D-B27B-81AEB7F71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3FF5AAB0-E9ED-4BEC-A17E-D542F8B370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BB4751-54A5-4E98-A759-78E5972C96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2"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2C6BD29F-643D-44AD-AFB2-A3731ECB05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5F670C1C-06B1-4F51-877B-110BFF65F0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6EF5CE-98AD-40E9-89C0-CCF6272713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3187A4-ECA6-42B4-A875-75620F521E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5BC87A-26EE-4465-86EE-A69608F84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0CDF4D-AF8F-4DC2-90B3-7757CBCCBB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FF03F4-3055-41A8-9F78-C1BD827136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03623B-A039-45E0-8EC1-286794FE44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B5D655-3336-4D67-887C-90E1C51164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49"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9A3BF1F6-FB1C-4246-86B7-C52C6179C0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84D3E5-4F97-4B85-BA45-940DC02073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7261EC-DF05-4B8E-B926-64018FB740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B7A617-6B08-4E26-A98E-6F0EC9EA6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86216F-19C7-4437-9F8C-7A9704D523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BC1C6F4E-75F7-4B2A-9A35-2E5A52568F52}"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cp:lastModifiedBy>
  <cp:lastPrinted>2010-10-18T15:40:26Z</cp:lastPrinted>
  <dcterms:modified xsi:type="dcterms:W3CDTF">2013-10-22T20:58:20Z</dcterms:modified>
  <cp:revision>261</cp:revision>
  <dc:subject/>
  <dc:title>Diapositive 1</dc:title>
</cp:coreProperties>
</file>