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2A3D646-B0F3-48DA-9911-FBB038260CF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9361679-F716-4E90-8E5C-2FFA8B30DA5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FEFDC0-97AC-4455-904F-12628C856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9C34E-A710-4D3A-9434-55B361F57F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572BE-1D3B-4C26-880B-9B553759DE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37224F-49D7-4697-B4AC-93F2C3AA5D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EB823F-BC30-49BB-9431-5CFC65CD9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29DB7-6639-4D12-A5F1-3AA03A855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4E012-21EA-4A3D-A000-C4AFA0EB4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E1879-DB94-432D-A582-A620A4739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A2A902-8D32-48A1-B212-F9C4E5238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B6085-F76E-4251-BF37-1C936129F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D48A9-F1B3-4AE4-98B7-347B5B733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7EDB9-4CFF-44C0-B74B-B53FF49B0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2A3292-A995-47A4-B06B-29907C4A7B5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Image 7" descr="Image CA-CC.jpg"/>
          <p:cNvPicPr/>
          <p:nvPr/>
        </p:nvPicPr>
        <p:blipFill>
          <a:blip r:embed="rId1"/>
          <a:srcRect l="0" t="4545" r="0" b="0"/>
          <a:stretch/>
        </p:blipFill>
        <p:spPr>
          <a:xfrm>
            <a:off x="0" y="0"/>
            <a:ext cx="9144000" cy="4800600"/>
          </a:xfrm>
          <a:prstGeom prst="rect">
            <a:avLst/>
          </a:prstGeom>
          <a:ln w="0">
            <a:noFill/>
          </a:ln>
        </p:spPr>
      </p:pic>
      <p:pic>
        <p:nvPicPr>
          <p:cNvPr id="49" name="Image 9" descr="bandeauux ppt5.jpg"/>
          <p:cNvPicPr/>
          <p:nvPr/>
        </p:nvPicPr>
        <p:blipFill>
          <a:blip r:embed="rId2"/>
          <a:stretch/>
        </p:blipFill>
        <p:spPr>
          <a:xfrm>
            <a:off x="0" y="228600"/>
            <a:ext cx="9144000" cy="1146240"/>
          </a:xfrm>
          <a:prstGeom prst="rect">
            <a:avLst/>
          </a:prstGeom>
          <a:ln w="0">
            <a:noFill/>
          </a:ln>
        </p:spPr>
      </p:pic>
      <p:sp>
        <p:nvSpPr>
          <p:cNvPr id="50"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1"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52"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53"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misé pour être utilisé comme produit en ligne</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et accès de toutes ressourc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utilisables dans un environnement numérique (Internet, catalogues Web,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ices adaptables aux structures de bases de données émergen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C1E3B1-BB82-4C65-BAA0-0A9C598C6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Spécifications fonctionnelles des notices bibliographiques (</a:t>
            </a:r>
            <a:r>
              <a:rPr b="0" i="1" lang="fr-CA" sz="2400" spc="-1" strike="noStrike">
                <a:solidFill>
                  <a:srgbClr val="008093"/>
                </a:solidFill>
                <a:latin typeface="Arial"/>
              </a:rPr>
              <a:t>FRBR</a:t>
            </a:r>
            <a:r>
              <a:rPr b="0" i="1" lang="fr-CA" sz="2400" spc="-1" strike="noStrike">
                <a:solidFill>
                  <a:srgbClr val="000000"/>
                </a:solidFill>
                <a:latin typeface="Arial"/>
              </a:rPr>
              <a:t>; 1998, trad. fr.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Fonctionnalités requises des données d’autorité (</a:t>
            </a:r>
            <a:r>
              <a:rPr b="0" i="1" lang="fr-CA" sz="2400" spc="-1" strike="noStrike">
                <a:solidFill>
                  <a:srgbClr val="008093"/>
                </a:solidFill>
                <a:latin typeface="Arial"/>
              </a:rPr>
              <a:t>FRAD</a:t>
            </a:r>
            <a:r>
              <a:rPr b="0" i="1" lang="fr-CA" sz="2400" spc="-1" strike="noStrike">
                <a:solidFill>
                  <a:srgbClr val="000000"/>
                </a:solidFill>
                <a:latin typeface="Arial"/>
              </a:rPr>
              <a:t>; 2009, trad. f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Principes internationaux de catalogage (</a:t>
            </a:r>
            <a:r>
              <a:rPr b="0" i="1" lang="fr-CA" sz="2400" spc="-1" strike="noStrike">
                <a:solidFill>
                  <a:srgbClr val="008093"/>
                </a:solidFill>
                <a:latin typeface="Arial"/>
              </a:rPr>
              <a:t>ICP</a:t>
            </a:r>
            <a:r>
              <a:rPr b="0" i="1" lang="fr-CA" sz="2400" spc="-1" strike="noStrike">
                <a:solidFill>
                  <a:srgbClr val="000000"/>
                </a:solidFill>
                <a:latin typeface="Arial"/>
              </a:rPr>
              <a:t>; 2009)</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86A1F6-291F-4194-8A5C-34F6C21C74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78"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79"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80"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81"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82"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83"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84"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85"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86"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87"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88"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89"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0"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1"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92"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628DBDDE-E11D-4FDB-ABDF-34C7D7F83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94"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95"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96"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97"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98"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99"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0"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1"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102"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103" name=""/>
          <p:cNvGrpSpPr/>
          <p:nvPr/>
        </p:nvGrpSpPr>
        <p:grpSpPr>
          <a:xfrm>
            <a:off x="5984640" y="4267080"/>
            <a:ext cx="2012760" cy="1694520"/>
            <a:chOff x="5984640" y="4267080"/>
            <a:chExt cx="2012760" cy="1694520"/>
          </a:xfrm>
        </p:grpSpPr>
        <p:sp>
          <p:nvSpPr>
            <p:cNvPr id="104" name=""/>
            <p:cNvSpPr/>
            <p:nvPr/>
          </p:nvSpPr>
          <p:spPr>
            <a:xfrm>
              <a:off x="6620400" y="4267080"/>
              <a:ext cx="13770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105"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106"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107"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108"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09"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0"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1"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112"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3"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4"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115"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448BEB89-1332-4271-B3F1-64B7AE1361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27D806B-33D9-4851-88A7-F2B4E6BA7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18"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88F4C21-F65E-4209-98F4-7EA9754F2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0"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67FB955C-7D90-48CC-A5EE-A6DE4B1ACA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2"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DA9C708-ACC1-4D3B-87C2-6C7D73BE3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4"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93266AA6-3593-4808-92D7-C861CE818E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6"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EE3F47B2-80D7-4070-B7B0-C10609923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de la journée</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à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Toolki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manifestations et des item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es supports matériel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scription du conten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îne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ints d'accès autorisés pour</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ersonnes, collectivités, lieux</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Œuvres et expression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clus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A89149-28A2-42BD-A7C1-7FC8BBAE8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12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F791BD84-7E6B-40BB-890C-2B77056E9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D9EC57-BD4E-4E2F-9550-DDB49CCF5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2"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E159D106-72F5-45A0-AD76-E7E255A2C6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134"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C72384F2-E7BA-4758-A03F-1988041939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3CEB75-8865-4255-B9D0-D01AF1F3A2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5AEE4F-9A97-49D5-B65E-50B7695CE5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DD85B3-E69E-40BE-84E0-D4449B87D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és sur les attributs obligatoires pour une notice de niveau national (FRBR/FRAD)</a:t>
            </a:r>
            <a:endParaRPr b="0" lang="en-US" sz="2000" spc="-1" strike="noStrike">
              <a:solidFill>
                <a:srgbClr val="000000"/>
              </a:solidFill>
              <a:latin typeface="Arial"/>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finis au niveau de l’élémen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 </a:t>
            </a:r>
            <a:r>
              <a:rPr b="0" lang="en-US" sz="1800" spc="-1" strike="noStrike">
                <a:solidFill>
                  <a:srgbClr val="008093"/>
                </a:solidFill>
                <a:latin typeface="Arial"/>
              </a:rPr>
              <a:t>Éléments fondamentaux</a:t>
            </a:r>
            <a:r>
              <a:rPr b="0" lang="en-US" sz="1800" spc="-1" strike="noStrike">
                <a:solidFill>
                  <a:srgbClr val="000000"/>
                </a:solidFill>
                <a:latin typeface="Arial"/>
              </a:rPr>
              <a:t> »)</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Éléments fondamentaux si » – situation décrite</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léments fondamentaux listés :</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 un groupe dans RDA 0.6</a:t>
            </a:r>
            <a:endParaRPr b="0" lang="en-US" sz="1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parément dans les chapitres appropriés</a:t>
            </a:r>
            <a:endParaRPr b="0" lang="en-US" sz="18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a identifié des éléments additionnels comme « éléments fondamentaux LC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A6E641-74A4-4166-A5ED-802441B0A3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airement indiquées dans le Toolkit par des lignes verticales et du texte en ver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s à une instruction</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nnées additionnell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mission de données</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ropres à l’agen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61A664-628F-49EC-8E8E-AF0CD00FC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146"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B9256C-05DA-4F44-878D-F6DCA909D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4C6F3F-A5F2-4255-859A-A4FD0968A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148"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149"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FA76C094-5B6C-4324-9DA8-8CAC9A785D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BA1DB2-1783-4BF6-8075-C400C192C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2BC26A-38AF-4979-A7FA-A174DDA56B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AAB88A-1EB3-436C-B5C8-37DBCAF45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plus en plus complex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nque de structure logiqu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élange de données de contenu et de support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lations hiérarchiques absent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ntré anglo-américai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ède FRB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 supporte pas assez la ‘collocation’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a pas prévu l’Internet et les métadonnées ou les vocabulaires bien structur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47BE2A-27FD-4133-BB32-5FA947616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68" name="Picture 7" descr="RDAlogo_rgb"/>
          <p:cNvPicPr/>
          <p:nvPr/>
        </p:nvPicPr>
        <p:blipFill>
          <a:blip r:embed="rId1"/>
          <a:stretch/>
        </p:blipFill>
        <p:spPr>
          <a:xfrm>
            <a:off x="4419720" y="1981080"/>
            <a:ext cx="4459320" cy="1236960"/>
          </a:xfrm>
          <a:prstGeom prst="rect">
            <a:avLst/>
          </a:prstGeom>
          <a:ln w="0">
            <a:noFill/>
          </a:ln>
        </p:spPr>
      </p:pic>
      <p:pic>
        <p:nvPicPr>
          <p:cNvPr id="69" name="Picture 7" descr="aacr"/>
          <p:cNvPicPr/>
          <p:nvPr/>
        </p:nvPicPr>
        <p:blipFill>
          <a:blip r:embed="rId2"/>
          <a:stretch/>
        </p:blipFill>
        <p:spPr>
          <a:xfrm>
            <a:off x="990720" y="1676520"/>
            <a:ext cx="2128680" cy="2590560"/>
          </a:xfrm>
          <a:prstGeom prst="rect">
            <a:avLst/>
          </a:prstGeom>
          <a:ln w="0">
            <a:noFill/>
          </a:ln>
        </p:spPr>
      </p:pic>
      <p:sp>
        <p:nvSpPr>
          <p:cNvPr id="70"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71" name="Straight Arrow Connector 8"/>
          <p:cNvCxnSpPr>
            <a:endCxn id="70"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72"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5A493D27-E4A0-4A24-9C0D-2CF48C682986}"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69"/>
                                        </p:tgtEl>
                                      </p:cBhvr>
                                    </p:animEffect>
                                    <p:set>
                                      <p:cBhvr>
                                        <p:cTn id="11" dur="1" fill="hold">
                                          <p:stCondLst>
                                            <p:cond delay="999"/>
                                          </p:stCondLst>
                                        </p:cTn>
                                        <p:tgtEl>
                                          <p:spTgt spid="69"/>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71"/>
                                        </p:tgtEl>
                                      </p:cBhvr>
                                    </p:animEffect>
                                    <p:set>
                                      <p:cBhvr>
                                        <p:cTn id="14" dur="1" fill="hold">
                                          <p:stCondLst>
                                            <p:cond delay="999"/>
                                          </p:stCondLst>
                                        </p:cTn>
                                        <p:tgtEl>
                                          <p:spTgt spid="71"/>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2"/>
                                        </p:tgtEl>
                                        <p:attrNameLst>
                                          <p:attrName>style.visibility</p:attrName>
                                        </p:attrNameLst>
                                      </p:cBhvr>
                                      <p:to>
                                        <p:strVal val="visible"/>
                                      </p:to>
                                    </p:set>
                                    <p:animEffect filter="dissolve" transition="in">
                                      <p:cBhvr additive="repl">
                                        <p:cTn id="19" dur="1000"/>
                                        <p:tgtEl>
                                          <p:spTgt spid="72"/>
                                        </p:tgtEl>
                                      </p:cBhvr>
                                    </p:animEffect>
                                  </p:childTnLst>
                                </p:cTn>
                              </p:par>
                              <p:par>
                                <p:cTn id="20" nodeType="with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1000"/>
                                        <p:tgtEl>
                                          <p:spTgt spid="68"/>
                                        </p:tgtEl>
                                      </p:cBhvr>
                                    </p:animEffect>
                                  </p:childTnLst>
                                </p:cTn>
                              </p:par>
                              <p:par>
                                <p:cTn id="23" nodeType="withEffect" fill="hold" presetClass="exit" presetID="9">
                                  <p:stCondLst>
                                    <p:cond delay="0"/>
                                  </p:stCondLst>
                                  <p:childTnLst>
                                    <p:animEffect filter="dissolve" transition="out">
                                      <p:cBhvr additive="repl">
                                        <p:cTn id="24" dur="1000"/>
                                        <p:tgtEl>
                                          <p:spTgt spid="70"/>
                                        </p:tgtEl>
                                      </p:cBhvr>
                                    </p:animEffect>
                                    <p:set>
                                      <p:cBhvr>
                                        <p:cTn id="25" dur="1" fill="hold">
                                          <p:stCondLst>
                                            <p:cond delay="999"/>
                                          </p:stCondLst>
                                        </p:cTn>
                                        <p:tgtEl>
                                          <p:spTgt spid="70"/>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72"/>
                                        </p:tgtEl>
                                      </p:cBhvr>
                                    </p:animEffect>
                                    <p:set>
                                      <p:cBhvr>
                                        <p:cTn id="2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cp:lastModifiedBy>
  <cp:lastPrinted>2010-10-18T15:40:26Z</cp:lastPrinted>
  <dcterms:modified xsi:type="dcterms:W3CDTF">2013-10-22T20:58:20Z</dcterms:modified>
  <cp:revision>261</cp:revision>
  <dc:subject/>
  <dc:title>Diapositive 1</dc:title>
</cp:coreProperties>
</file>